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955-C208-4F94-8662-284C49A8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186D-2FF4-4E04-B9B6-AAAEFE43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A0B7-0E6E-4DD8-8818-184A2E88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5CF-6086-4EBC-A5D2-ADA25759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1A8-59CA-4FFB-B217-46B54639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D02-B016-41D9-9976-4FBC4C0C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672F-21BC-401F-BDFE-7E49CDFB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5D6-4239-4B41-A3F1-0C7C0BE6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10E-E11D-494C-8FAC-C54B48AA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ADE-68EB-4AED-9BFB-A2D72A5C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56F-5E0A-4503-BBAF-EB48F763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456-30C6-406B-9F27-292FF654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9D8D-EC39-4079-BB83-9F2DB4A49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Objective:  Students will multiplying decimal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m-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295280" y="1828800"/>
                <a:ext cx="12193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533520" y="3168720"/>
            <a:ext cx="13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219320" y="3276720"/>
                <a:ext cx="1371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609480" y="464652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219320" y="4800600"/>
                <a:ext cx="12571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¸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day, April 23, 20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43430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multiplying dec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37080" y="238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7432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9144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ction Extension Unit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sure to share your test with your families.  Go over your work and be sure you know where you made your mistake.  (Extra Credit corrections must be in my In-Box by Thursday for credi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 Students will multiplying decimal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steps involved in multiplying decimals?    8 x 2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27240" y="1751040"/>
            <a:ext cx="2098800" cy="884160"/>
          </a:xfrm>
          <a:custGeom>
            <a:avLst/>
            <a:gdLst/>
            <a:ahLst/>
            <a:rect l="l" t="t" r="r" b="b"/>
            <a:pathLst>
              <a:path w="5830" h="2456">
                <a:moveTo>
                  <a:pt x="8434" y="5135"/>
                </a:moveTo>
                <a:cubicBezTo>
                  <a:pt x="8492" y="5137"/>
                  <a:pt x="8500" y="5130"/>
                  <a:pt x="8558" y="5135"/>
                </a:cubicBezTo>
                <a:cubicBezTo>
                  <a:pt x="8673" y="5145"/>
                  <a:pt x="8828" y="5178"/>
                  <a:pt x="8930" y="5184"/>
                </a:cubicBezTo>
                <a:cubicBezTo>
                  <a:pt x="9272" y="5204"/>
                  <a:pt x="9663" y="5217"/>
                  <a:pt x="9996" y="5159"/>
                </a:cubicBezTo>
                <a:cubicBezTo>
                  <a:pt x="10139" y="5134"/>
                  <a:pt x="10275" y="5151"/>
                  <a:pt x="10418" y="5135"/>
                </a:cubicBezTo>
                <a:cubicBezTo>
                  <a:pt x="10630" y="5111"/>
                  <a:pt x="10849" y="5091"/>
                  <a:pt x="11063" y="5085"/>
                </a:cubicBezTo>
                <a:cubicBezTo>
                  <a:pt x="11217" y="5081"/>
                  <a:pt x="11380" y="5075"/>
                  <a:pt x="11534" y="5060"/>
                </a:cubicBezTo>
                <a:cubicBezTo>
                  <a:pt x="11723" y="5041"/>
                  <a:pt x="11917" y="5035"/>
                  <a:pt x="12105" y="5011"/>
                </a:cubicBezTo>
                <a:cubicBezTo>
                  <a:pt x="12287" y="4988"/>
                  <a:pt x="12469" y="5006"/>
                  <a:pt x="12650" y="4986"/>
                </a:cubicBezTo>
                <a:cubicBezTo>
                  <a:pt x="12856" y="4963"/>
                  <a:pt x="13066" y="4963"/>
                  <a:pt x="13271" y="4936"/>
                </a:cubicBezTo>
                <a:cubicBezTo>
                  <a:pt x="13409" y="4918"/>
                  <a:pt x="13556" y="4896"/>
                  <a:pt x="13692" y="4887"/>
                </a:cubicBezTo>
                <a:cubicBezTo>
                  <a:pt x="13818" y="4879"/>
                  <a:pt x="13940" y="4865"/>
                  <a:pt x="14064" y="4862"/>
                </a:cubicBezTo>
                <a:cubicBezTo>
                  <a:pt x="14128" y="4860"/>
                  <a:pt x="14211" y="4881"/>
                  <a:pt x="14238" y="4887"/>
                </a:cubicBezTo>
              </a:path>
              <a:path w="5830" h="2456">
                <a:moveTo>
                  <a:pt x="13767" y="6375"/>
                </a:moveTo>
                <a:cubicBezTo>
                  <a:pt x="13775" y="6358"/>
                  <a:pt x="13783" y="6342"/>
                  <a:pt x="13791" y="6325"/>
                </a:cubicBezTo>
                <a:cubicBezTo>
                  <a:pt x="13817" y="6507"/>
                  <a:pt x="13868" y="6724"/>
                  <a:pt x="13866" y="6921"/>
                </a:cubicBezTo>
                <a:cubicBezTo>
                  <a:pt x="13864" y="7057"/>
                  <a:pt x="13816" y="7182"/>
                  <a:pt x="13816" y="731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6960" y="2303640"/>
            <a:ext cx="2270160" cy="250560"/>
          </a:xfrm>
          <a:custGeom>
            <a:avLst/>
            <a:gdLst/>
            <a:ahLst/>
            <a:rect l="l" t="t" r="r" b="b"/>
            <a:pathLst>
              <a:path w="6302" h="695">
                <a:moveTo>
                  <a:pt x="14188" y="7020"/>
                </a:moveTo>
                <a:cubicBezTo>
                  <a:pt x="14197" y="7066"/>
                  <a:pt x="14201" y="7076"/>
                  <a:pt x="14238" y="7094"/>
                </a:cubicBezTo>
              </a:path>
              <a:path w="6302" h="695">
                <a:moveTo>
                  <a:pt x="15503" y="6400"/>
                </a:moveTo>
                <a:cubicBezTo>
                  <a:pt x="15528" y="6596"/>
                  <a:pt x="15615" y="6761"/>
                  <a:pt x="15677" y="6945"/>
                </a:cubicBezTo>
                <a:cubicBezTo>
                  <a:pt x="15685" y="6978"/>
                  <a:pt x="15693" y="7012"/>
                  <a:pt x="15701" y="7045"/>
                </a:cubicBezTo>
              </a:path>
              <a:path w="6302" h="695">
                <a:moveTo>
                  <a:pt x="20489" y="6449"/>
                </a:moveTo>
                <a:lnTo>
                  <a:pt x="20489" y="6449"/>
                </a:lnTo>
                <a:lnTo>
                  <a:pt x="20489" y="6449"/>
                </a:lnTo>
              </a:path>
              <a:path w="6302" h="695">
                <a:moveTo>
                  <a:pt x="20489" y="6449"/>
                </a:moveTo>
                <a:lnTo>
                  <a:pt x="20489" y="6449"/>
                </a:ln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95960" y="2320920"/>
            <a:ext cx="1143000" cy="243000"/>
          </a:xfrm>
          <a:custGeom>
            <a:avLst/>
            <a:gdLst/>
            <a:ahLst/>
            <a:rect l="l" t="t" r="r" b="b"/>
            <a:pathLst>
              <a:path w="3176" h="671">
                <a:moveTo>
                  <a:pt x="15081" y="6474"/>
                </a:moveTo>
                <a:cubicBezTo>
                  <a:pt x="14988" y="6434"/>
                  <a:pt x="14819" y="6410"/>
                  <a:pt x="14734" y="6499"/>
                </a:cubicBezTo>
                <a:cubicBezTo>
                  <a:pt x="14726" y="6524"/>
                  <a:pt x="14717" y="6548"/>
                  <a:pt x="14709" y="6573"/>
                </a:cubicBezTo>
                <a:cubicBezTo>
                  <a:pt x="14846" y="6762"/>
                  <a:pt x="15087" y="6707"/>
                  <a:pt x="15304" y="6796"/>
                </a:cubicBezTo>
                <a:cubicBezTo>
                  <a:pt x="15321" y="6813"/>
                  <a:pt x="15337" y="6829"/>
                  <a:pt x="15354" y="6846"/>
                </a:cubicBezTo>
                <a:cubicBezTo>
                  <a:pt x="15194" y="7007"/>
                  <a:pt x="14988" y="7147"/>
                  <a:pt x="14734" y="7069"/>
                </a:cubicBezTo>
                <a:cubicBezTo>
                  <a:pt x="14734" y="7053"/>
                  <a:pt x="14734" y="7036"/>
                  <a:pt x="14734" y="7020"/>
                </a:cubicBezTo>
              </a:path>
              <a:path w="3176" h="671">
                <a:moveTo>
                  <a:pt x="15255" y="6722"/>
                </a:moveTo>
                <a:cubicBezTo>
                  <a:pt x="15537" y="6679"/>
                  <a:pt x="15790" y="6635"/>
                  <a:pt x="16073" y="6672"/>
                </a:cubicBezTo>
              </a:path>
              <a:path w="3176" h="671">
                <a:moveTo>
                  <a:pt x="16495" y="6821"/>
                </a:moveTo>
                <a:cubicBezTo>
                  <a:pt x="16442" y="6701"/>
                  <a:pt x="16298" y="6708"/>
                  <a:pt x="16197" y="6821"/>
                </a:cubicBezTo>
                <a:cubicBezTo>
                  <a:pt x="16002" y="7038"/>
                  <a:pt x="16257" y="7218"/>
                  <a:pt x="16446" y="7045"/>
                </a:cubicBezTo>
                <a:cubicBezTo>
                  <a:pt x="16471" y="7004"/>
                  <a:pt x="16495" y="6962"/>
                  <a:pt x="16520" y="6921"/>
                </a:cubicBezTo>
                <a:cubicBezTo>
                  <a:pt x="16534" y="6990"/>
                  <a:pt x="16598" y="7143"/>
                  <a:pt x="16694" y="7119"/>
                </a:cubicBezTo>
                <a:cubicBezTo>
                  <a:pt x="16727" y="7094"/>
                  <a:pt x="16760" y="7070"/>
                  <a:pt x="16793" y="7045"/>
                </a:cubicBezTo>
              </a:path>
              <a:path w="3176" h="671">
                <a:moveTo>
                  <a:pt x="16991" y="6697"/>
                </a:moveTo>
                <a:cubicBezTo>
                  <a:pt x="17021" y="6727"/>
                  <a:pt x="17026" y="6729"/>
                  <a:pt x="16991" y="6672"/>
                </a:cubicBezTo>
                <a:cubicBezTo>
                  <a:pt x="16808" y="6642"/>
                  <a:pt x="16727" y="6796"/>
                  <a:pt x="16793" y="6995"/>
                </a:cubicBezTo>
                <a:cubicBezTo>
                  <a:pt x="16892" y="7293"/>
                  <a:pt x="17207" y="7049"/>
                  <a:pt x="17338" y="6945"/>
                </a:cubicBezTo>
              </a:path>
              <a:path w="3176" h="671">
                <a:moveTo>
                  <a:pt x="17239" y="6449"/>
                </a:moveTo>
                <a:cubicBezTo>
                  <a:pt x="17306" y="6650"/>
                  <a:pt x="17372" y="6860"/>
                  <a:pt x="17413" y="7069"/>
                </a:cubicBezTo>
                <a:cubicBezTo>
                  <a:pt x="17413" y="7104"/>
                  <a:pt x="17418" y="7103"/>
                  <a:pt x="17438" y="7045"/>
                </a:cubicBezTo>
              </a:path>
              <a:path w="3176" h="671">
                <a:moveTo>
                  <a:pt x="17611" y="6474"/>
                </a:moveTo>
                <a:cubicBezTo>
                  <a:pt x="17545" y="6592"/>
                  <a:pt x="17475" y="6755"/>
                  <a:pt x="17363" y="6821"/>
                </a:cubicBezTo>
                <a:cubicBezTo>
                  <a:pt x="17540" y="6777"/>
                  <a:pt x="17662" y="6728"/>
                  <a:pt x="17785" y="6921"/>
                </a:cubicBezTo>
                <a:cubicBezTo>
                  <a:pt x="17808" y="7033"/>
                  <a:pt x="17805" y="7067"/>
                  <a:pt x="17884" y="709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6720" y="2241720"/>
            <a:ext cx="1554120" cy="438120"/>
          </a:xfrm>
          <a:custGeom>
            <a:avLst/>
            <a:gdLst/>
            <a:ahLst/>
            <a:rect l="l" t="t" r="r" b="b"/>
            <a:pathLst>
              <a:path w="4317" h="1216">
                <a:moveTo>
                  <a:pt x="18852" y="6772"/>
                </a:moveTo>
                <a:cubicBezTo>
                  <a:pt x="18893" y="6895"/>
                  <a:pt x="18978" y="7017"/>
                  <a:pt x="19025" y="7144"/>
                </a:cubicBezTo>
                <a:cubicBezTo>
                  <a:pt x="19025" y="7152"/>
                  <a:pt x="19025" y="7161"/>
                  <a:pt x="19025" y="7169"/>
                </a:cubicBezTo>
                <a:cubicBezTo>
                  <a:pt x="19025" y="7023"/>
                  <a:pt x="19003" y="6921"/>
                  <a:pt x="19100" y="6796"/>
                </a:cubicBezTo>
                <a:cubicBezTo>
                  <a:pt x="19170" y="6750"/>
                  <a:pt x="19190" y="6733"/>
                  <a:pt x="19248" y="6747"/>
                </a:cubicBezTo>
              </a:path>
              <a:path w="4317" h="1216">
                <a:moveTo>
                  <a:pt x="19323" y="6921"/>
                </a:moveTo>
                <a:cubicBezTo>
                  <a:pt x="19406" y="6886"/>
                  <a:pt x="19454" y="6856"/>
                  <a:pt x="19521" y="6796"/>
                </a:cubicBezTo>
                <a:cubicBezTo>
                  <a:pt x="19423" y="6766"/>
                  <a:pt x="19211" y="6704"/>
                  <a:pt x="19174" y="6871"/>
                </a:cubicBezTo>
                <a:cubicBezTo>
                  <a:pt x="19106" y="7181"/>
                  <a:pt x="19433" y="7062"/>
                  <a:pt x="19546" y="6995"/>
                </a:cubicBezTo>
              </a:path>
              <a:path w="4317" h="1216">
                <a:moveTo>
                  <a:pt x="19670" y="6747"/>
                </a:moveTo>
                <a:cubicBezTo>
                  <a:pt x="19697" y="6852"/>
                  <a:pt x="19712" y="6927"/>
                  <a:pt x="19769" y="7020"/>
                </a:cubicBezTo>
                <a:cubicBezTo>
                  <a:pt x="19769" y="6858"/>
                  <a:pt x="19722" y="6747"/>
                  <a:pt x="19893" y="6697"/>
                </a:cubicBezTo>
                <a:cubicBezTo>
                  <a:pt x="19934" y="6689"/>
                  <a:pt x="19976" y="6680"/>
                  <a:pt x="20017" y="6672"/>
                </a:cubicBezTo>
              </a:path>
              <a:path w="4317" h="1216">
                <a:moveTo>
                  <a:pt x="20191" y="6350"/>
                </a:moveTo>
                <a:cubicBezTo>
                  <a:pt x="20191" y="6552"/>
                  <a:pt x="20237" y="6727"/>
                  <a:pt x="20290" y="6921"/>
                </a:cubicBezTo>
                <a:cubicBezTo>
                  <a:pt x="20309" y="6995"/>
                  <a:pt x="20291" y="7028"/>
                  <a:pt x="20340" y="7020"/>
                </a:cubicBezTo>
              </a:path>
              <a:path w="4317" h="1216">
                <a:moveTo>
                  <a:pt x="19943" y="6697"/>
                </a:moveTo>
                <a:cubicBezTo>
                  <a:pt x="20118" y="6676"/>
                  <a:pt x="20287" y="6672"/>
                  <a:pt x="20464" y="6672"/>
                </a:cubicBezTo>
                <a:cubicBezTo>
                  <a:pt x="20472" y="6672"/>
                  <a:pt x="20481" y="6672"/>
                  <a:pt x="20489" y="6672"/>
                </a:cubicBezTo>
                <a:cubicBezTo>
                  <a:pt x="20497" y="6743"/>
                  <a:pt x="20515" y="6997"/>
                  <a:pt x="20563" y="7045"/>
                </a:cubicBezTo>
                <a:cubicBezTo>
                  <a:pt x="20563" y="7028"/>
                  <a:pt x="20563" y="7012"/>
                  <a:pt x="20563" y="6995"/>
                </a:cubicBezTo>
              </a:path>
              <a:path w="4317" h="1216">
                <a:moveTo>
                  <a:pt x="20910" y="6648"/>
                </a:moveTo>
                <a:cubicBezTo>
                  <a:pt x="20990" y="6621"/>
                  <a:pt x="20845" y="6608"/>
                  <a:pt x="20811" y="6648"/>
                </a:cubicBezTo>
                <a:cubicBezTo>
                  <a:pt x="20667" y="6818"/>
                  <a:pt x="20769" y="7067"/>
                  <a:pt x="21010" y="6995"/>
                </a:cubicBezTo>
                <a:cubicBezTo>
                  <a:pt x="21068" y="6962"/>
                  <a:pt x="21125" y="6929"/>
                  <a:pt x="21183" y="6896"/>
                </a:cubicBezTo>
              </a:path>
              <a:path w="4317" h="1216">
                <a:moveTo>
                  <a:pt x="21357" y="6672"/>
                </a:moveTo>
                <a:cubicBezTo>
                  <a:pt x="21218" y="6650"/>
                  <a:pt x="21109" y="6723"/>
                  <a:pt x="21109" y="6896"/>
                </a:cubicBezTo>
                <a:cubicBezTo>
                  <a:pt x="21108" y="7194"/>
                  <a:pt x="21400" y="6840"/>
                  <a:pt x="21431" y="6796"/>
                </a:cubicBezTo>
                <a:cubicBezTo>
                  <a:pt x="21507" y="6949"/>
                  <a:pt x="21603" y="6928"/>
                  <a:pt x="21754" y="6921"/>
                </a:cubicBezTo>
              </a:path>
              <a:path w="4317" h="1216">
                <a:moveTo>
                  <a:pt x="21704" y="6300"/>
                </a:moveTo>
                <a:cubicBezTo>
                  <a:pt x="21757" y="6490"/>
                  <a:pt x="21782" y="6748"/>
                  <a:pt x="21878" y="6921"/>
                </a:cubicBezTo>
                <a:cubicBezTo>
                  <a:pt x="21886" y="6921"/>
                  <a:pt x="21895" y="6921"/>
                  <a:pt x="21903" y="6921"/>
                </a:cubicBezTo>
              </a:path>
              <a:path w="4317" h="1216">
                <a:moveTo>
                  <a:pt x="22126" y="6226"/>
                </a:moveTo>
                <a:cubicBezTo>
                  <a:pt x="22152" y="6453"/>
                  <a:pt x="22208" y="6661"/>
                  <a:pt x="22299" y="6871"/>
                </a:cubicBezTo>
                <a:cubicBezTo>
                  <a:pt x="22335" y="6954"/>
                  <a:pt x="22318" y="6976"/>
                  <a:pt x="22374" y="6921"/>
                </a:cubicBezTo>
              </a:path>
              <a:path w="4317" h="1216">
                <a:moveTo>
                  <a:pt x="22572" y="6598"/>
                </a:moveTo>
                <a:cubicBezTo>
                  <a:pt x="22572" y="6710"/>
                  <a:pt x="22596" y="6807"/>
                  <a:pt x="22671" y="6896"/>
                </a:cubicBezTo>
                <a:cubicBezTo>
                  <a:pt x="22807" y="7058"/>
                  <a:pt x="22961" y="6865"/>
                  <a:pt x="22969" y="6722"/>
                </a:cubicBezTo>
                <a:cubicBezTo>
                  <a:pt x="22975" y="6620"/>
                  <a:pt x="22908" y="6652"/>
                  <a:pt x="22969" y="6672"/>
                </a:cubicBezTo>
                <a:cubicBezTo>
                  <a:pt x="23030" y="6849"/>
                  <a:pt x="23243" y="7172"/>
                  <a:pt x="23118" y="7342"/>
                </a:cubicBezTo>
                <a:cubicBezTo>
                  <a:pt x="23001" y="7501"/>
                  <a:pt x="22791" y="7418"/>
                  <a:pt x="22647" y="739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05240" y="2911320"/>
            <a:ext cx="1036800" cy="204840"/>
          </a:xfrm>
          <a:custGeom>
            <a:avLst/>
            <a:gdLst/>
            <a:ahLst/>
            <a:rect l="l" t="t" r="r" b="b"/>
            <a:pathLst>
              <a:path w="2878" h="572">
                <a:moveTo>
                  <a:pt x="14461" y="8632"/>
                </a:moveTo>
                <a:cubicBezTo>
                  <a:pt x="14461" y="8640"/>
                  <a:pt x="14461" y="8649"/>
                  <a:pt x="14461" y="8657"/>
                </a:cubicBezTo>
              </a:path>
              <a:path w="2878" h="572">
                <a:moveTo>
                  <a:pt x="17338" y="8086"/>
                </a:moveTo>
                <a:lnTo>
                  <a:pt x="17338" y="8086"/>
                </a:ln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95920" y="2911320"/>
            <a:ext cx="258840" cy="276480"/>
          </a:xfrm>
          <a:custGeom>
            <a:avLst/>
            <a:gdLst/>
            <a:ahLst/>
            <a:rect l="l" t="t" r="r" b="b"/>
            <a:pathLst>
              <a:path w="720" h="770">
                <a:moveTo>
                  <a:pt x="13717" y="8235"/>
                </a:moveTo>
                <a:cubicBezTo>
                  <a:pt x="13717" y="8189"/>
                  <a:pt x="13639" y="8281"/>
                  <a:pt x="13667" y="8235"/>
                </a:cubicBezTo>
                <a:cubicBezTo>
                  <a:pt x="13765" y="8070"/>
                  <a:pt x="13840" y="8102"/>
                  <a:pt x="13990" y="8136"/>
                </a:cubicBezTo>
                <a:cubicBezTo>
                  <a:pt x="14026" y="8450"/>
                  <a:pt x="13922" y="8650"/>
                  <a:pt x="13593" y="8781"/>
                </a:cubicBezTo>
                <a:cubicBezTo>
                  <a:pt x="13444" y="8802"/>
                  <a:pt x="13412" y="8811"/>
                  <a:pt x="13320" y="8806"/>
                </a:cubicBezTo>
                <a:cubicBezTo>
                  <a:pt x="13406" y="8581"/>
                  <a:pt x="13605" y="8554"/>
                  <a:pt x="13841" y="8632"/>
                </a:cubicBezTo>
                <a:cubicBezTo>
                  <a:pt x="13914" y="8656"/>
                  <a:pt x="14085" y="8793"/>
                  <a:pt x="13990" y="885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2800" y="2813040"/>
            <a:ext cx="1438200" cy="411120"/>
          </a:xfrm>
          <a:custGeom>
            <a:avLst/>
            <a:gdLst/>
            <a:ahLst/>
            <a:rect l="l" t="t" r="r" b="b"/>
            <a:pathLst>
              <a:path w="3995" h="1142">
                <a:moveTo>
                  <a:pt x="14982" y="8210"/>
                </a:moveTo>
                <a:cubicBezTo>
                  <a:pt x="15002" y="8328"/>
                  <a:pt x="15002" y="8363"/>
                  <a:pt x="15007" y="8508"/>
                </a:cubicBezTo>
                <a:cubicBezTo>
                  <a:pt x="15055" y="8712"/>
                  <a:pt x="15015" y="8599"/>
                  <a:pt x="15007" y="8458"/>
                </a:cubicBezTo>
                <a:cubicBezTo>
                  <a:pt x="15001" y="8359"/>
                  <a:pt x="15017" y="7940"/>
                  <a:pt x="15255" y="8086"/>
                </a:cubicBezTo>
                <a:cubicBezTo>
                  <a:pt x="15376" y="8231"/>
                  <a:pt x="15414" y="8277"/>
                  <a:pt x="15478" y="8384"/>
                </a:cubicBezTo>
                <a:cubicBezTo>
                  <a:pt x="15478" y="8648"/>
                  <a:pt x="15456" y="8235"/>
                  <a:pt x="15478" y="8186"/>
                </a:cubicBezTo>
                <a:cubicBezTo>
                  <a:pt x="15589" y="7939"/>
                  <a:pt x="15834" y="8236"/>
                  <a:pt x="15875" y="8359"/>
                </a:cubicBezTo>
                <a:cubicBezTo>
                  <a:pt x="15895" y="8499"/>
                  <a:pt x="15904" y="8523"/>
                  <a:pt x="15900" y="8607"/>
                </a:cubicBezTo>
              </a:path>
              <a:path w="3995" h="1142">
                <a:moveTo>
                  <a:pt x="15801" y="8334"/>
                </a:moveTo>
                <a:cubicBezTo>
                  <a:pt x="15801" y="8310"/>
                  <a:pt x="15801" y="8301"/>
                  <a:pt x="15801" y="8285"/>
                </a:cubicBezTo>
                <a:cubicBezTo>
                  <a:pt x="15835" y="8273"/>
                  <a:pt x="15828" y="8247"/>
                  <a:pt x="15875" y="8235"/>
                </a:cubicBezTo>
              </a:path>
              <a:path w="3995" h="1142">
                <a:moveTo>
                  <a:pt x="16098" y="8161"/>
                </a:moveTo>
                <a:cubicBezTo>
                  <a:pt x="16105" y="8307"/>
                  <a:pt x="16108" y="8454"/>
                  <a:pt x="16173" y="8582"/>
                </a:cubicBezTo>
                <a:cubicBezTo>
                  <a:pt x="16312" y="8524"/>
                  <a:pt x="16353" y="8425"/>
                  <a:pt x="16371" y="8260"/>
                </a:cubicBezTo>
                <a:cubicBezTo>
                  <a:pt x="16371" y="8235"/>
                  <a:pt x="16371" y="8227"/>
                  <a:pt x="16371" y="8260"/>
                </a:cubicBezTo>
                <a:cubicBezTo>
                  <a:pt x="16391" y="8372"/>
                  <a:pt x="16372" y="8639"/>
                  <a:pt x="16470" y="8582"/>
                </a:cubicBezTo>
                <a:cubicBezTo>
                  <a:pt x="16539" y="8480"/>
                  <a:pt x="16568" y="8425"/>
                  <a:pt x="16594" y="8334"/>
                </a:cubicBezTo>
              </a:path>
              <a:path w="3995" h="1142">
                <a:moveTo>
                  <a:pt x="16545" y="7938"/>
                </a:moveTo>
                <a:cubicBezTo>
                  <a:pt x="16608" y="8156"/>
                  <a:pt x="16678" y="8356"/>
                  <a:pt x="16694" y="8582"/>
                </a:cubicBezTo>
                <a:cubicBezTo>
                  <a:pt x="16694" y="8607"/>
                  <a:pt x="16694" y="8615"/>
                  <a:pt x="16718" y="8607"/>
                </a:cubicBezTo>
              </a:path>
              <a:path w="3995" h="1142">
                <a:moveTo>
                  <a:pt x="16942" y="7813"/>
                </a:moveTo>
                <a:cubicBezTo>
                  <a:pt x="16984" y="8005"/>
                  <a:pt x="17083" y="8188"/>
                  <a:pt x="17115" y="8384"/>
                </a:cubicBezTo>
                <a:cubicBezTo>
                  <a:pt x="17134" y="8500"/>
                  <a:pt x="17121" y="8483"/>
                  <a:pt x="17140" y="8558"/>
                </a:cubicBezTo>
              </a:path>
              <a:path w="3995" h="1142">
                <a:moveTo>
                  <a:pt x="16867" y="8285"/>
                </a:moveTo>
                <a:cubicBezTo>
                  <a:pt x="17034" y="8254"/>
                  <a:pt x="17225" y="8198"/>
                  <a:pt x="17388" y="8285"/>
                </a:cubicBezTo>
                <a:cubicBezTo>
                  <a:pt x="17405" y="8294"/>
                  <a:pt x="17413" y="8381"/>
                  <a:pt x="17413" y="8409"/>
                </a:cubicBezTo>
                <a:cubicBezTo>
                  <a:pt x="17413" y="8442"/>
                  <a:pt x="17413" y="8475"/>
                  <a:pt x="17413" y="8508"/>
                </a:cubicBezTo>
              </a:path>
              <a:path w="3995" h="1142">
                <a:moveTo>
                  <a:pt x="17636" y="8310"/>
                </a:moveTo>
                <a:cubicBezTo>
                  <a:pt x="17665" y="8482"/>
                  <a:pt x="17718" y="8652"/>
                  <a:pt x="17735" y="8830"/>
                </a:cubicBezTo>
                <a:cubicBezTo>
                  <a:pt x="17743" y="8913"/>
                  <a:pt x="17735" y="8814"/>
                  <a:pt x="17735" y="8731"/>
                </a:cubicBezTo>
              </a:path>
              <a:path w="3995" h="1142">
                <a:moveTo>
                  <a:pt x="17512" y="8235"/>
                </a:moveTo>
                <a:cubicBezTo>
                  <a:pt x="17784" y="8217"/>
                  <a:pt x="17931" y="8179"/>
                  <a:pt x="18058" y="8434"/>
                </a:cubicBezTo>
                <a:cubicBezTo>
                  <a:pt x="17903" y="8554"/>
                  <a:pt x="17777" y="8675"/>
                  <a:pt x="17711" y="8458"/>
                </a:cubicBezTo>
              </a:path>
              <a:path w="3995" h="1142">
                <a:moveTo>
                  <a:pt x="18132" y="7888"/>
                </a:moveTo>
                <a:cubicBezTo>
                  <a:pt x="18216" y="8084"/>
                  <a:pt x="18272" y="8273"/>
                  <a:pt x="18306" y="8483"/>
                </a:cubicBezTo>
                <a:cubicBezTo>
                  <a:pt x="18306" y="8511"/>
                  <a:pt x="18308" y="8517"/>
                  <a:pt x="18331" y="8483"/>
                </a:cubicBezTo>
              </a:path>
              <a:path w="3995" h="1142">
                <a:moveTo>
                  <a:pt x="18430" y="8161"/>
                </a:moveTo>
                <a:cubicBezTo>
                  <a:pt x="18481" y="8271"/>
                  <a:pt x="18533" y="8536"/>
                  <a:pt x="18703" y="8483"/>
                </a:cubicBezTo>
                <a:cubicBezTo>
                  <a:pt x="18830" y="8443"/>
                  <a:pt x="18862" y="8314"/>
                  <a:pt x="18901" y="8210"/>
                </a:cubicBezTo>
                <a:cubicBezTo>
                  <a:pt x="18893" y="8202"/>
                  <a:pt x="18884" y="8194"/>
                  <a:pt x="18876" y="8186"/>
                </a:cubicBezTo>
                <a:cubicBezTo>
                  <a:pt x="18899" y="8367"/>
                  <a:pt x="18991" y="8545"/>
                  <a:pt x="18976" y="8731"/>
                </a:cubicBezTo>
                <a:cubicBezTo>
                  <a:pt x="18954" y="9012"/>
                  <a:pt x="18674" y="8987"/>
                  <a:pt x="18479" y="8905"/>
                </a:cubicBezTo>
                <a:cubicBezTo>
                  <a:pt x="18463" y="8888"/>
                  <a:pt x="18446" y="8872"/>
                  <a:pt x="18430" y="885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00800" y="3259080"/>
            <a:ext cx="2928960" cy="625680"/>
          </a:xfrm>
          <a:custGeom>
            <a:avLst/>
            <a:gdLst/>
            <a:ahLst/>
            <a:rect l="l" t="t" r="r" b="b"/>
            <a:pathLst>
              <a:path w="8137" h="1737">
                <a:moveTo>
                  <a:pt x="16966" y="9748"/>
                </a:moveTo>
                <a:cubicBezTo>
                  <a:pt x="17192" y="9715"/>
                  <a:pt x="17369" y="9670"/>
                  <a:pt x="17587" y="9599"/>
                </a:cubicBezTo>
              </a:path>
              <a:path w="8137" h="1737">
                <a:moveTo>
                  <a:pt x="19000" y="9401"/>
                </a:moveTo>
                <a:lnTo>
                  <a:pt x="19000" y="9401"/>
                </a:lnTo>
                <a:lnTo>
                  <a:pt x="19000" y="9401"/>
                </a:lnTo>
              </a:path>
              <a:path w="8137" h="1737">
                <a:moveTo>
                  <a:pt x="19000" y="9401"/>
                </a:moveTo>
                <a:lnTo>
                  <a:pt x="19000" y="9401"/>
                </a:lnTo>
              </a:path>
              <a:path w="8137" h="1737">
                <a:moveTo>
                  <a:pt x="19745" y="9426"/>
                </a:moveTo>
                <a:cubicBezTo>
                  <a:pt x="19785" y="9572"/>
                  <a:pt x="19831" y="9709"/>
                  <a:pt x="19893" y="9847"/>
                </a:cubicBezTo>
              </a:path>
              <a:path w="8137" h="1737">
                <a:moveTo>
                  <a:pt x="19596" y="9351"/>
                </a:moveTo>
                <a:cubicBezTo>
                  <a:pt x="19612" y="9351"/>
                  <a:pt x="19629" y="9351"/>
                  <a:pt x="19645" y="9351"/>
                </a:cubicBezTo>
              </a:path>
              <a:path w="8137" h="1737">
                <a:moveTo>
                  <a:pt x="19645" y="9351"/>
                </a:moveTo>
                <a:lnTo>
                  <a:pt x="19645" y="9351"/>
                </a:lnTo>
              </a:path>
              <a:path w="8137" h="1737">
                <a:moveTo>
                  <a:pt x="22920" y="9054"/>
                </a:moveTo>
                <a:cubicBezTo>
                  <a:pt x="23027" y="9274"/>
                  <a:pt x="23144" y="9482"/>
                  <a:pt x="23192" y="9723"/>
                </a:cubicBezTo>
              </a:path>
              <a:path w="8137" h="1737">
                <a:moveTo>
                  <a:pt x="22622" y="9475"/>
                </a:moveTo>
                <a:cubicBezTo>
                  <a:pt x="22861" y="9503"/>
                  <a:pt x="23262" y="9565"/>
                  <a:pt x="23416" y="9302"/>
                </a:cubicBezTo>
                <a:cubicBezTo>
                  <a:pt x="23416" y="9252"/>
                  <a:pt x="23416" y="9203"/>
                  <a:pt x="23416" y="9153"/>
                </a:cubicBezTo>
              </a:path>
              <a:path w="8137" h="1737">
                <a:moveTo>
                  <a:pt x="15304" y="10790"/>
                </a:moveTo>
                <a:cubicBezTo>
                  <a:pt x="15296" y="10790"/>
                  <a:pt x="15288" y="10790"/>
                  <a:pt x="15280" y="1079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30840" y="3473280"/>
            <a:ext cx="304560" cy="258840"/>
          </a:xfrm>
          <a:custGeom>
            <a:avLst/>
            <a:gdLst/>
            <a:ahLst/>
            <a:rect l="l" t="t" r="r" b="b"/>
            <a:pathLst>
              <a:path w="845" h="720">
                <a:moveTo>
                  <a:pt x="13519" y="9773"/>
                </a:moveTo>
                <a:cubicBezTo>
                  <a:pt x="13555" y="9683"/>
                  <a:pt x="13646" y="9665"/>
                  <a:pt x="13742" y="9649"/>
                </a:cubicBezTo>
                <a:cubicBezTo>
                  <a:pt x="13786" y="9649"/>
                  <a:pt x="13800" y="9646"/>
                  <a:pt x="13816" y="9674"/>
                </a:cubicBezTo>
                <a:cubicBezTo>
                  <a:pt x="13796" y="9838"/>
                  <a:pt x="13752" y="9917"/>
                  <a:pt x="13593" y="9996"/>
                </a:cubicBezTo>
                <a:cubicBezTo>
                  <a:pt x="13568" y="9996"/>
                  <a:pt x="13560" y="9996"/>
                  <a:pt x="13543" y="9996"/>
                </a:cubicBezTo>
                <a:cubicBezTo>
                  <a:pt x="13670" y="9965"/>
                  <a:pt x="13851" y="9887"/>
                  <a:pt x="13965" y="9996"/>
                </a:cubicBezTo>
                <a:cubicBezTo>
                  <a:pt x="14115" y="10139"/>
                  <a:pt x="13854" y="10344"/>
                  <a:pt x="13742" y="10368"/>
                </a:cubicBezTo>
                <a:cubicBezTo>
                  <a:pt x="13627" y="10393"/>
                  <a:pt x="13427" y="10302"/>
                  <a:pt x="13444" y="10319"/>
                </a:cubicBezTo>
              </a:path>
              <a:path w="845" h="720">
                <a:moveTo>
                  <a:pt x="14263" y="10269"/>
                </a:moveTo>
                <a:cubicBezTo>
                  <a:pt x="14263" y="10314"/>
                  <a:pt x="14276" y="10331"/>
                  <a:pt x="14238" y="1034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57880" y="3367080"/>
            <a:ext cx="901800" cy="365040"/>
          </a:xfrm>
          <a:custGeom>
            <a:avLst/>
            <a:gdLst/>
            <a:ahLst/>
            <a:rect l="l" t="t" r="r" b="b"/>
            <a:pathLst>
              <a:path w="2506" h="1018">
                <a:moveTo>
                  <a:pt x="15205" y="9748"/>
                </a:moveTo>
                <a:cubicBezTo>
                  <a:pt x="15218" y="9811"/>
                  <a:pt x="15236" y="9823"/>
                  <a:pt x="15280" y="9872"/>
                </a:cubicBezTo>
                <a:cubicBezTo>
                  <a:pt x="15195" y="9796"/>
                  <a:pt x="15035" y="9574"/>
                  <a:pt x="14932" y="9748"/>
                </a:cubicBezTo>
                <a:cubicBezTo>
                  <a:pt x="14837" y="9907"/>
                  <a:pt x="14816" y="10353"/>
                  <a:pt x="15081" y="10368"/>
                </a:cubicBezTo>
                <a:cubicBezTo>
                  <a:pt x="15258" y="10378"/>
                  <a:pt x="15388" y="10223"/>
                  <a:pt x="15503" y="10120"/>
                </a:cubicBezTo>
              </a:path>
              <a:path w="2506" h="1018">
                <a:moveTo>
                  <a:pt x="15677" y="9723"/>
                </a:moveTo>
                <a:cubicBezTo>
                  <a:pt x="15519" y="9707"/>
                  <a:pt x="15441" y="9881"/>
                  <a:pt x="15453" y="10046"/>
                </a:cubicBezTo>
                <a:cubicBezTo>
                  <a:pt x="15476" y="10360"/>
                  <a:pt x="15798" y="10240"/>
                  <a:pt x="15875" y="10021"/>
                </a:cubicBezTo>
                <a:cubicBezTo>
                  <a:pt x="15967" y="9759"/>
                  <a:pt x="15807" y="9773"/>
                  <a:pt x="15652" y="9773"/>
                </a:cubicBezTo>
              </a:path>
              <a:path w="2506" h="1018">
                <a:moveTo>
                  <a:pt x="16024" y="9723"/>
                </a:moveTo>
                <a:cubicBezTo>
                  <a:pt x="15996" y="9751"/>
                  <a:pt x="16064" y="10031"/>
                  <a:pt x="16098" y="10096"/>
                </a:cubicBezTo>
                <a:cubicBezTo>
                  <a:pt x="16183" y="10202"/>
                  <a:pt x="16196" y="10231"/>
                  <a:pt x="16272" y="10269"/>
                </a:cubicBezTo>
                <a:cubicBezTo>
                  <a:pt x="16450" y="10135"/>
                  <a:pt x="16412" y="10059"/>
                  <a:pt x="16371" y="9847"/>
                </a:cubicBezTo>
                <a:cubicBezTo>
                  <a:pt x="16371" y="9839"/>
                  <a:pt x="16371" y="9831"/>
                  <a:pt x="16371" y="9823"/>
                </a:cubicBezTo>
                <a:cubicBezTo>
                  <a:pt x="16382" y="9877"/>
                  <a:pt x="16476" y="10236"/>
                  <a:pt x="16570" y="10220"/>
                </a:cubicBezTo>
                <a:cubicBezTo>
                  <a:pt x="16595" y="10195"/>
                  <a:pt x="16619" y="10170"/>
                  <a:pt x="16644" y="10145"/>
                </a:cubicBezTo>
              </a:path>
              <a:path w="2506" h="1018">
                <a:moveTo>
                  <a:pt x="16594" y="9823"/>
                </a:moveTo>
                <a:cubicBezTo>
                  <a:pt x="16605" y="9865"/>
                  <a:pt x="16669" y="10114"/>
                  <a:pt x="16669" y="10071"/>
                </a:cubicBezTo>
                <a:cubicBezTo>
                  <a:pt x="16629" y="10007"/>
                  <a:pt x="16505" y="9797"/>
                  <a:pt x="16644" y="9748"/>
                </a:cubicBezTo>
                <a:cubicBezTo>
                  <a:pt x="16832" y="9681"/>
                  <a:pt x="17011" y="9923"/>
                  <a:pt x="17066" y="10071"/>
                </a:cubicBezTo>
                <a:cubicBezTo>
                  <a:pt x="17066" y="10112"/>
                  <a:pt x="17066" y="10136"/>
                  <a:pt x="17066" y="10096"/>
                </a:cubicBezTo>
              </a:path>
              <a:path w="2506" h="1018">
                <a:moveTo>
                  <a:pt x="17066" y="9351"/>
                </a:moveTo>
                <a:cubicBezTo>
                  <a:pt x="17168" y="9568"/>
                  <a:pt x="17235" y="9860"/>
                  <a:pt x="17388" y="10046"/>
                </a:cubicBezTo>
                <a:cubicBezTo>
                  <a:pt x="17388" y="10038"/>
                  <a:pt x="17388" y="10029"/>
                  <a:pt x="17388" y="1002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99160" y="3286080"/>
            <a:ext cx="1473120" cy="438120"/>
          </a:xfrm>
          <a:custGeom>
            <a:avLst/>
            <a:gdLst/>
            <a:ahLst/>
            <a:rect l="l" t="t" r="r" b="b"/>
            <a:pathLst>
              <a:path w="4093" h="1217">
                <a:moveTo>
                  <a:pt x="18728" y="9649"/>
                </a:moveTo>
                <a:cubicBezTo>
                  <a:pt x="18728" y="9583"/>
                  <a:pt x="18630" y="9508"/>
                  <a:pt x="18554" y="9550"/>
                </a:cubicBezTo>
                <a:cubicBezTo>
                  <a:pt x="18314" y="9683"/>
                  <a:pt x="18359" y="9861"/>
                  <a:pt x="18380" y="10071"/>
                </a:cubicBezTo>
                <a:cubicBezTo>
                  <a:pt x="18695" y="10095"/>
                  <a:pt x="18849" y="9960"/>
                  <a:pt x="18777" y="9599"/>
                </a:cubicBezTo>
                <a:cubicBezTo>
                  <a:pt x="18752" y="9474"/>
                  <a:pt x="18681" y="9393"/>
                  <a:pt x="18604" y="9302"/>
                </a:cubicBezTo>
                <a:cubicBezTo>
                  <a:pt x="18746" y="9445"/>
                  <a:pt x="18869" y="9720"/>
                  <a:pt x="18951" y="9922"/>
                </a:cubicBezTo>
                <a:cubicBezTo>
                  <a:pt x="18970" y="9996"/>
                  <a:pt x="18978" y="10055"/>
                  <a:pt x="18976" y="9996"/>
                </a:cubicBezTo>
              </a:path>
              <a:path w="4093" h="1217">
                <a:moveTo>
                  <a:pt x="19050" y="9674"/>
                </a:moveTo>
                <a:cubicBezTo>
                  <a:pt x="19085" y="9757"/>
                  <a:pt x="19144" y="9916"/>
                  <a:pt x="19199" y="9971"/>
                </a:cubicBezTo>
              </a:path>
              <a:path w="4093" h="1217">
                <a:moveTo>
                  <a:pt x="19397" y="9550"/>
                </a:moveTo>
                <a:cubicBezTo>
                  <a:pt x="19240" y="9563"/>
                  <a:pt x="19128" y="9785"/>
                  <a:pt x="19273" y="9947"/>
                </a:cubicBezTo>
                <a:cubicBezTo>
                  <a:pt x="19470" y="10167"/>
                  <a:pt x="19460" y="9656"/>
                  <a:pt x="19447" y="9599"/>
                </a:cubicBezTo>
                <a:cubicBezTo>
                  <a:pt x="19412" y="9565"/>
                  <a:pt x="19408" y="9571"/>
                  <a:pt x="19447" y="9649"/>
                </a:cubicBezTo>
                <a:cubicBezTo>
                  <a:pt x="19554" y="9804"/>
                  <a:pt x="19878" y="10129"/>
                  <a:pt x="19645" y="10319"/>
                </a:cubicBezTo>
                <a:cubicBezTo>
                  <a:pt x="19472" y="10460"/>
                  <a:pt x="19377" y="10290"/>
                  <a:pt x="19298" y="10195"/>
                </a:cubicBezTo>
              </a:path>
              <a:path w="4093" h="1217">
                <a:moveTo>
                  <a:pt x="19968" y="9128"/>
                </a:moveTo>
                <a:cubicBezTo>
                  <a:pt x="20097" y="9313"/>
                  <a:pt x="20171" y="9519"/>
                  <a:pt x="20265" y="9723"/>
                </a:cubicBezTo>
                <a:cubicBezTo>
                  <a:pt x="20333" y="9872"/>
                  <a:pt x="20352" y="9865"/>
                  <a:pt x="20489" y="9798"/>
                </a:cubicBezTo>
              </a:path>
              <a:path w="4093" h="1217">
                <a:moveTo>
                  <a:pt x="19993" y="9599"/>
                </a:moveTo>
                <a:cubicBezTo>
                  <a:pt x="20216" y="9534"/>
                  <a:pt x="20435" y="9477"/>
                  <a:pt x="20662" y="9426"/>
                </a:cubicBezTo>
              </a:path>
              <a:path w="4093" h="1217">
                <a:moveTo>
                  <a:pt x="20762" y="9401"/>
                </a:moveTo>
                <a:cubicBezTo>
                  <a:pt x="20682" y="9444"/>
                  <a:pt x="20666" y="9447"/>
                  <a:pt x="20613" y="9500"/>
                </a:cubicBezTo>
                <a:cubicBezTo>
                  <a:pt x="20740" y="9547"/>
                  <a:pt x="20850" y="9569"/>
                  <a:pt x="20960" y="9649"/>
                </a:cubicBezTo>
                <a:cubicBezTo>
                  <a:pt x="20898" y="9741"/>
                  <a:pt x="20860" y="9773"/>
                  <a:pt x="20762" y="9773"/>
                </a:cubicBezTo>
              </a:path>
              <a:path w="4093" h="1217">
                <a:moveTo>
                  <a:pt x="21506" y="9128"/>
                </a:moveTo>
                <a:cubicBezTo>
                  <a:pt x="21613" y="9341"/>
                  <a:pt x="22029" y="9851"/>
                  <a:pt x="21803" y="9773"/>
                </a:cubicBezTo>
                <a:cubicBezTo>
                  <a:pt x="21787" y="9756"/>
                  <a:pt x="21770" y="9740"/>
                  <a:pt x="21754" y="9723"/>
                </a:cubicBezTo>
              </a:path>
              <a:path w="4093" h="1217">
                <a:moveTo>
                  <a:pt x="21357" y="9500"/>
                </a:moveTo>
                <a:cubicBezTo>
                  <a:pt x="21612" y="9452"/>
                  <a:pt x="21867" y="9396"/>
                  <a:pt x="22126" y="9376"/>
                </a:cubicBezTo>
                <a:cubicBezTo>
                  <a:pt x="22098" y="9460"/>
                  <a:pt x="21951" y="9789"/>
                  <a:pt x="22175" y="9773"/>
                </a:cubicBezTo>
                <a:cubicBezTo>
                  <a:pt x="22471" y="9751"/>
                  <a:pt x="22493" y="9498"/>
                  <a:pt x="22225" y="9451"/>
                </a:cubicBezTo>
                <a:cubicBezTo>
                  <a:pt x="22192" y="9451"/>
                  <a:pt x="22159" y="9451"/>
                  <a:pt x="22126" y="945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67840" y="3276720"/>
            <a:ext cx="365040" cy="215640"/>
          </a:xfrm>
          <a:custGeom>
            <a:avLst/>
            <a:gdLst/>
            <a:ahLst/>
            <a:rect l="l" t="t" r="r" b="b"/>
            <a:pathLst>
              <a:path w="1018" h="597">
                <a:moveTo>
                  <a:pt x="23242" y="9103"/>
                </a:moveTo>
                <a:cubicBezTo>
                  <a:pt x="23332" y="9278"/>
                  <a:pt x="23424" y="9450"/>
                  <a:pt x="23515" y="9624"/>
                </a:cubicBezTo>
                <a:cubicBezTo>
                  <a:pt x="23515" y="9451"/>
                  <a:pt x="23508" y="9395"/>
                  <a:pt x="23614" y="9277"/>
                </a:cubicBezTo>
                <a:cubicBezTo>
                  <a:pt x="23760" y="9398"/>
                  <a:pt x="23826" y="9479"/>
                  <a:pt x="23862" y="9674"/>
                </a:cubicBezTo>
              </a:path>
              <a:path w="1018" h="597">
                <a:moveTo>
                  <a:pt x="23986" y="9401"/>
                </a:moveTo>
                <a:cubicBezTo>
                  <a:pt x="24023" y="9381"/>
                  <a:pt x="24194" y="9316"/>
                  <a:pt x="24185" y="9252"/>
                </a:cubicBezTo>
                <a:cubicBezTo>
                  <a:pt x="24177" y="9236"/>
                  <a:pt x="24168" y="9219"/>
                  <a:pt x="24160" y="9203"/>
                </a:cubicBezTo>
                <a:cubicBezTo>
                  <a:pt x="24000" y="9256"/>
                  <a:pt x="23909" y="9447"/>
                  <a:pt x="24036" y="9624"/>
                </a:cubicBezTo>
                <a:cubicBezTo>
                  <a:pt x="24150" y="9693"/>
                  <a:pt x="24182" y="9723"/>
                  <a:pt x="24259" y="964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57960" y="3679920"/>
            <a:ext cx="1973160" cy="365040"/>
          </a:xfrm>
          <a:custGeom>
            <a:avLst/>
            <a:gdLst/>
            <a:ahLst/>
            <a:rect l="l" t="t" r="r" b="b"/>
            <a:pathLst>
              <a:path w="5483" h="1018">
                <a:moveTo>
                  <a:pt x="17785" y="10864"/>
                </a:moveTo>
                <a:cubicBezTo>
                  <a:pt x="17630" y="11002"/>
                  <a:pt x="17638" y="11074"/>
                  <a:pt x="17735" y="11237"/>
                </a:cubicBezTo>
                <a:cubicBezTo>
                  <a:pt x="17791" y="11221"/>
                  <a:pt x="18355" y="10977"/>
                  <a:pt x="18058" y="10840"/>
                </a:cubicBezTo>
                <a:cubicBezTo>
                  <a:pt x="18000" y="10840"/>
                  <a:pt x="17942" y="10840"/>
                  <a:pt x="17884" y="10840"/>
                </a:cubicBezTo>
              </a:path>
              <a:path w="5483" h="1018">
                <a:moveTo>
                  <a:pt x="18430" y="10517"/>
                </a:moveTo>
                <a:cubicBezTo>
                  <a:pt x="18235" y="10562"/>
                  <a:pt x="18149" y="10672"/>
                  <a:pt x="18207" y="10889"/>
                </a:cubicBezTo>
                <a:cubicBezTo>
                  <a:pt x="18275" y="11025"/>
                  <a:pt x="18291" y="11063"/>
                  <a:pt x="18355" y="11137"/>
                </a:cubicBezTo>
              </a:path>
              <a:path w="5483" h="1018">
                <a:moveTo>
                  <a:pt x="18033" y="10889"/>
                </a:moveTo>
                <a:cubicBezTo>
                  <a:pt x="18250" y="10865"/>
                  <a:pt x="18318" y="10858"/>
                  <a:pt x="18455" y="10815"/>
                </a:cubicBezTo>
              </a:path>
              <a:path w="5483" h="1018">
                <a:moveTo>
                  <a:pt x="21704" y="10220"/>
                </a:moveTo>
                <a:cubicBezTo>
                  <a:pt x="21794" y="10424"/>
                  <a:pt x="21882" y="10639"/>
                  <a:pt x="21977" y="10840"/>
                </a:cubicBezTo>
                <a:cubicBezTo>
                  <a:pt x="21985" y="10848"/>
                  <a:pt x="21994" y="10856"/>
                  <a:pt x="22002" y="10864"/>
                </a:cubicBezTo>
              </a:path>
              <a:path w="5483" h="1018">
                <a:moveTo>
                  <a:pt x="23019" y="10443"/>
                </a:moveTo>
                <a:cubicBezTo>
                  <a:pt x="23027" y="10610"/>
                  <a:pt x="22978" y="10790"/>
                  <a:pt x="23143" y="10740"/>
                </a:cubicBezTo>
              </a:path>
              <a:path w="5483" h="1018">
                <a:moveTo>
                  <a:pt x="22969" y="10244"/>
                </a:moveTo>
                <a:cubicBezTo>
                  <a:pt x="22934" y="10244"/>
                  <a:pt x="22935" y="10249"/>
                  <a:pt x="22994" y="10269"/>
                </a:cubicBezTo>
              </a:path>
              <a:path w="5483" h="1018">
                <a:moveTo>
                  <a:pt x="22994" y="10269"/>
                </a:moveTo>
                <a:lnTo>
                  <a:pt x="22994" y="10269"/>
                </a:ln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3880" y="3821040"/>
            <a:ext cx="795240" cy="366840"/>
          </a:xfrm>
          <a:custGeom>
            <a:avLst/>
            <a:gdLst/>
            <a:ahLst/>
            <a:rect l="l" t="t" r="r" b="b"/>
            <a:pathLst>
              <a:path w="2209" h="1018">
                <a:moveTo>
                  <a:pt x="14734" y="11112"/>
                </a:moveTo>
                <a:cubicBezTo>
                  <a:pt x="14734" y="11032"/>
                  <a:pt x="14787" y="11209"/>
                  <a:pt x="14808" y="11286"/>
                </a:cubicBezTo>
                <a:cubicBezTo>
                  <a:pt x="14826" y="11377"/>
                  <a:pt x="14835" y="11384"/>
                  <a:pt x="14833" y="11435"/>
                </a:cubicBezTo>
                <a:cubicBezTo>
                  <a:pt x="14819" y="11252"/>
                  <a:pt x="14804" y="11152"/>
                  <a:pt x="14883" y="10988"/>
                </a:cubicBezTo>
                <a:cubicBezTo>
                  <a:pt x="14931" y="10889"/>
                  <a:pt x="15022" y="10905"/>
                  <a:pt x="15106" y="10914"/>
                </a:cubicBezTo>
                <a:cubicBezTo>
                  <a:pt x="15123" y="10914"/>
                  <a:pt x="15139" y="10914"/>
                  <a:pt x="15156" y="10914"/>
                </a:cubicBezTo>
              </a:path>
              <a:path w="2209" h="1018">
                <a:moveTo>
                  <a:pt x="15329" y="11088"/>
                </a:moveTo>
                <a:cubicBezTo>
                  <a:pt x="15346" y="11186"/>
                  <a:pt x="15367" y="11287"/>
                  <a:pt x="15379" y="11385"/>
                </a:cubicBezTo>
              </a:path>
              <a:path w="2209" h="1018">
                <a:moveTo>
                  <a:pt x="15776" y="11013"/>
                </a:moveTo>
                <a:cubicBezTo>
                  <a:pt x="15806" y="10983"/>
                  <a:pt x="15811" y="10969"/>
                  <a:pt x="15776" y="10939"/>
                </a:cubicBezTo>
                <a:cubicBezTo>
                  <a:pt x="15599" y="10924"/>
                  <a:pt x="15519" y="11070"/>
                  <a:pt x="15553" y="11261"/>
                </a:cubicBezTo>
                <a:cubicBezTo>
                  <a:pt x="15569" y="11286"/>
                  <a:pt x="15586" y="11311"/>
                  <a:pt x="15602" y="11336"/>
                </a:cubicBezTo>
                <a:cubicBezTo>
                  <a:pt x="15735" y="11232"/>
                  <a:pt x="15844" y="11168"/>
                  <a:pt x="15801" y="10988"/>
                </a:cubicBezTo>
                <a:cubicBezTo>
                  <a:pt x="15876" y="11213"/>
                  <a:pt x="15904" y="11376"/>
                  <a:pt x="15875" y="11609"/>
                </a:cubicBezTo>
                <a:cubicBezTo>
                  <a:pt x="15875" y="11617"/>
                  <a:pt x="15875" y="11625"/>
                  <a:pt x="15875" y="11633"/>
                </a:cubicBezTo>
              </a:path>
              <a:path w="2209" h="1018">
                <a:moveTo>
                  <a:pt x="15925" y="10716"/>
                </a:moveTo>
                <a:cubicBezTo>
                  <a:pt x="15985" y="10889"/>
                  <a:pt x="16028" y="11067"/>
                  <a:pt x="16098" y="11237"/>
                </a:cubicBezTo>
                <a:cubicBezTo>
                  <a:pt x="16086" y="11108"/>
                  <a:pt x="16047" y="10997"/>
                  <a:pt x="16148" y="10889"/>
                </a:cubicBezTo>
                <a:cubicBezTo>
                  <a:pt x="16164" y="10881"/>
                  <a:pt x="16181" y="10872"/>
                  <a:pt x="16197" y="10864"/>
                </a:cubicBezTo>
                <a:cubicBezTo>
                  <a:pt x="16351" y="10941"/>
                  <a:pt x="16349" y="11001"/>
                  <a:pt x="16396" y="11162"/>
                </a:cubicBezTo>
                <a:cubicBezTo>
                  <a:pt x="16418" y="11229"/>
                  <a:pt x="16420" y="11258"/>
                  <a:pt x="16470" y="11212"/>
                </a:cubicBezTo>
              </a:path>
              <a:path w="2209" h="1018">
                <a:moveTo>
                  <a:pt x="16570" y="10616"/>
                </a:moveTo>
                <a:cubicBezTo>
                  <a:pt x="16630" y="10721"/>
                  <a:pt x="16619" y="10888"/>
                  <a:pt x="16644" y="11013"/>
                </a:cubicBezTo>
                <a:cubicBezTo>
                  <a:pt x="16667" y="11128"/>
                  <a:pt x="16733" y="11212"/>
                  <a:pt x="16867" y="11137"/>
                </a:cubicBezTo>
                <a:cubicBezTo>
                  <a:pt x="16892" y="11112"/>
                  <a:pt x="16917" y="11088"/>
                  <a:pt x="16942" y="11063"/>
                </a:cubicBezTo>
              </a:path>
              <a:path w="2209" h="1018">
                <a:moveTo>
                  <a:pt x="16272" y="10889"/>
                </a:moveTo>
                <a:cubicBezTo>
                  <a:pt x="16485" y="10835"/>
                  <a:pt x="16702" y="10773"/>
                  <a:pt x="16917" y="1074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18200" y="3705120"/>
            <a:ext cx="527040" cy="216000"/>
          </a:xfrm>
          <a:custGeom>
            <a:avLst/>
            <a:gdLst/>
            <a:ahLst/>
            <a:rect l="l" t="t" r="r" b="b"/>
            <a:pathLst>
              <a:path w="1465" h="596">
                <a:moveTo>
                  <a:pt x="19720" y="10319"/>
                </a:moveTo>
                <a:cubicBezTo>
                  <a:pt x="19812" y="10488"/>
                  <a:pt x="19862" y="10689"/>
                  <a:pt x="19943" y="10864"/>
                </a:cubicBezTo>
                <a:cubicBezTo>
                  <a:pt x="19951" y="10872"/>
                  <a:pt x="19960" y="10881"/>
                  <a:pt x="19968" y="10889"/>
                </a:cubicBezTo>
              </a:path>
              <a:path w="1465" h="596">
                <a:moveTo>
                  <a:pt x="19496" y="10641"/>
                </a:moveTo>
                <a:cubicBezTo>
                  <a:pt x="19657" y="10683"/>
                  <a:pt x="20159" y="10845"/>
                  <a:pt x="20265" y="10592"/>
                </a:cubicBezTo>
                <a:cubicBezTo>
                  <a:pt x="20312" y="10480"/>
                  <a:pt x="20152" y="10361"/>
                  <a:pt x="20092" y="10294"/>
                </a:cubicBezTo>
                <a:cubicBezTo>
                  <a:pt x="20180" y="10470"/>
                  <a:pt x="20254" y="10653"/>
                  <a:pt x="20315" y="10840"/>
                </a:cubicBezTo>
                <a:cubicBezTo>
                  <a:pt x="20315" y="10848"/>
                  <a:pt x="20315" y="10856"/>
                  <a:pt x="20315" y="10864"/>
                </a:cubicBezTo>
                <a:cubicBezTo>
                  <a:pt x="20318" y="10785"/>
                  <a:pt x="20283" y="10538"/>
                  <a:pt x="20414" y="10517"/>
                </a:cubicBezTo>
                <a:cubicBezTo>
                  <a:pt x="20529" y="10499"/>
                  <a:pt x="20589" y="10780"/>
                  <a:pt x="20613" y="10840"/>
                </a:cubicBezTo>
              </a:path>
              <a:path w="1465" h="596">
                <a:moveTo>
                  <a:pt x="20638" y="10592"/>
                </a:moveTo>
                <a:cubicBezTo>
                  <a:pt x="20737" y="10592"/>
                  <a:pt x="20836" y="10592"/>
                  <a:pt x="20935" y="10592"/>
                </a:cubicBezTo>
                <a:cubicBezTo>
                  <a:pt x="20917" y="10520"/>
                  <a:pt x="20857" y="10430"/>
                  <a:pt x="20762" y="10443"/>
                </a:cubicBezTo>
                <a:cubicBezTo>
                  <a:pt x="20579" y="10467"/>
                  <a:pt x="20655" y="10846"/>
                  <a:pt x="20811" y="10864"/>
                </a:cubicBezTo>
                <a:cubicBezTo>
                  <a:pt x="20861" y="10848"/>
                  <a:pt x="20910" y="10831"/>
                  <a:pt x="20960" y="1081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32800" y="3732120"/>
            <a:ext cx="482400" cy="196920"/>
          </a:xfrm>
          <a:custGeom>
            <a:avLst/>
            <a:gdLst/>
            <a:ahLst/>
            <a:rect l="l" t="t" r="r" b="b"/>
            <a:pathLst>
              <a:path w="1340" h="547">
                <a:moveTo>
                  <a:pt x="21828" y="10592"/>
                </a:moveTo>
                <a:cubicBezTo>
                  <a:pt x="21720" y="10548"/>
                  <a:pt x="21630" y="10478"/>
                  <a:pt x="21530" y="10641"/>
                </a:cubicBezTo>
                <a:cubicBezTo>
                  <a:pt x="21486" y="10797"/>
                  <a:pt x="21458" y="10839"/>
                  <a:pt x="21555" y="10914"/>
                </a:cubicBezTo>
                <a:cubicBezTo>
                  <a:pt x="21917" y="10827"/>
                  <a:pt x="21929" y="10715"/>
                  <a:pt x="21853" y="10368"/>
                </a:cubicBezTo>
              </a:path>
              <a:path w="1340" h="547">
                <a:moveTo>
                  <a:pt x="22151" y="10592"/>
                </a:moveTo>
                <a:cubicBezTo>
                  <a:pt x="22256" y="10562"/>
                  <a:pt x="22298" y="10578"/>
                  <a:pt x="22349" y="10492"/>
                </a:cubicBezTo>
                <a:cubicBezTo>
                  <a:pt x="22216" y="10440"/>
                  <a:pt x="22072" y="10417"/>
                  <a:pt x="22051" y="10616"/>
                </a:cubicBezTo>
                <a:cubicBezTo>
                  <a:pt x="22021" y="10899"/>
                  <a:pt x="22205" y="10827"/>
                  <a:pt x="22374" y="10815"/>
                </a:cubicBezTo>
              </a:path>
              <a:path w="1340" h="547">
                <a:moveTo>
                  <a:pt x="22597" y="10393"/>
                </a:moveTo>
                <a:cubicBezTo>
                  <a:pt x="22619" y="10437"/>
                  <a:pt x="22656" y="10477"/>
                  <a:pt x="22696" y="10517"/>
                </a:cubicBezTo>
                <a:cubicBezTo>
                  <a:pt x="22671" y="10466"/>
                  <a:pt x="22577" y="10329"/>
                  <a:pt x="22547" y="10492"/>
                </a:cubicBezTo>
                <a:cubicBezTo>
                  <a:pt x="22499" y="10760"/>
                  <a:pt x="22602" y="10823"/>
                  <a:pt x="22820" y="1076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58120" y="3625920"/>
            <a:ext cx="635040" cy="249120"/>
          </a:xfrm>
          <a:custGeom>
            <a:avLst/>
            <a:gdLst/>
            <a:ahLst/>
            <a:rect l="l" t="t" r="r" b="b"/>
            <a:pathLst>
              <a:path w="1762" h="695">
                <a:moveTo>
                  <a:pt x="23217" y="10468"/>
                </a:moveTo>
                <a:cubicBezTo>
                  <a:pt x="23250" y="10563"/>
                  <a:pt x="23292" y="10669"/>
                  <a:pt x="23316" y="10765"/>
                </a:cubicBezTo>
                <a:cubicBezTo>
                  <a:pt x="23312" y="10718"/>
                  <a:pt x="23239" y="10383"/>
                  <a:pt x="23391" y="10443"/>
                </a:cubicBezTo>
                <a:cubicBezTo>
                  <a:pt x="23510" y="10490"/>
                  <a:pt x="23548" y="10662"/>
                  <a:pt x="23589" y="10765"/>
                </a:cubicBezTo>
                <a:cubicBezTo>
                  <a:pt x="23589" y="10609"/>
                  <a:pt x="23620" y="10506"/>
                  <a:pt x="23688" y="10368"/>
                </a:cubicBezTo>
                <a:cubicBezTo>
                  <a:pt x="23807" y="10487"/>
                  <a:pt x="23845" y="10607"/>
                  <a:pt x="23912" y="10765"/>
                </a:cubicBezTo>
              </a:path>
              <a:path w="1762" h="695">
                <a:moveTo>
                  <a:pt x="24135" y="10319"/>
                </a:moveTo>
                <a:cubicBezTo>
                  <a:pt x="23919" y="10386"/>
                  <a:pt x="23913" y="10526"/>
                  <a:pt x="23887" y="10740"/>
                </a:cubicBezTo>
                <a:cubicBezTo>
                  <a:pt x="24099" y="10756"/>
                  <a:pt x="24129" y="10690"/>
                  <a:pt x="24160" y="10492"/>
                </a:cubicBezTo>
                <a:cubicBezTo>
                  <a:pt x="24086" y="10445"/>
                  <a:pt x="24105" y="10638"/>
                  <a:pt x="24160" y="10691"/>
                </a:cubicBezTo>
                <a:cubicBezTo>
                  <a:pt x="24259" y="10740"/>
                  <a:pt x="24292" y="10756"/>
                  <a:pt x="24358" y="10691"/>
                </a:cubicBezTo>
              </a:path>
              <a:path w="1762" h="695">
                <a:moveTo>
                  <a:pt x="24259" y="10071"/>
                </a:moveTo>
                <a:cubicBezTo>
                  <a:pt x="24308" y="10282"/>
                  <a:pt x="24329" y="10541"/>
                  <a:pt x="24408" y="10740"/>
                </a:cubicBezTo>
                <a:cubicBezTo>
                  <a:pt x="24416" y="10740"/>
                  <a:pt x="24425" y="10740"/>
                  <a:pt x="24433" y="10740"/>
                </a:cubicBezTo>
              </a:path>
              <a:path w="1762" h="695">
                <a:moveTo>
                  <a:pt x="24730" y="10170"/>
                </a:moveTo>
                <a:cubicBezTo>
                  <a:pt x="24649" y="10210"/>
                  <a:pt x="24645" y="10242"/>
                  <a:pt x="24606" y="10319"/>
                </a:cubicBezTo>
                <a:cubicBezTo>
                  <a:pt x="24745" y="10387"/>
                  <a:pt x="24869" y="10393"/>
                  <a:pt x="24978" y="10492"/>
                </a:cubicBezTo>
                <a:cubicBezTo>
                  <a:pt x="24866" y="10644"/>
                  <a:pt x="24825" y="10620"/>
                  <a:pt x="24631" y="1064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73800" y="4295880"/>
            <a:ext cx="2697120" cy="268200"/>
          </a:xfrm>
          <a:custGeom>
            <a:avLst/>
            <a:gdLst/>
            <a:ahLst/>
            <a:rect l="l" t="t" r="r" b="b"/>
            <a:pathLst>
              <a:path w="7492" h="745">
                <a:moveTo>
                  <a:pt x="15205" y="12204"/>
                </a:moveTo>
                <a:cubicBezTo>
                  <a:pt x="15218" y="12322"/>
                  <a:pt x="15218" y="12576"/>
                  <a:pt x="15329" y="12650"/>
                </a:cubicBezTo>
                <a:cubicBezTo>
                  <a:pt x="15590" y="12824"/>
                  <a:pt x="15709" y="12401"/>
                  <a:pt x="15751" y="12254"/>
                </a:cubicBezTo>
              </a:path>
              <a:path w="7492" h="745">
                <a:moveTo>
                  <a:pt x="15230" y="11956"/>
                </a:moveTo>
                <a:lnTo>
                  <a:pt x="15230" y="11956"/>
                </a:lnTo>
              </a:path>
              <a:path w="7492" h="745">
                <a:moveTo>
                  <a:pt x="22696" y="11931"/>
                </a:moveTo>
                <a:cubicBezTo>
                  <a:pt x="22688" y="11931"/>
                  <a:pt x="22679" y="11931"/>
                  <a:pt x="22671" y="1193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61000" y="4375080"/>
            <a:ext cx="152280" cy="142920"/>
          </a:xfrm>
          <a:custGeom>
            <a:avLst/>
            <a:gdLst/>
            <a:ahLst/>
            <a:rect l="l" t="t" r="r" b="b"/>
            <a:pathLst>
              <a:path w="423" h="398">
                <a:moveTo>
                  <a:pt x="15726" y="12254"/>
                </a:moveTo>
                <a:cubicBezTo>
                  <a:pt x="15770" y="12384"/>
                  <a:pt x="15787" y="12415"/>
                  <a:pt x="15776" y="12502"/>
                </a:cubicBezTo>
                <a:cubicBezTo>
                  <a:pt x="15691" y="12456"/>
                  <a:pt x="15735" y="12282"/>
                  <a:pt x="15776" y="12154"/>
                </a:cubicBezTo>
                <a:cubicBezTo>
                  <a:pt x="15826" y="12168"/>
                  <a:pt x="16299" y="12450"/>
                  <a:pt x="16148" y="12551"/>
                </a:cubicBezTo>
                <a:cubicBezTo>
                  <a:pt x="16123" y="12535"/>
                  <a:pt x="16098" y="12518"/>
                  <a:pt x="16073" y="1250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73840" y="4224240"/>
            <a:ext cx="590400" cy="223920"/>
          </a:xfrm>
          <a:custGeom>
            <a:avLst/>
            <a:gdLst/>
            <a:ahLst/>
            <a:rect l="l" t="t" r="r" b="b"/>
            <a:pathLst>
              <a:path w="1638" h="621">
                <a:moveTo>
                  <a:pt x="16842" y="11733"/>
                </a:moveTo>
                <a:cubicBezTo>
                  <a:pt x="16923" y="11936"/>
                  <a:pt x="17220" y="12479"/>
                  <a:pt x="17041" y="12353"/>
                </a:cubicBezTo>
                <a:cubicBezTo>
                  <a:pt x="17016" y="12320"/>
                  <a:pt x="16991" y="12287"/>
                  <a:pt x="16966" y="12254"/>
                </a:cubicBezTo>
              </a:path>
              <a:path w="1638" h="621">
                <a:moveTo>
                  <a:pt x="16594" y="12105"/>
                </a:moveTo>
                <a:cubicBezTo>
                  <a:pt x="16764" y="12221"/>
                  <a:pt x="17015" y="12321"/>
                  <a:pt x="17190" y="12105"/>
                </a:cubicBezTo>
                <a:cubicBezTo>
                  <a:pt x="17278" y="11996"/>
                  <a:pt x="17230" y="11910"/>
                  <a:pt x="17190" y="11807"/>
                </a:cubicBezTo>
                <a:cubicBezTo>
                  <a:pt x="17263" y="11983"/>
                  <a:pt x="17330" y="12145"/>
                  <a:pt x="17363" y="12328"/>
                </a:cubicBezTo>
                <a:cubicBezTo>
                  <a:pt x="17363" y="12260"/>
                  <a:pt x="17332" y="11974"/>
                  <a:pt x="17487" y="12005"/>
                </a:cubicBezTo>
                <a:cubicBezTo>
                  <a:pt x="17660" y="12039"/>
                  <a:pt x="17664" y="12197"/>
                  <a:pt x="17686" y="12328"/>
                </a:cubicBezTo>
              </a:path>
              <a:path w="1638" h="621">
                <a:moveTo>
                  <a:pt x="17810" y="12129"/>
                </a:moveTo>
                <a:cubicBezTo>
                  <a:pt x="17849" y="12127"/>
                  <a:pt x="18060" y="12148"/>
                  <a:pt x="18033" y="12055"/>
                </a:cubicBezTo>
                <a:cubicBezTo>
                  <a:pt x="18025" y="12038"/>
                  <a:pt x="18016" y="12022"/>
                  <a:pt x="18008" y="12005"/>
                </a:cubicBezTo>
                <a:cubicBezTo>
                  <a:pt x="17864" y="11970"/>
                  <a:pt x="17742" y="12011"/>
                  <a:pt x="17760" y="12204"/>
                </a:cubicBezTo>
                <a:cubicBezTo>
                  <a:pt x="17788" y="12502"/>
                  <a:pt x="18112" y="12272"/>
                  <a:pt x="18231" y="1222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50000" y="4116240"/>
            <a:ext cx="1332000" cy="285840"/>
          </a:xfrm>
          <a:custGeom>
            <a:avLst/>
            <a:gdLst/>
            <a:ahLst/>
            <a:rect l="l" t="t" r="r" b="b"/>
            <a:pathLst>
              <a:path w="3697" h="795">
                <a:moveTo>
                  <a:pt x="19248" y="11534"/>
                </a:moveTo>
                <a:cubicBezTo>
                  <a:pt x="19207" y="11453"/>
                  <a:pt x="19005" y="11365"/>
                  <a:pt x="18951" y="11534"/>
                </a:cubicBezTo>
                <a:cubicBezTo>
                  <a:pt x="18880" y="11758"/>
                  <a:pt x="19073" y="11996"/>
                  <a:pt x="19124" y="12204"/>
                </a:cubicBezTo>
                <a:cubicBezTo>
                  <a:pt x="19124" y="12212"/>
                  <a:pt x="19124" y="12221"/>
                  <a:pt x="19124" y="12229"/>
                </a:cubicBezTo>
              </a:path>
              <a:path w="3697" h="795">
                <a:moveTo>
                  <a:pt x="18752" y="11981"/>
                </a:moveTo>
                <a:cubicBezTo>
                  <a:pt x="18988" y="11949"/>
                  <a:pt x="19211" y="11919"/>
                  <a:pt x="19447" y="11906"/>
                </a:cubicBezTo>
              </a:path>
              <a:path w="3697" h="795">
                <a:moveTo>
                  <a:pt x="19695" y="11857"/>
                </a:moveTo>
                <a:cubicBezTo>
                  <a:pt x="19547" y="11857"/>
                  <a:pt x="19480" y="11878"/>
                  <a:pt x="19397" y="12030"/>
                </a:cubicBezTo>
                <a:cubicBezTo>
                  <a:pt x="19389" y="12071"/>
                  <a:pt x="19380" y="12113"/>
                  <a:pt x="19372" y="12154"/>
                </a:cubicBezTo>
                <a:cubicBezTo>
                  <a:pt x="19540" y="12196"/>
                  <a:pt x="19586" y="12091"/>
                  <a:pt x="19670" y="11956"/>
                </a:cubicBezTo>
                <a:cubicBezTo>
                  <a:pt x="19774" y="11952"/>
                  <a:pt x="19768" y="12128"/>
                  <a:pt x="19869" y="12105"/>
                </a:cubicBezTo>
                <a:cubicBezTo>
                  <a:pt x="19910" y="12080"/>
                  <a:pt x="19952" y="12055"/>
                  <a:pt x="19993" y="12030"/>
                </a:cubicBezTo>
              </a:path>
              <a:path w="3697" h="795">
                <a:moveTo>
                  <a:pt x="20166" y="11733"/>
                </a:moveTo>
                <a:cubicBezTo>
                  <a:pt x="20239" y="11780"/>
                  <a:pt x="20119" y="11688"/>
                  <a:pt x="20067" y="11757"/>
                </a:cubicBezTo>
                <a:cubicBezTo>
                  <a:pt x="19892" y="11989"/>
                  <a:pt x="20051" y="12188"/>
                  <a:pt x="20315" y="12080"/>
                </a:cubicBezTo>
                <a:cubicBezTo>
                  <a:pt x="20423" y="12022"/>
                  <a:pt x="20530" y="11964"/>
                  <a:pt x="20638" y="11906"/>
                </a:cubicBezTo>
              </a:path>
              <a:path w="3697" h="795">
                <a:moveTo>
                  <a:pt x="20687" y="11460"/>
                </a:moveTo>
                <a:cubicBezTo>
                  <a:pt x="20752" y="11647"/>
                  <a:pt x="20836" y="11833"/>
                  <a:pt x="20861" y="12030"/>
                </a:cubicBezTo>
              </a:path>
              <a:path w="3697" h="795">
                <a:moveTo>
                  <a:pt x="20538" y="11782"/>
                </a:moveTo>
                <a:cubicBezTo>
                  <a:pt x="20777" y="11749"/>
                  <a:pt x="21028" y="11720"/>
                  <a:pt x="21258" y="11658"/>
                </a:cubicBezTo>
                <a:cubicBezTo>
                  <a:pt x="21215" y="11787"/>
                  <a:pt x="21155" y="11863"/>
                  <a:pt x="21134" y="12005"/>
                </a:cubicBezTo>
                <a:cubicBezTo>
                  <a:pt x="21208" y="12026"/>
                  <a:pt x="21599" y="12079"/>
                  <a:pt x="21481" y="11857"/>
                </a:cubicBezTo>
                <a:cubicBezTo>
                  <a:pt x="21428" y="11757"/>
                  <a:pt x="21253" y="11740"/>
                  <a:pt x="21158" y="11708"/>
                </a:cubicBezTo>
              </a:path>
              <a:path w="3697" h="795">
                <a:moveTo>
                  <a:pt x="21654" y="11881"/>
                </a:moveTo>
                <a:cubicBezTo>
                  <a:pt x="21699" y="11971"/>
                  <a:pt x="21712" y="11994"/>
                  <a:pt x="21729" y="12055"/>
                </a:cubicBezTo>
                <a:cubicBezTo>
                  <a:pt x="21713" y="11966"/>
                  <a:pt x="21650" y="11760"/>
                  <a:pt x="21779" y="11708"/>
                </a:cubicBezTo>
                <a:cubicBezTo>
                  <a:pt x="21919" y="11680"/>
                  <a:pt x="21976" y="11669"/>
                  <a:pt x="22076" y="11658"/>
                </a:cubicBezTo>
              </a:path>
              <a:path w="3697" h="795">
                <a:moveTo>
                  <a:pt x="22225" y="11633"/>
                </a:moveTo>
                <a:cubicBezTo>
                  <a:pt x="22120" y="11645"/>
                  <a:pt x="22061" y="11669"/>
                  <a:pt x="22002" y="11757"/>
                </a:cubicBezTo>
                <a:cubicBezTo>
                  <a:pt x="22191" y="11788"/>
                  <a:pt x="22374" y="11769"/>
                  <a:pt x="22448" y="11931"/>
                </a:cubicBezTo>
                <a:cubicBezTo>
                  <a:pt x="22321" y="12000"/>
                  <a:pt x="22277" y="11998"/>
                  <a:pt x="22126" y="1200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3680" y="4643280"/>
            <a:ext cx="3840120" cy="652680"/>
          </a:xfrm>
          <a:custGeom>
            <a:avLst/>
            <a:gdLst/>
            <a:ahLst/>
            <a:rect l="l" t="t" r="r" b="b"/>
            <a:pathLst>
              <a:path w="10667" h="1812">
                <a:moveTo>
                  <a:pt x="14288" y="13990"/>
                </a:moveTo>
                <a:cubicBezTo>
                  <a:pt x="14296" y="13998"/>
                  <a:pt x="14304" y="14007"/>
                  <a:pt x="14312" y="14015"/>
                </a:cubicBezTo>
              </a:path>
              <a:path w="10667" h="1812">
                <a:moveTo>
                  <a:pt x="15255" y="13419"/>
                </a:moveTo>
                <a:cubicBezTo>
                  <a:pt x="15310" y="13647"/>
                  <a:pt x="15367" y="13855"/>
                  <a:pt x="15379" y="14089"/>
                </a:cubicBezTo>
              </a:path>
              <a:path w="10667" h="1812">
                <a:moveTo>
                  <a:pt x="19496" y="13221"/>
                </a:moveTo>
                <a:cubicBezTo>
                  <a:pt x="19554" y="13434"/>
                  <a:pt x="19593" y="13600"/>
                  <a:pt x="19695" y="13791"/>
                </a:cubicBezTo>
              </a:path>
              <a:path w="10667" h="1812">
                <a:moveTo>
                  <a:pt x="20588" y="13097"/>
                </a:moveTo>
                <a:lnTo>
                  <a:pt x="20588" y="13097"/>
                </a:lnTo>
                <a:lnTo>
                  <a:pt x="20588" y="13097"/>
                </a:lnTo>
              </a:path>
              <a:path w="10667" h="1812">
                <a:moveTo>
                  <a:pt x="20588" y="13097"/>
                </a:moveTo>
                <a:lnTo>
                  <a:pt x="20588" y="13097"/>
                </a:lnTo>
              </a:path>
              <a:path w="10667" h="1812">
                <a:moveTo>
                  <a:pt x="23366" y="13419"/>
                </a:moveTo>
                <a:cubicBezTo>
                  <a:pt x="23402" y="13526"/>
                  <a:pt x="23419" y="13532"/>
                  <a:pt x="23416" y="13593"/>
                </a:cubicBezTo>
              </a:path>
              <a:path w="10667" h="1812">
                <a:moveTo>
                  <a:pt x="23267" y="13047"/>
                </a:moveTo>
                <a:cubicBezTo>
                  <a:pt x="23267" y="13039"/>
                  <a:pt x="23267" y="13030"/>
                  <a:pt x="23267" y="13022"/>
                </a:cubicBezTo>
              </a:path>
              <a:path w="10667" h="1812">
                <a:moveTo>
                  <a:pt x="23267" y="13022"/>
                </a:moveTo>
                <a:lnTo>
                  <a:pt x="23267" y="13022"/>
                </a:lnTo>
              </a:path>
              <a:path w="10667" h="1812">
                <a:moveTo>
                  <a:pt x="23564" y="12898"/>
                </a:moveTo>
                <a:cubicBezTo>
                  <a:pt x="23676" y="13121"/>
                  <a:pt x="23733" y="13346"/>
                  <a:pt x="23812" y="13568"/>
                </a:cubicBezTo>
              </a:path>
              <a:path w="10667" h="1812">
                <a:moveTo>
                  <a:pt x="17041" y="14709"/>
                </a:moveTo>
                <a:lnTo>
                  <a:pt x="17041" y="14709"/>
                </a:lnTo>
                <a:lnTo>
                  <a:pt x="17041" y="14709"/>
                </a:lnTo>
              </a:path>
              <a:path w="10667" h="1812">
                <a:moveTo>
                  <a:pt x="17041" y="14709"/>
                </a:moveTo>
                <a:lnTo>
                  <a:pt x="17041" y="14709"/>
                </a:lnTo>
              </a:path>
              <a:path w="10667" h="1812">
                <a:moveTo>
                  <a:pt x="23490" y="14039"/>
                </a:moveTo>
                <a:cubicBezTo>
                  <a:pt x="23522" y="14233"/>
                  <a:pt x="23572" y="14421"/>
                  <a:pt x="23614" y="14610"/>
                </a:cubicBezTo>
              </a:path>
              <a:path w="10667" h="1812">
                <a:moveTo>
                  <a:pt x="24482" y="14238"/>
                </a:moveTo>
                <a:cubicBezTo>
                  <a:pt x="24641" y="14230"/>
                  <a:pt x="24796" y="14204"/>
                  <a:pt x="24954" y="1418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7840" y="4786200"/>
            <a:ext cx="160200" cy="295560"/>
          </a:xfrm>
          <a:custGeom>
            <a:avLst/>
            <a:gdLst/>
            <a:ahLst/>
            <a:rect l="l" t="t" r="r" b="b"/>
            <a:pathLst>
              <a:path w="447" h="820">
                <a:moveTo>
                  <a:pt x="13568" y="13419"/>
                </a:moveTo>
                <a:cubicBezTo>
                  <a:pt x="13549" y="13516"/>
                  <a:pt x="13520" y="13618"/>
                  <a:pt x="13494" y="13717"/>
                </a:cubicBezTo>
                <a:cubicBezTo>
                  <a:pt x="13632" y="13686"/>
                  <a:pt x="13769" y="13704"/>
                  <a:pt x="13891" y="13692"/>
                </a:cubicBezTo>
                <a:cubicBezTo>
                  <a:pt x="13907" y="13684"/>
                  <a:pt x="13924" y="13675"/>
                  <a:pt x="13940" y="13667"/>
                </a:cubicBezTo>
              </a:path>
              <a:path w="447" h="820">
                <a:moveTo>
                  <a:pt x="13891" y="13295"/>
                </a:moveTo>
                <a:cubicBezTo>
                  <a:pt x="13891" y="13495"/>
                  <a:pt x="13929" y="13691"/>
                  <a:pt x="13940" y="13891"/>
                </a:cubicBezTo>
                <a:cubicBezTo>
                  <a:pt x="13940" y="14023"/>
                  <a:pt x="13940" y="14040"/>
                  <a:pt x="13940" y="1411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03880" y="4822920"/>
            <a:ext cx="152280" cy="258840"/>
          </a:xfrm>
          <a:custGeom>
            <a:avLst/>
            <a:gdLst/>
            <a:ahLst/>
            <a:rect l="l" t="t" r="r" b="b"/>
            <a:pathLst>
              <a:path w="423" h="720">
                <a:moveTo>
                  <a:pt x="14784" y="13767"/>
                </a:moveTo>
                <a:cubicBezTo>
                  <a:pt x="14816" y="13891"/>
                  <a:pt x="14844" y="13987"/>
                  <a:pt x="14858" y="14114"/>
                </a:cubicBezTo>
                <a:cubicBezTo>
                  <a:pt x="14751" y="13810"/>
                  <a:pt x="14764" y="13689"/>
                  <a:pt x="14883" y="13395"/>
                </a:cubicBezTo>
                <a:cubicBezTo>
                  <a:pt x="15075" y="13495"/>
                  <a:pt x="15310" y="13652"/>
                  <a:pt x="14957" y="13767"/>
                </a:cubicBezTo>
                <a:cubicBezTo>
                  <a:pt x="14812" y="13787"/>
                  <a:pt x="14770" y="13819"/>
                  <a:pt x="14734" y="1371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99080" y="4919760"/>
            <a:ext cx="446040" cy="152280"/>
          </a:xfrm>
          <a:custGeom>
            <a:avLst/>
            <a:gdLst/>
            <a:ahLst/>
            <a:rect l="l" t="t" r="r" b="b"/>
            <a:pathLst>
              <a:path w="1241" h="423">
                <a:moveTo>
                  <a:pt x="15949" y="13816"/>
                </a:moveTo>
                <a:cubicBezTo>
                  <a:pt x="15909" y="13714"/>
                  <a:pt x="15776" y="13603"/>
                  <a:pt x="15652" y="13692"/>
                </a:cubicBezTo>
                <a:cubicBezTo>
                  <a:pt x="15428" y="13853"/>
                  <a:pt x="15595" y="14222"/>
                  <a:pt x="15875" y="14039"/>
                </a:cubicBezTo>
                <a:cubicBezTo>
                  <a:pt x="15956" y="13986"/>
                  <a:pt x="15964" y="13848"/>
                  <a:pt x="15974" y="13767"/>
                </a:cubicBezTo>
                <a:cubicBezTo>
                  <a:pt x="16008" y="13980"/>
                  <a:pt x="16008" y="14097"/>
                  <a:pt x="16222" y="14039"/>
                </a:cubicBezTo>
              </a:path>
              <a:path w="1241" h="423">
                <a:moveTo>
                  <a:pt x="16346" y="13692"/>
                </a:moveTo>
                <a:cubicBezTo>
                  <a:pt x="16346" y="13720"/>
                  <a:pt x="16348" y="13731"/>
                  <a:pt x="16371" y="13742"/>
                </a:cubicBezTo>
                <a:cubicBezTo>
                  <a:pt x="16238" y="13635"/>
                  <a:pt x="16200" y="13775"/>
                  <a:pt x="16197" y="13915"/>
                </a:cubicBezTo>
                <a:cubicBezTo>
                  <a:pt x="16192" y="14195"/>
                  <a:pt x="16388" y="14061"/>
                  <a:pt x="16545" y="14015"/>
                </a:cubicBezTo>
              </a:path>
              <a:path w="1241" h="423">
                <a:moveTo>
                  <a:pt x="16570" y="13816"/>
                </a:moveTo>
                <a:cubicBezTo>
                  <a:pt x="16646" y="13810"/>
                  <a:pt x="16718" y="13799"/>
                  <a:pt x="16793" y="13791"/>
                </a:cubicBezTo>
                <a:cubicBezTo>
                  <a:pt x="16761" y="13698"/>
                  <a:pt x="16635" y="13574"/>
                  <a:pt x="16545" y="13742"/>
                </a:cubicBezTo>
                <a:cubicBezTo>
                  <a:pt x="16399" y="14015"/>
                  <a:pt x="16638" y="14010"/>
                  <a:pt x="16793" y="1403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59680" y="4894200"/>
            <a:ext cx="447480" cy="303120"/>
          </a:xfrm>
          <a:custGeom>
            <a:avLst/>
            <a:gdLst/>
            <a:ahLst/>
            <a:rect l="l" t="t" r="r" b="b"/>
            <a:pathLst>
              <a:path w="1241" h="844">
                <a:moveTo>
                  <a:pt x="17512" y="13593"/>
                </a:moveTo>
                <a:cubicBezTo>
                  <a:pt x="17473" y="13732"/>
                  <a:pt x="17550" y="14105"/>
                  <a:pt x="17438" y="14015"/>
                </a:cubicBezTo>
                <a:cubicBezTo>
                  <a:pt x="17430" y="13998"/>
                  <a:pt x="17421" y="13982"/>
                  <a:pt x="17413" y="13965"/>
                </a:cubicBezTo>
                <a:cubicBezTo>
                  <a:pt x="17398" y="13786"/>
                  <a:pt x="17369" y="13471"/>
                  <a:pt x="17661" y="13692"/>
                </a:cubicBezTo>
                <a:cubicBezTo>
                  <a:pt x="17681" y="13707"/>
                  <a:pt x="17936" y="14024"/>
                  <a:pt x="17760" y="13965"/>
                </a:cubicBezTo>
                <a:cubicBezTo>
                  <a:pt x="17755" y="13871"/>
                  <a:pt x="17791" y="13470"/>
                  <a:pt x="17983" y="13667"/>
                </a:cubicBezTo>
                <a:cubicBezTo>
                  <a:pt x="18087" y="13774"/>
                  <a:pt x="18033" y="13858"/>
                  <a:pt x="18132" y="13915"/>
                </a:cubicBezTo>
              </a:path>
              <a:path w="1241" h="844">
                <a:moveTo>
                  <a:pt x="18182" y="13643"/>
                </a:moveTo>
                <a:cubicBezTo>
                  <a:pt x="18197" y="13702"/>
                  <a:pt x="18264" y="14067"/>
                  <a:pt x="18380" y="13891"/>
                </a:cubicBezTo>
                <a:cubicBezTo>
                  <a:pt x="18438" y="13803"/>
                  <a:pt x="18444" y="13693"/>
                  <a:pt x="18455" y="13593"/>
                </a:cubicBezTo>
                <a:cubicBezTo>
                  <a:pt x="18513" y="13786"/>
                  <a:pt x="18771" y="14222"/>
                  <a:pt x="18529" y="14387"/>
                </a:cubicBezTo>
                <a:cubicBezTo>
                  <a:pt x="18284" y="14435"/>
                  <a:pt x="18204" y="14453"/>
                  <a:pt x="18058" y="1433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92920" y="4714920"/>
            <a:ext cx="1073160" cy="277920"/>
          </a:xfrm>
          <a:custGeom>
            <a:avLst/>
            <a:gdLst/>
            <a:ahLst/>
            <a:rect l="l" t="t" r="r" b="b"/>
            <a:pathLst>
              <a:path w="2978" h="770">
                <a:moveTo>
                  <a:pt x="19571" y="13519"/>
                </a:moveTo>
                <a:cubicBezTo>
                  <a:pt x="19432" y="13489"/>
                  <a:pt x="19184" y="13362"/>
                  <a:pt x="19149" y="13643"/>
                </a:cubicBezTo>
                <a:cubicBezTo>
                  <a:pt x="19078" y="14210"/>
                  <a:pt x="19563" y="13542"/>
                  <a:pt x="19596" y="13469"/>
                </a:cubicBezTo>
              </a:path>
              <a:path w="2978" h="770">
                <a:moveTo>
                  <a:pt x="19769" y="13519"/>
                </a:moveTo>
                <a:cubicBezTo>
                  <a:pt x="19834" y="13519"/>
                  <a:pt x="20004" y="13551"/>
                  <a:pt x="20017" y="13469"/>
                </a:cubicBezTo>
                <a:cubicBezTo>
                  <a:pt x="20017" y="13444"/>
                  <a:pt x="20017" y="13420"/>
                  <a:pt x="20017" y="13395"/>
                </a:cubicBezTo>
                <a:cubicBezTo>
                  <a:pt x="19836" y="13367"/>
                  <a:pt x="19659" y="13514"/>
                  <a:pt x="19819" y="13717"/>
                </a:cubicBezTo>
                <a:cubicBezTo>
                  <a:pt x="19981" y="13798"/>
                  <a:pt x="20045" y="13817"/>
                  <a:pt x="20166" y="13717"/>
                </a:cubicBezTo>
              </a:path>
              <a:path w="2978" h="770">
                <a:moveTo>
                  <a:pt x="20439" y="13320"/>
                </a:moveTo>
                <a:cubicBezTo>
                  <a:pt x="20439" y="13442"/>
                  <a:pt x="20356" y="13274"/>
                  <a:pt x="20290" y="13370"/>
                </a:cubicBezTo>
                <a:cubicBezTo>
                  <a:pt x="20185" y="13524"/>
                  <a:pt x="20245" y="13641"/>
                  <a:pt x="20315" y="13767"/>
                </a:cubicBezTo>
                <a:cubicBezTo>
                  <a:pt x="20506" y="13668"/>
                  <a:pt x="20585" y="13571"/>
                  <a:pt x="20712" y="13444"/>
                </a:cubicBezTo>
                <a:cubicBezTo>
                  <a:pt x="20712" y="13548"/>
                  <a:pt x="20703" y="13653"/>
                  <a:pt x="20737" y="13742"/>
                </a:cubicBezTo>
              </a:path>
              <a:path w="2978" h="770">
                <a:moveTo>
                  <a:pt x="20960" y="13543"/>
                </a:moveTo>
                <a:cubicBezTo>
                  <a:pt x="20961" y="13554"/>
                  <a:pt x="20939" y="13830"/>
                  <a:pt x="20985" y="13692"/>
                </a:cubicBezTo>
                <a:cubicBezTo>
                  <a:pt x="20969" y="13638"/>
                  <a:pt x="20883" y="13170"/>
                  <a:pt x="21084" y="13395"/>
                </a:cubicBezTo>
                <a:cubicBezTo>
                  <a:pt x="21164" y="13484"/>
                  <a:pt x="21197" y="13619"/>
                  <a:pt x="21258" y="13717"/>
                </a:cubicBezTo>
                <a:cubicBezTo>
                  <a:pt x="21236" y="13609"/>
                  <a:pt x="21227" y="13469"/>
                  <a:pt x="21307" y="13370"/>
                </a:cubicBezTo>
                <a:cubicBezTo>
                  <a:pt x="21376" y="13285"/>
                  <a:pt x="21514" y="13704"/>
                  <a:pt x="21530" y="13742"/>
                </a:cubicBezTo>
              </a:path>
              <a:path w="2978" h="770">
                <a:moveTo>
                  <a:pt x="21803" y="13320"/>
                </a:moveTo>
                <a:cubicBezTo>
                  <a:pt x="21600" y="13417"/>
                  <a:pt x="21480" y="13508"/>
                  <a:pt x="21481" y="13742"/>
                </a:cubicBezTo>
                <a:cubicBezTo>
                  <a:pt x="21641" y="13702"/>
                  <a:pt x="21684" y="13673"/>
                  <a:pt x="21729" y="13494"/>
                </a:cubicBezTo>
                <a:cubicBezTo>
                  <a:pt x="21759" y="13689"/>
                  <a:pt x="21799" y="13698"/>
                  <a:pt x="21977" y="13643"/>
                </a:cubicBezTo>
              </a:path>
              <a:path w="2978" h="770">
                <a:moveTo>
                  <a:pt x="21903" y="13097"/>
                </a:moveTo>
                <a:cubicBezTo>
                  <a:pt x="21969" y="13324"/>
                  <a:pt x="22011" y="13588"/>
                  <a:pt x="22126" y="1379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34200" y="4768920"/>
            <a:ext cx="179640" cy="16992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22597" y="13320"/>
                </a:moveTo>
                <a:cubicBezTo>
                  <a:pt x="22597" y="13484"/>
                  <a:pt x="22594" y="13583"/>
                  <a:pt x="22671" y="13717"/>
                </a:cubicBezTo>
                <a:cubicBezTo>
                  <a:pt x="22821" y="13630"/>
                  <a:pt x="22846" y="13545"/>
                  <a:pt x="22870" y="13370"/>
                </a:cubicBezTo>
                <a:cubicBezTo>
                  <a:pt x="22888" y="13506"/>
                  <a:pt x="22923" y="13576"/>
                  <a:pt x="22994" y="13692"/>
                </a:cubicBezTo>
                <a:cubicBezTo>
                  <a:pt x="23145" y="13655"/>
                  <a:pt x="23126" y="13467"/>
                  <a:pt x="23044" y="13345"/>
                </a:cubicBezTo>
                <a:cubicBezTo>
                  <a:pt x="22968" y="13289"/>
                  <a:pt x="22955" y="13286"/>
                  <a:pt x="22920" y="1324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66120" y="4670280"/>
            <a:ext cx="303120" cy="231840"/>
          </a:xfrm>
          <a:custGeom>
            <a:avLst/>
            <a:gdLst/>
            <a:ahLst/>
            <a:rect l="l" t="t" r="r" b="b"/>
            <a:pathLst>
              <a:path w="844" h="646">
                <a:moveTo>
                  <a:pt x="23515" y="13395"/>
                </a:moveTo>
                <a:cubicBezTo>
                  <a:pt x="23812" y="13369"/>
                  <a:pt x="24061" y="13367"/>
                  <a:pt x="24061" y="12998"/>
                </a:cubicBezTo>
                <a:cubicBezTo>
                  <a:pt x="24053" y="12990"/>
                  <a:pt x="24044" y="12981"/>
                  <a:pt x="24036" y="12973"/>
                </a:cubicBezTo>
                <a:cubicBezTo>
                  <a:pt x="24015" y="13166"/>
                  <a:pt x="24051" y="13327"/>
                  <a:pt x="24085" y="13519"/>
                </a:cubicBezTo>
                <a:cubicBezTo>
                  <a:pt x="24110" y="13438"/>
                  <a:pt x="24163" y="13066"/>
                  <a:pt x="24259" y="13196"/>
                </a:cubicBezTo>
                <a:cubicBezTo>
                  <a:pt x="24363" y="13337"/>
                  <a:pt x="24350" y="13461"/>
                  <a:pt x="24333" y="1361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75200" y="5106960"/>
            <a:ext cx="2144880" cy="341280"/>
          </a:xfrm>
          <a:custGeom>
            <a:avLst/>
            <a:gdLst/>
            <a:ahLst/>
            <a:rect l="l" t="t" r="r" b="b"/>
            <a:pathLst>
              <a:path w="5955" h="944">
                <a:moveTo>
                  <a:pt x="16446" y="15007"/>
                </a:moveTo>
                <a:cubicBezTo>
                  <a:pt x="16464" y="15098"/>
                  <a:pt x="16438" y="15139"/>
                  <a:pt x="16495" y="15131"/>
                </a:cubicBezTo>
              </a:path>
              <a:path w="5955" h="944">
                <a:moveTo>
                  <a:pt x="16495" y="15131"/>
                </a:moveTo>
                <a:lnTo>
                  <a:pt x="16495" y="15131"/>
                </a:lnTo>
              </a:path>
              <a:path w="5955" h="944">
                <a:moveTo>
                  <a:pt x="16321" y="14684"/>
                </a:moveTo>
                <a:lnTo>
                  <a:pt x="16321" y="14684"/>
                </a:lnTo>
              </a:path>
              <a:path w="5955" h="944">
                <a:moveTo>
                  <a:pt x="18703" y="14560"/>
                </a:moveTo>
                <a:cubicBezTo>
                  <a:pt x="18749" y="14672"/>
                  <a:pt x="18988" y="15052"/>
                  <a:pt x="18777" y="14982"/>
                </a:cubicBezTo>
              </a:path>
              <a:path w="5955" h="944">
                <a:moveTo>
                  <a:pt x="18579" y="14759"/>
                </a:moveTo>
                <a:cubicBezTo>
                  <a:pt x="18823" y="14799"/>
                  <a:pt x="18958" y="14807"/>
                  <a:pt x="19199" y="14759"/>
                </a:cubicBezTo>
              </a:path>
              <a:path w="5955" h="944">
                <a:moveTo>
                  <a:pt x="22250" y="14585"/>
                </a:moveTo>
                <a:cubicBezTo>
                  <a:pt x="22269" y="14659"/>
                  <a:pt x="22277" y="14666"/>
                  <a:pt x="22275" y="14709"/>
                </a:cubicBezTo>
              </a:path>
              <a:path w="5955" h="944">
                <a:moveTo>
                  <a:pt x="22101" y="14188"/>
                </a:moveTo>
                <a:cubicBezTo>
                  <a:pt x="22109" y="14188"/>
                  <a:pt x="22118" y="14188"/>
                  <a:pt x="22126" y="14188"/>
                </a:cubicBezTo>
              </a:path>
              <a:path w="5955" h="944">
                <a:moveTo>
                  <a:pt x="22126" y="14188"/>
                </a:moveTo>
                <a:lnTo>
                  <a:pt x="22126" y="14188"/>
                </a:ln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22960" y="5249880"/>
            <a:ext cx="195120" cy="277920"/>
          </a:xfrm>
          <a:custGeom>
            <a:avLst/>
            <a:gdLst/>
            <a:ahLst/>
            <a:rect l="l" t="t" r="r" b="b"/>
            <a:pathLst>
              <a:path w="546" h="770">
                <a:moveTo>
                  <a:pt x="14957" y="14709"/>
                </a:moveTo>
                <a:cubicBezTo>
                  <a:pt x="14973" y="14630"/>
                  <a:pt x="14988" y="14640"/>
                  <a:pt x="15056" y="14585"/>
                </a:cubicBezTo>
                <a:cubicBezTo>
                  <a:pt x="15304" y="14667"/>
                  <a:pt x="15253" y="14878"/>
                  <a:pt x="15081" y="15081"/>
                </a:cubicBezTo>
                <a:cubicBezTo>
                  <a:pt x="14918" y="15224"/>
                  <a:pt x="14889" y="15254"/>
                  <a:pt x="14784" y="15329"/>
                </a:cubicBezTo>
                <a:cubicBezTo>
                  <a:pt x="14853" y="15346"/>
                  <a:pt x="15089" y="15243"/>
                  <a:pt x="15230" y="15255"/>
                </a:cubicBezTo>
                <a:cubicBezTo>
                  <a:pt x="15278" y="15279"/>
                  <a:pt x="15292" y="15287"/>
                  <a:pt x="15329" y="1528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80080" y="5241960"/>
            <a:ext cx="830160" cy="401760"/>
          </a:xfrm>
          <a:custGeom>
            <a:avLst/>
            <a:gdLst/>
            <a:ahLst/>
            <a:rect l="l" t="t" r="r" b="b"/>
            <a:pathLst>
              <a:path w="2308" h="1118">
                <a:moveTo>
                  <a:pt x="16123" y="15007"/>
                </a:moveTo>
                <a:cubicBezTo>
                  <a:pt x="16033" y="14886"/>
                  <a:pt x="15859" y="14857"/>
                  <a:pt x="15776" y="15032"/>
                </a:cubicBezTo>
                <a:cubicBezTo>
                  <a:pt x="15776" y="15073"/>
                  <a:pt x="15776" y="15115"/>
                  <a:pt x="15776" y="15156"/>
                </a:cubicBezTo>
                <a:cubicBezTo>
                  <a:pt x="16018" y="15263"/>
                  <a:pt x="16139" y="15181"/>
                  <a:pt x="16148" y="14883"/>
                </a:cubicBezTo>
                <a:cubicBezTo>
                  <a:pt x="16153" y="14716"/>
                  <a:pt x="16102" y="14710"/>
                  <a:pt x="16049" y="14585"/>
                </a:cubicBezTo>
                <a:cubicBezTo>
                  <a:pt x="16096" y="14752"/>
                  <a:pt x="16164" y="14998"/>
                  <a:pt x="16247" y="15156"/>
                </a:cubicBezTo>
                <a:cubicBezTo>
                  <a:pt x="16255" y="15156"/>
                  <a:pt x="16264" y="15156"/>
                  <a:pt x="16272" y="15156"/>
                </a:cubicBezTo>
              </a:path>
              <a:path w="2308" h="1118">
                <a:moveTo>
                  <a:pt x="16818" y="14883"/>
                </a:moveTo>
                <a:cubicBezTo>
                  <a:pt x="16633" y="14919"/>
                  <a:pt x="16619" y="14987"/>
                  <a:pt x="16619" y="15156"/>
                </a:cubicBezTo>
                <a:cubicBezTo>
                  <a:pt x="16793" y="15155"/>
                  <a:pt x="16798" y="15055"/>
                  <a:pt x="16818" y="14883"/>
                </a:cubicBezTo>
                <a:cubicBezTo>
                  <a:pt x="16909" y="15089"/>
                  <a:pt x="17026" y="15281"/>
                  <a:pt x="16942" y="15528"/>
                </a:cubicBezTo>
                <a:cubicBezTo>
                  <a:pt x="16818" y="15892"/>
                  <a:pt x="16562" y="15586"/>
                  <a:pt x="16520" y="15429"/>
                </a:cubicBezTo>
              </a:path>
              <a:path w="2308" h="1118">
                <a:moveTo>
                  <a:pt x="17066" y="14883"/>
                </a:moveTo>
                <a:cubicBezTo>
                  <a:pt x="17080" y="14930"/>
                  <a:pt x="17140" y="15343"/>
                  <a:pt x="17140" y="15081"/>
                </a:cubicBezTo>
              </a:path>
              <a:path w="2308" h="1118">
                <a:moveTo>
                  <a:pt x="17314" y="14560"/>
                </a:moveTo>
                <a:cubicBezTo>
                  <a:pt x="17349" y="14753"/>
                  <a:pt x="17413" y="14936"/>
                  <a:pt x="17413" y="15131"/>
                </a:cubicBezTo>
              </a:path>
              <a:path w="2308" h="1118">
                <a:moveTo>
                  <a:pt x="17140" y="14908"/>
                </a:moveTo>
                <a:cubicBezTo>
                  <a:pt x="17373" y="14865"/>
                  <a:pt x="17604" y="14814"/>
                  <a:pt x="17835" y="14759"/>
                </a:cubicBezTo>
                <a:cubicBezTo>
                  <a:pt x="17787" y="14735"/>
                  <a:pt x="17661" y="14789"/>
                  <a:pt x="17711" y="14808"/>
                </a:cubicBezTo>
                <a:cubicBezTo>
                  <a:pt x="17821" y="14851"/>
                  <a:pt x="17964" y="14860"/>
                  <a:pt x="18083" y="14908"/>
                </a:cubicBezTo>
                <a:cubicBezTo>
                  <a:pt x="17971" y="15099"/>
                  <a:pt x="17894" y="15073"/>
                  <a:pt x="17711" y="1498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75640" y="5160960"/>
            <a:ext cx="696600" cy="260280"/>
          </a:xfrm>
          <a:custGeom>
            <a:avLst/>
            <a:gdLst/>
            <a:ahLst/>
            <a:rect l="l" t="t" r="r" b="b"/>
            <a:pathLst>
              <a:path w="1935" h="720">
                <a:moveTo>
                  <a:pt x="19248" y="14660"/>
                </a:moveTo>
                <a:cubicBezTo>
                  <a:pt x="19212" y="14548"/>
                  <a:pt x="19111" y="14790"/>
                  <a:pt x="19100" y="14908"/>
                </a:cubicBezTo>
                <a:cubicBezTo>
                  <a:pt x="19108" y="14941"/>
                  <a:pt x="19116" y="14974"/>
                  <a:pt x="19124" y="15007"/>
                </a:cubicBezTo>
                <a:cubicBezTo>
                  <a:pt x="19342" y="15043"/>
                  <a:pt x="19480" y="14973"/>
                  <a:pt x="19348" y="14734"/>
                </a:cubicBezTo>
                <a:cubicBezTo>
                  <a:pt x="19323" y="14701"/>
                  <a:pt x="19298" y="14668"/>
                  <a:pt x="19273" y="14635"/>
                </a:cubicBezTo>
              </a:path>
              <a:path w="1935" h="720">
                <a:moveTo>
                  <a:pt x="19794" y="14362"/>
                </a:moveTo>
                <a:cubicBezTo>
                  <a:pt x="19858" y="14555"/>
                  <a:pt x="19965" y="14759"/>
                  <a:pt x="20042" y="14957"/>
                </a:cubicBezTo>
              </a:path>
              <a:path w="1935" h="720">
                <a:moveTo>
                  <a:pt x="19819" y="14660"/>
                </a:moveTo>
                <a:cubicBezTo>
                  <a:pt x="19973" y="14706"/>
                  <a:pt x="20395" y="14868"/>
                  <a:pt x="20389" y="14560"/>
                </a:cubicBezTo>
                <a:cubicBezTo>
                  <a:pt x="20345" y="14428"/>
                  <a:pt x="20341" y="14390"/>
                  <a:pt x="20265" y="14337"/>
                </a:cubicBezTo>
                <a:cubicBezTo>
                  <a:pt x="20284" y="14528"/>
                  <a:pt x="20348" y="14697"/>
                  <a:pt x="20389" y="14883"/>
                </a:cubicBezTo>
                <a:cubicBezTo>
                  <a:pt x="20389" y="14891"/>
                  <a:pt x="20389" y="14900"/>
                  <a:pt x="20389" y="14908"/>
                </a:cubicBezTo>
                <a:cubicBezTo>
                  <a:pt x="20398" y="14839"/>
                  <a:pt x="20424" y="14591"/>
                  <a:pt x="20563" y="14660"/>
                </a:cubicBezTo>
                <a:cubicBezTo>
                  <a:pt x="20658" y="14708"/>
                  <a:pt x="20693" y="14821"/>
                  <a:pt x="20737" y="14908"/>
                </a:cubicBezTo>
              </a:path>
              <a:path w="1935" h="720">
                <a:moveTo>
                  <a:pt x="20786" y="14709"/>
                </a:moveTo>
                <a:cubicBezTo>
                  <a:pt x="20866" y="14709"/>
                  <a:pt x="20933" y="14697"/>
                  <a:pt x="21010" y="14684"/>
                </a:cubicBezTo>
                <a:cubicBezTo>
                  <a:pt x="21044" y="14684"/>
                  <a:pt x="21048" y="14675"/>
                  <a:pt x="21010" y="14635"/>
                </a:cubicBezTo>
                <a:cubicBezTo>
                  <a:pt x="20885" y="14509"/>
                  <a:pt x="20781" y="14599"/>
                  <a:pt x="20762" y="14784"/>
                </a:cubicBezTo>
                <a:cubicBezTo>
                  <a:pt x="20746" y="14939"/>
                  <a:pt x="20867" y="14932"/>
                  <a:pt x="20960" y="1493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50080" y="5160960"/>
            <a:ext cx="135000" cy="179280"/>
          </a:xfrm>
          <a:custGeom>
            <a:avLst/>
            <a:gdLst/>
            <a:ahLst/>
            <a:rect l="l" t="t" r="r" b="b"/>
            <a:pathLst>
              <a:path w="374" h="497">
                <a:moveTo>
                  <a:pt x="21530" y="14536"/>
                </a:moveTo>
                <a:cubicBezTo>
                  <a:pt x="21572" y="14635"/>
                  <a:pt x="21596" y="14745"/>
                  <a:pt x="21654" y="14833"/>
                </a:cubicBezTo>
                <a:cubicBezTo>
                  <a:pt x="21604" y="14730"/>
                  <a:pt x="21608" y="14513"/>
                  <a:pt x="21679" y="14412"/>
                </a:cubicBezTo>
                <a:cubicBezTo>
                  <a:pt x="21783" y="14360"/>
                  <a:pt x="21822" y="14342"/>
                  <a:pt x="21903" y="1433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89920" y="5000760"/>
            <a:ext cx="849240" cy="447480"/>
          </a:xfrm>
          <a:custGeom>
            <a:avLst/>
            <a:gdLst/>
            <a:ahLst/>
            <a:rect l="l" t="t" r="r" b="b"/>
            <a:pathLst>
              <a:path w="2357" h="1241">
                <a:moveTo>
                  <a:pt x="22721" y="14362"/>
                </a:moveTo>
                <a:cubicBezTo>
                  <a:pt x="22518" y="14374"/>
                  <a:pt x="22486" y="14453"/>
                  <a:pt x="22498" y="14660"/>
                </a:cubicBezTo>
                <a:cubicBezTo>
                  <a:pt x="22699" y="14596"/>
                  <a:pt x="22733" y="14575"/>
                  <a:pt x="22746" y="14362"/>
                </a:cubicBezTo>
                <a:cubicBezTo>
                  <a:pt x="22802" y="14527"/>
                  <a:pt x="22907" y="14691"/>
                  <a:pt x="22895" y="14883"/>
                </a:cubicBezTo>
                <a:cubicBezTo>
                  <a:pt x="22882" y="15086"/>
                  <a:pt x="22794" y="15098"/>
                  <a:pt x="22647" y="15131"/>
                </a:cubicBezTo>
              </a:path>
              <a:path w="2357" h="1241">
                <a:moveTo>
                  <a:pt x="22895" y="14089"/>
                </a:moveTo>
                <a:cubicBezTo>
                  <a:pt x="22942" y="14262"/>
                  <a:pt x="23001" y="14439"/>
                  <a:pt x="23044" y="14610"/>
                </a:cubicBezTo>
                <a:cubicBezTo>
                  <a:pt x="23021" y="14449"/>
                  <a:pt x="23008" y="14420"/>
                  <a:pt x="23093" y="14288"/>
                </a:cubicBezTo>
                <a:cubicBezTo>
                  <a:pt x="23247" y="14370"/>
                  <a:pt x="23282" y="14445"/>
                  <a:pt x="23341" y="14610"/>
                </a:cubicBezTo>
              </a:path>
              <a:path w="2357" h="1241">
                <a:moveTo>
                  <a:pt x="23192" y="14312"/>
                </a:moveTo>
                <a:cubicBezTo>
                  <a:pt x="23302" y="14296"/>
                  <a:pt x="23677" y="14156"/>
                  <a:pt x="23763" y="14188"/>
                </a:cubicBezTo>
                <a:cubicBezTo>
                  <a:pt x="23763" y="14196"/>
                  <a:pt x="23763" y="14205"/>
                  <a:pt x="23763" y="14213"/>
                </a:cubicBezTo>
              </a:path>
              <a:path w="2357" h="1241">
                <a:moveTo>
                  <a:pt x="24333" y="14213"/>
                </a:moveTo>
                <a:cubicBezTo>
                  <a:pt x="24230" y="14385"/>
                  <a:pt x="24173" y="14475"/>
                  <a:pt x="24234" y="14660"/>
                </a:cubicBezTo>
                <a:cubicBezTo>
                  <a:pt x="24418" y="14612"/>
                  <a:pt x="24671" y="14547"/>
                  <a:pt x="24482" y="14312"/>
                </a:cubicBezTo>
                <a:cubicBezTo>
                  <a:pt x="24376" y="14227"/>
                  <a:pt x="24354" y="14207"/>
                  <a:pt x="24284" y="14163"/>
                </a:cubicBezTo>
              </a:path>
              <a:path w="2357" h="1241">
                <a:moveTo>
                  <a:pt x="24805" y="13915"/>
                </a:moveTo>
                <a:cubicBezTo>
                  <a:pt x="24697" y="13880"/>
                  <a:pt x="24635" y="13967"/>
                  <a:pt x="24656" y="14089"/>
                </a:cubicBezTo>
                <a:cubicBezTo>
                  <a:pt x="24678" y="14215"/>
                  <a:pt x="24864" y="14414"/>
                  <a:pt x="24829" y="14536"/>
                </a:cubicBezTo>
                <a:cubicBezTo>
                  <a:pt x="24821" y="14536"/>
                  <a:pt x="24813" y="14536"/>
                  <a:pt x="24805" y="1453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76880" y="5634000"/>
            <a:ext cx="1938240" cy="152280"/>
          </a:xfrm>
          <a:custGeom>
            <a:avLst/>
            <a:gdLst/>
            <a:ahLst/>
            <a:rect l="l" t="t" r="r" b="b"/>
            <a:pathLst>
              <a:path w="5383" h="422">
                <a:moveTo>
                  <a:pt x="14660" y="16049"/>
                </a:moveTo>
                <a:cubicBezTo>
                  <a:pt x="14936" y="16065"/>
                  <a:pt x="15103" y="16088"/>
                  <a:pt x="15304" y="15900"/>
                </a:cubicBezTo>
              </a:path>
              <a:path w="5383" h="422">
                <a:moveTo>
                  <a:pt x="17810" y="15776"/>
                </a:moveTo>
                <a:lnTo>
                  <a:pt x="17810" y="15776"/>
                </a:lnTo>
                <a:lnTo>
                  <a:pt x="17810" y="15776"/>
                </a:lnTo>
              </a:path>
              <a:path w="5383" h="422">
                <a:moveTo>
                  <a:pt x="17810" y="15776"/>
                </a:moveTo>
                <a:lnTo>
                  <a:pt x="17810" y="15776"/>
                </a:lnTo>
              </a:path>
              <a:path w="5383" h="422">
                <a:moveTo>
                  <a:pt x="19993" y="15652"/>
                </a:moveTo>
                <a:cubicBezTo>
                  <a:pt x="20009" y="15652"/>
                  <a:pt x="20026" y="15652"/>
                  <a:pt x="20042" y="1565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57880" y="5634000"/>
            <a:ext cx="1643040" cy="287280"/>
          </a:xfrm>
          <a:custGeom>
            <a:avLst/>
            <a:gdLst/>
            <a:ahLst/>
            <a:rect l="l" t="t" r="r" b="b"/>
            <a:pathLst>
              <a:path w="4565" h="795">
                <a:moveTo>
                  <a:pt x="14883" y="15751"/>
                </a:moveTo>
                <a:cubicBezTo>
                  <a:pt x="14944" y="15954"/>
                  <a:pt x="14986" y="16160"/>
                  <a:pt x="15007" y="16371"/>
                </a:cubicBezTo>
              </a:path>
              <a:path w="4565" h="795">
                <a:moveTo>
                  <a:pt x="15156" y="15751"/>
                </a:moveTo>
                <a:cubicBezTo>
                  <a:pt x="15203" y="15952"/>
                  <a:pt x="15225" y="16189"/>
                  <a:pt x="15304" y="16371"/>
                </a:cubicBezTo>
                <a:cubicBezTo>
                  <a:pt x="15288" y="16295"/>
                  <a:pt x="15289" y="15978"/>
                  <a:pt x="15478" y="16024"/>
                </a:cubicBezTo>
                <a:cubicBezTo>
                  <a:pt x="15624" y="16060"/>
                  <a:pt x="15627" y="16286"/>
                  <a:pt x="15627" y="16396"/>
                </a:cubicBezTo>
              </a:path>
              <a:path w="4565" h="795">
                <a:moveTo>
                  <a:pt x="15701" y="16148"/>
                </a:moveTo>
                <a:cubicBezTo>
                  <a:pt x="15751" y="16148"/>
                  <a:pt x="15886" y="16162"/>
                  <a:pt x="15925" y="16123"/>
                </a:cubicBezTo>
                <a:cubicBezTo>
                  <a:pt x="15925" y="16083"/>
                  <a:pt x="15935" y="16064"/>
                  <a:pt x="15974" y="16049"/>
                </a:cubicBezTo>
                <a:cubicBezTo>
                  <a:pt x="15935" y="15981"/>
                  <a:pt x="15831" y="15911"/>
                  <a:pt x="15751" y="15999"/>
                </a:cubicBezTo>
                <a:cubicBezTo>
                  <a:pt x="15643" y="16119"/>
                  <a:pt x="15615" y="16481"/>
                  <a:pt x="15875" y="16446"/>
                </a:cubicBezTo>
                <a:cubicBezTo>
                  <a:pt x="15966" y="16413"/>
                  <a:pt x="16057" y="16379"/>
                  <a:pt x="16148" y="16346"/>
                </a:cubicBezTo>
              </a:path>
              <a:path w="4565" h="795">
                <a:moveTo>
                  <a:pt x="16768" y="15974"/>
                </a:moveTo>
                <a:cubicBezTo>
                  <a:pt x="16878" y="15937"/>
                  <a:pt x="16620" y="15948"/>
                  <a:pt x="16619" y="15949"/>
                </a:cubicBezTo>
                <a:cubicBezTo>
                  <a:pt x="16466" y="16059"/>
                  <a:pt x="16436" y="16444"/>
                  <a:pt x="16718" y="16371"/>
                </a:cubicBezTo>
                <a:cubicBezTo>
                  <a:pt x="16862" y="16256"/>
                  <a:pt x="16911" y="16199"/>
                  <a:pt x="16917" y="16049"/>
                </a:cubicBezTo>
              </a:path>
              <a:path w="4565" h="795">
                <a:moveTo>
                  <a:pt x="16842" y="15677"/>
                </a:moveTo>
                <a:cubicBezTo>
                  <a:pt x="16903" y="15878"/>
                  <a:pt x="16974" y="16061"/>
                  <a:pt x="16991" y="16272"/>
                </a:cubicBezTo>
                <a:cubicBezTo>
                  <a:pt x="16991" y="16280"/>
                  <a:pt x="16991" y="16289"/>
                  <a:pt x="16991" y="16297"/>
                </a:cubicBezTo>
              </a:path>
              <a:path w="4565" h="795">
                <a:moveTo>
                  <a:pt x="17090" y="15974"/>
                </a:moveTo>
                <a:cubicBezTo>
                  <a:pt x="17142" y="15974"/>
                  <a:pt x="17304" y="16004"/>
                  <a:pt x="17338" y="15949"/>
                </a:cubicBezTo>
                <a:cubicBezTo>
                  <a:pt x="17338" y="15941"/>
                  <a:pt x="17338" y="15933"/>
                  <a:pt x="17338" y="15925"/>
                </a:cubicBezTo>
                <a:cubicBezTo>
                  <a:pt x="17144" y="15834"/>
                  <a:pt x="17005" y="15949"/>
                  <a:pt x="17041" y="16197"/>
                </a:cubicBezTo>
                <a:cubicBezTo>
                  <a:pt x="17076" y="16435"/>
                  <a:pt x="17270" y="16313"/>
                  <a:pt x="17388" y="16272"/>
                </a:cubicBezTo>
              </a:path>
              <a:path w="4565" h="795">
                <a:moveTo>
                  <a:pt x="17661" y="15900"/>
                </a:moveTo>
                <a:cubicBezTo>
                  <a:pt x="17635" y="15979"/>
                  <a:pt x="17532" y="15875"/>
                  <a:pt x="17462" y="16049"/>
                </a:cubicBezTo>
                <a:cubicBezTo>
                  <a:pt x="17344" y="16344"/>
                  <a:pt x="17581" y="16451"/>
                  <a:pt x="17785" y="16247"/>
                </a:cubicBezTo>
                <a:cubicBezTo>
                  <a:pt x="17888" y="16144"/>
                  <a:pt x="17908" y="15834"/>
                  <a:pt x="17934" y="16049"/>
                </a:cubicBezTo>
                <a:cubicBezTo>
                  <a:pt x="17955" y="16174"/>
                  <a:pt x="17956" y="16200"/>
                  <a:pt x="17983" y="16272"/>
                </a:cubicBezTo>
              </a:path>
              <a:path w="4565" h="795">
                <a:moveTo>
                  <a:pt x="18281" y="16098"/>
                </a:moveTo>
                <a:cubicBezTo>
                  <a:pt x="18301" y="16197"/>
                  <a:pt x="18309" y="16213"/>
                  <a:pt x="18306" y="16272"/>
                </a:cubicBezTo>
                <a:cubicBezTo>
                  <a:pt x="18295" y="16175"/>
                  <a:pt x="18232" y="15943"/>
                  <a:pt x="18355" y="15875"/>
                </a:cubicBezTo>
                <a:cubicBezTo>
                  <a:pt x="18504" y="15793"/>
                  <a:pt x="18564" y="16043"/>
                  <a:pt x="18604" y="16123"/>
                </a:cubicBezTo>
                <a:cubicBezTo>
                  <a:pt x="18654" y="16232"/>
                  <a:pt x="18500" y="15938"/>
                  <a:pt x="18653" y="15875"/>
                </a:cubicBezTo>
                <a:cubicBezTo>
                  <a:pt x="18774" y="15825"/>
                  <a:pt x="18798" y="16145"/>
                  <a:pt x="18802" y="16197"/>
                </a:cubicBezTo>
              </a:path>
              <a:path w="4565" h="795">
                <a:moveTo>
                  <a:pt x="19075" y="15949"/>
                </a:moveTo>
                <a:cubicBezTo>
                  <a:pt x="18888" y="16007"/>
                  <a:pt x="18837" y="16110"/>
                  <a:pt x="18827" y="16297"/>
                </a:cubicBezTo>
                <a:cubicBezTo>
                  <a:pt x="19106" y="16269"/>
                  <a:pt x="19049" y="16181"/>
                  <a:pt x="19174" y="15974"/>
                </a:cubicBezTo>
                <a:cubicBezTo>
                  <a:pt x="19174" y="15991"/>
                  <a:pt x="19174" y="16007"/>
                  <a:pt x="19174" y="16024"/>
                </a:cubicBezTo>
                <a:cubicBezTo>
                  <a:pt x="19191" y="16187"/>
                  <a:pt x="19202" y="16221"/>
                  <a:pt x="19348" y="16173"/>
                </a:cubicBezTo>
              </a:path>
              <a:path w="4565" h="795">
                <a:moveTo>
                  <a:pt x="19273" y="15652"/>
                </a:moveTo>
                <a:cubicBezTo>
                  <a:pt x="19342" y="15858"/>
                  <a:pt x="19428" y="16058"/>
                  <a:pt x="19447" y="16272"/>
                </a:cubicBezTo>
                <a:cubicBezTo>
                  <a:pt x="19447" y="16280"/>
                  <a:pt x="19447" y="16289"/>
                  <a:pt x="19447" y="1629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24840" y="5715000"/>
            <a:ext cx="276120" cy="152280"/>
          </a:xfrm>
          <a:custGeom>
            <a:avLst/>
            <a:gdLst/>
            <a:ahLst/>
            <a:rect l="l" t="t" r="r" b="b"/>
            <a:pathLst>
              <a:path w="770" h="423">
                <a:moveTo>
                  <a:pt x="20067" y="15900"/>
                </a:moveTo>
                <a:cubicBezTo>
                  <a:pt x="20083" y="16047"/>
                  <a:pt x="20106" y="16166"/>
                  <a:pt x="20166" y="16297"/>
                </a:cubicBezTo>
                <a:cubicBezTo>
                  <a:pt x="20323" y="16254"/>
                  <a:pt x="20351" y="16115"/>
                  <a:pt x="20389" y="15949"/>
                </a:cubicBezTo>
                <a:cubicBezTo>
                  <a:pt x="20406" y="15873"/>
                  <a:pt x="20480" y="16136"/>
                  <a:pt x="20489" y="16173"/>
                </a:cubicBezTo>
                <a:cubicBezTo>
                  <a:pt x="20489" y="16181"/>
                  <a:pt x="20489" y="16189"/>
                  <a:pt x="20489" y="16197"/>
                </a:cubicBezTo>
                <a:cubicBezTo>
                  <a:pt x="20489" y="16031"/>
                  <a:pt x="20485" y="15968"/>
                  <a:pt x="20613" y="15875"/>
                </a:cubicBezTo>
                <a:cubicBezTo>
                  <a:pt x="20693" y="15966"/>
                  <a:pt x="20813" y="16074"/>
                  <a:pt x="20836" y="16197"/>
                </a:cubicBezTo>
                <a:cubicBezTo>
                  <a:pt x="20836" y="16205"/>
                  <a:pt x="20836" y="16214"/>
                  <a:pt x="20836" y="1622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4160" y="5670720"/>
            <a:ext cx="465120" cy="241200"/>
          </a:xfrm>
          <a:custGeom>
            <a:avLst/>
            <a:gdLst/>
            <a:ahLst/>
            <a:rect l="l" t="t" r="r" b="b"/>
            <a:pathLst>
              <a:path w="1291" h="671">
                <a:moveTo>
                  <a:pt x="21208" y="15875"/>
                </a:moveTo>
                <a:cubicBezTo>
                  <a:pt x="21225" y="15971"/>
                  <a:pt x="21259" y="16038"/>
                  <a:pt x="21307" y="16123"/>
                </a:cubicBezTo>
                <a:cubicBezTo>
                  <a:pt x="21290" y="16022"/>
                  <a:pt x="21282" y="15930"/>
                  <a:pt x="21282" y="15825"/>
                </a:cubicBezTo>
                <a:cubicBezTo>
                  <a:pt x="21472" y="15826"/>
                  <a:pt x="21513" y="15945"/>
                  <a:pt x="21654" y="16049"/>
                </a:cubicBezTo>
                <a:cubicBezTo>
                  <a:pt x="21654" y="16041"/>
                  <a:pt x="21654" y="16032"/>
                  <a:pt x="21654" y="16024"/>
                </a:cubicBezTo>
                <a:cubicBezTo>
                  <a:pt x="21637" y="15903"/>
                  <a:pt x="21630" y="15880"/>
                  <a:pt x="21704" y="15776"/>
                </a:cubicBezTo>
                <a:cubicBezTo>
                  <a:pt x="21806" y="15851"/>
                  <a:pt x="21830" y="16082"/>
                  <a:pt x="21952" y="16049"/>
                </a:cubicBezTo>
                <a:cubicBezTo>
                  <a:pt x="21969" y="16032"/>
                  <a:pt x="21985" y="16016"/>
                  <a:pt x="22002" y="15999"/>
                </a:cubicBezTo>
              </a:path>
              <a:path w="1291" h="671">
                <a:moveTo>
                  <a:pt x="22101" y="15801"/>
                </a:moveTo>
                <a:cubicBezTo>
                  <a:pt x="22114" y="15894"/>
                  <a:pt x="22167" y="16168"/>
                  <a:pt x="22324" y="15974"/>
                </a:cubicBezTo>
                <a:cubicBezTo>
                  <a:pt x="22352" y="15892"/>
                  <a:pt x="22362" y="15860"/>
                  <a:pt x="22374" y="15801"/>
                </a:cubicBezTo>
                <a:cubicBezTo>
                  <a:pt x="22287" y="15712"/>
                  <a:pt x="22500" y="16103"/>
                  <a:pt x="22498" y="16197"/>
                </a:cubicBezTo>
                <a:cubicBezTo>
                  <a:pt x="22492" y="16500"/>
                  <a:pt x="22208" y="16415"/>
                  <a:pt x="22027" y="1637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07080" y="6249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355" y="17363"/>
                </a:moveTo>
                <a:lnTo>
                  <a:pt x="18355" y="17363"/>
                </a:lnTo>
                <a:lnTo>
                  <a:pt x="18355" y="17363"/>
                </a:ln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22960" y="6010200"/>
            <a:ext cx="1204920" cy="320760"/>
          </a:xfrm>
          <a:custGeom>
            <a:avLst/>
            <a:gdLst/>
            <a:ahLst/>
            <a:rect l="l" t="t" r="r" b="b"/>
            <a:pathLst>
              <a:path w="3349" h="894">
                <a:moveTo>
                  <a:pt x="14982" y="16966"/>
                </a:moveTo>
                <a:cubicBezTo>
                  <a:pt x="15042" y="17168"/>
                  <a:pt x="15114" y="17352"/>
                  <a:pt x="15131" y="17562"/>
                </a:cubicBezTo>
                <a:cubicBezTo>
                  <a:pt x="15131" y="17587"/>
                  <a:pt x="15131" y="17595"/>
                  <a:pt x="15131" y="17562"/>
                </a:cubicBezTo>
              </a:path>
              <a:path w="3349" h="894">
                <a:moveTo>
                  <a:pt x="14784" y="16966"/>
                </a:moveTo>
                <a:cubicBezTo>
                  <a:pt x="14921" y="16958"/>
                  <a:pt x="15481" y="16873"/>
                  <a:pt x="15453" y="17165"/>
                </a:cubicBezTo>
                <a:cubicBezTo>
                  <a:pt x="15436" y="17338"/>
                  <a:pt x="15170" y="17320"/>
                  <a:pt x="15081" y="17289"/>
                </a:cubicBezTo>
                <a:cubicBezTo>
                  <a:pt x="15081" y="17179"/>
                  <a:pt x="15110" y="17135"/>
                  <a:pt x="15230" y="17115"/>
                </a:cubicBezTo>
              </a:path>
              <a:path w="3349" h="894">
                <a:moveTo>
                  <a:pt x="15652" y="17140"/>
                </a:moveTo>
                <a:cubicBezTo>
                  <a:pt x="15698" y="17218"/>
                  <a:pt x="15701" y="17197"/>
                  <a:pt x="15701" y="17264"/>
                </a:cubicBezTo>
                <a:cubicBezTo>
                  <a:pt x="15678" y="17094"/>
                  <a:pt x="15704" y="17055"/>
                  <a:pt x="15875" y="16991"/>
                </a:cubicBezTo>
                <a:cubicBezTo>
                  <a:pt x="16023" y="16949"/>
                  <a:pt x="16054" y="16933"/>
                  <a:pt x="16148" y="16942"/>
                </a:cubicBezTo>
                <a:cubicBezTo>
                  <a:pt x="16148" y="17074"/>
                  <a:pt x="16053" y="17146"/>
                  <a:pt x="16049" y="17289"/>
                </a:cubicBezTo>
                <a:cubicBezTo>
                  <a:pt x="16057" y="17314"/>
                  <a:pt x="16065" y="17338"/>
                  <a:pt x="16073" y="17363"/>
                </a:cubicBezTo>
                <a:cubicBezTo>
                  <a:pt x="16232" y="17347"/>
                  <a:pt x="16464" y="17320"/>
                  <a:pt x="16371" y="17090"/>
                </a:cubicBezTo>
                <a:cubicBezTo>
                  <a:pt x="16324" y="16974"/>
                  <a:pt x="16246" y="16980"/>
                  <a:pt x="16148" y="16942"/>
                </a:cubicBezTo>
              </a:path>
              <a:path w="3349" h="894">
                <a:moveTo>
                  <a:pt x="16644" y="17066"/>
                </a:moveTo>
                <a:cubicBezTo>
                  <a:pt x="16522" y="16944"/>
                  <a:pt x="16384" y="16988"/>
                  <a:pt x="16297" y="17165"/>
                </a:cubicBezTo>
                <a:cubicBezTo>
                  <a:pt x="16289" y="17215"/>
                  <a:pt x="16280" y="17264"/>
                  <a:pt x="16272" y="17314"/>
                </a:cubicBezTo>
                <a:cubicBezTo>
                  <a:pt x="16460" y="17408"/>
                  <a:pt x="16689" y="17421"/>
                  <a:pt x="16694" y="17115"/>
                </a:cubicBezTo>
                <a:cubicBezTo>
                  <a:pt x="16647" y="16953"/>
                  <a:pt x="16637" y="16906"/>
                  <a:pt x="16570" y="16818"/>
                </a:cubicBezTo>
                <a:cubicBezTo>
                  <a:pt x="16570" y="16706"/>
                  <a:pt x="16606" y="16936"/>
                  <a:pt x="16644" y="17041"/>
                </a:cubicBezTo>
                <a:cubicBezTo>
                  <a:pt x="16710" y="17195"/>
                  <a:pt x="16731" y="17233"/>
                  <a:pt x="16743" y="17338"/>
                </a:cubicBezTo>
              </a:path>
              <a:path w="3349" h="894">
                <a:moveTo>
                  <a:pt x="16818" y="16966"/>
                </a:moveTo>
                <a:cubicBezTo>
                  <a:pt x="16833" y="17079"/>
                  <a:pt x="16860" y="17313"/>
                  <a:pt x="17016" y="17338"/>
                </a:cubicBezTo>
                <a:cubicBezTo>
                  <a:pt x="17209" y="17369"/>
                  <a:pt x="17206" y="17134"/>
                  <a:pt x="17214" y="17016"/>
                </a:cubicBezTo>
                <a:cubicBezTo>
                  <a:pt x="17214" y="17165"/>
                  <a:pt x="17194" y="17315"/>
                  <a:pt x="17388" y="17338"/>
                </a:cubicBezTo>
                <a:cubicBezTo>
                  <a:pt x="17523" y="17312"/>
                  <a:pt x="17573" y="17297"/>
                  <a:pt x="17636" y="17214"/>
                </a:cubicBezTo>
              </a:path>
              <a:path w="3349" h="894">
                <a:moveTo>
                  <a:pt x="17661" y="17066"/>
                </a:moveTo>
                <a:cubicBezTo>
                  <a:pt x="17630" y="17024"/>
                  <a:pt x="17590" y="16948"/>
                  <a:pt x="17512" y="16991"/>
                </a:cubicBezTo>
                <a:cubicBezTo>
                  <a:pt x="17345" y="17082"/>
                  <a:pt x="17402" y="17403"/>
                  <a:pt x="17611" y="17388"/>
                </a:cubicBezTo>
                <a:cubicBezTo>
                  <a:pt x="17786" y="17313"/>
                  <a:pt x="17845" y="17287"/>
                  <a:pt x="17909" y="17165"/>
                </a:cubicBezTo>
              </a:path>
              <a:path w="3349" h="894">
                <a:moveTo>
                  <a:pt x="17884" y="16718"/>
                </a:moveTo>
                <a:cubicBezTo>
                  <a:pt x="17884" y="16724"/>
                  <a:pt x="17956" y="17055"/>
                  <a:pt x="17983" y="17140"/>
                </a:cubicBezTo>
                <a:cubicBezTo>
                  <a:pt x="18019" y="17230"/>
                  <a:pt x="18036" y="17235"/>
                  <a:pt x="18033" y="17289"/>
                </a:cubicBezTo>
              </a:path>
              <a:path w="3349" h="894">
                <a:moveTo>
                  <a:pt x="17562" y="16991"/>
                </a:moveTo>
                <a:cubicBezTo>
                  <a:pt x="17742" y="16965"/>
                  <a:pt x="17926" y="16928"/>
                  <a:pt x="18107" y="16917"/>
                </a:cubicBezTo>
                <a:cubicBezTo>
                  <a:pt x="18115" y="16917"/>
                  <a:pt x="18124" y="16917"/>
                  <a:pt x="18132" y="1691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60800" y="3089160"/>
            <a:ext cx="214200" cy="162000"/>
          </a:xfrm>
          <a:custGeom>
            <a:avLst/>
            <a:gdLst/>
            <a:ahLst/>
            <a:rect l="l" t="t" r="r" b="b"/>
            <a:pathLst>
              <a:path w="596" h="448">
                <a:moveTo>
                  <a:pt x="9277" y="8582"/>
                </a:moveTo>
                <a:cubicBezTo>
                  <a:pt x="9151" y="8629"/>
                  <a:pt x="9156" y="8723"/>
                  <a:pt x="9178" y="8855"/>
                </a:cubicBezTo>
                <a:cubicBezTo>
                  <a:pt x="9228" y="8842"/>
                  <a:pt x="9522" y="8672"/>
                  <a:pt x="9327" y="8607"/>
                </a:cubicBezTo>
                <a:cubicBezTo>
                  <a:pt x="9286" y="8607"/>
                  <a:pt x="9244" y="8607"/>
                  <a:pt x="9203" y="8607"/>
                </a:cubicBezTo>
              </a:path>
              <a:path w="596" h="448">
                <a:moveTo>
                  <a:pt x="8781" y="8731"/>
                </a:moveTo>
                <a:cubicBezTo>
                  <a:pt x="8829" y="8828"/>
                  <a:pt x="8845" y="8858"/>
                  <a:pt x="8855" y="8930"/>
                </a:cubicBezTo>
              </a:path>
              <a:path w="596" h="448">
                <a:moveTo>
                  <a:pt x="8781" y="9029"/>
                </a:moveTo>
                <a:cubicBezTo>
                  <a:pt x="8953" y="8942"/>
                  <a:pt x="9026" y="8907"/>
                  <a:pt x="9153" y="885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7920" y="2751120"/>
            <a:ext cx="384120" cy="266760"/>
          </a:xfrm>
          <a:custGeom>
            <a:avLst/>
            <a:gdLst/>
            <a:ahLst/>
            <a:rect l="l" t="t" r="r" b="b"/>
            <a:pathLst>
              <a:path w="1067" h="745">
                <a:moveTo>
                  <a:pt x="6573" y="7813"/>
                </a:moveTo>
                <a:cubicBezTo>
                  <a:pt x="6676" y="7696"/>
                  <a:pt x="6844" y="7676"/>
                  <a:pt x="6871" y="7888"/>
                </a:cubicBezTo>
                <a:cubicBezTo>
                  <a:pt x="6901" y="8124"/>
                  <a:pt x="6705" y="8228"/>
                  <a:pt x="6524" y="8260"/>
                </a:cubicBezTo>
                <a:cubicBezTo>
                  <a:pt x="6524" y="8121"/>
                  <a:pt x="6595" y="8064"/>
                  <a:pt x="6747" y="8086"/>
                </a:cubicBezTo>
                <a:cubicBezTo>
                  <a:pt x="6955" y="8116"/>
                  <a:pt x="6942" y="8215"/>
                  <a:pt x="6970" y="8384"/>
                </a:cubicBezTo>
                <a:cubicBezTo>
                  <a:pt x="6970" y="8376"/>
                  <a:pt x="6970" y="8367"/>
                  <a:pt x="6970" y="8359"/>
                </a:cubicBezTo>
              </a:path>
              <a:path w="1067" h="745">
                <a:moveTo>
                  <a:pt x="7565" y="7640"/>
                </a:moveTo>
                <a:cubicBezTo>
                  <a:pt x="7456" y="7659"/>
                  <a:pt x="7356" y="7685"/>
                  <a:pt x="7243" y="7689"/>
                </a:cubicBezTo>
                <a:cubicBezTo>
                  <a:pt x="7138" y="7693"/>
                  <a:pt x="7162" y="7893"/>
                  <a:pt x="7144" y="7987"/>
                </a:cubicBezTo>
                <a:cubicBezTo>
                  <a:pt x="7144" y="7995"/>
                  <a:pt x="7144" y="8004"/>
                  <a:pt x="7144" y="8012"/>
                </a:cubicBezTo>
                <a:cubicBezTo>
                  <a:pt x="7283" y="7928"/>
                  <a:pt x="7389" y="7819"/>
                  <a:pt x="7541" y="7962"/>
                </a:cubicBezTo>
                <a:cubicBezTo>
                  <a:pt x="7725" y="8135"/>
                  <a:pt x="7478" y="8341"/>
                  <a:pt x="7317" y="8359"/>
                </a:cubicBezTo>
                <a:cubicBezTo>
                  <a:pt x="7243" y="8340"/>
                  <a:pt x="7236" y="8332"/>
                  <a:pt x="7193" y="833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7200" y="3214800"/>
            <a:ext cx="250920" cy="277560"/>
          </a:xfrm>
          <a:custGeom>
            <a:avLst/>
            <a:gdLst/>
            <a:ahLst/>
            <a:rect l="l" t="t" r="r" b="b"/>
            <a:pathLst>
              <a:path w="695" h="770">
                <a:moveTo>
                  <a:pt x="7565" y="8930"/>
                </a:moveTo>
                <a:cubicBezTo>
                  <a:pt x="7373" y="8930"/>
                  <a:pt x="7254" y="9005"/>
                  <a:pt x="7094" y="9103"/>
                </a:cubicBezTo>
                <a:cubicBezTo>
                  <a:pt x="7069" y="9120"/>
                  <a:pt x="7045" y="9136"/>
                  <a:pt x="7020" y="9153"/>
                </a:cubicBezTo>
                <a:cubicBezTo>
                  <a:pt x="7155" y="9243"/>
                  <a:pt x="7564" y="9326"/>
                  <a:pt x="7466" y="9575"/>
                </a:cubicBezTo>
                <a:cubicBezTo>
                  <a:pt x="7354" y="9687"/>
                  <a:pt x="7330" y="9728"/>
                  <a:pt x="7218" y="9699"/>
                </a:cubicBezTo>
                <a:cubicBezTo>
                  <a:pt x="7218" y="9378"/>
                  <a:pt x="7373" y="9289"/>
                  <a:pt x="7541" y="9029"/>
                </a:cubicBezTo>
                <a:cubicBezTo>
                  <a:pt x="7632" y="8888"/>
                  <a:pt x="7515" y="9006"/>
                  <a:pt x="7491" y="9054"/>
                </a:cubicBezTo>
              </a:path>
              <a:path w="695" h="770">
                <a:moveTo>
                  <a:pt x="7689" y="9599"/>
                </a:moveTo>
                <a:cubicBezTo>
                  <a:pt x="7682" y="9613"/>
                  <a:pt x="7678" y="9639"/>
                  <a:pt x="7689" y="9624"/>
                </a:cubicBezTo>
                <a:cubicBezTo>
                  <a:pt x="7689" y="9616"/>
                  <a:pt x="7689" y="9607"/>
                  <a:pt x="7689" y="9599"/>
                </a:cubicBezTo>
                <a:cubicBezTo>
                  <a:pt x="7682" y="9637"/>
                  <a:pt x="7658" y="9717"/>
                  <a:pt x="7689" y="9649"/>
                </a:cubicBezTo>
                <a:cubicBezTo>
                  <a:pt x="7752" y="9512"/>
                  <a:pt x="7664" y="9648"/>
                  <a:pt x="7665" y="9649"/>
                </a:cubicBezTo>
                <a:cubicBezTo>
                  <a:pt x="7696" y="9713"/>
                  <a:pt x="7733" y="9540"/>
                  <a:pt x="7689" y="9599"/>
                </a:cubicBezTo>
                <a:cubicBezTo>
                  <a:pt x="7669" y="9626"/>
                  <a:pt x="7714" y="9600"/>
                  <a:pt x="7714" y="962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19120" y="3295800"/>
            <a:ext cx="117720" cy="177480"/>
          </a:xfrm>
          <a:custGeom>
            <a:avLst/>
            <a:gdLst/>
            <a:ahLst/>
            <a:rect l="l" t="t" r="r" b="b"/>
            <a:pathLst>
              <a:path w="323" h="497">
                <a:moveTo>
                  <a:pt x="3944" y="9153"/>
                </a:moveTo>
                <a:cubicBezTo>
                  <a:pt x="4034" y="9307"/>
                  <a:pt x="4141" y="9453"/>
                  <a:pt x="4242" y="9599"/>
                </a:cubicBezTo>
                <a:cubicBezTo>
                  <a:pt x="4269" y="9638"/>
                  <a:pt x="4266" y="9680"/>
                  <a:pt x="4266" y="959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4840" y="3276720"/>
            <a:ext cx="214200" cy="196560"/>
          </a:xfrm>
          <a:custGeom>
            <a:avLst/>
            <a:gdLst/>
            <a:ahLst/>
            <a:rect l="l" t="t" r="r" b="b"/>
            <a:pathLst>
              <a:path w="596" h="547">
                <a:moveTo>
                  <a:pt x="4415" y="9103"/>
                </a:moveTo>
                <a:cubicBezTo>
                  <a:pt x="4241" y="9231"/>
                  <a:pt x="4107" y="9406"/>
                  <a:pt x="3944" y="9550"/>
                </a:cubicBezTo>
                <a:cubicBezTo>
                  <a:pt x="3896" y="9592"/>
                  <a:pt x="3856" y="9637"/>
                  <a:pt x="3820" y="964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04920" y="3581280"/>
            <a:ext cx="1670040" cy="61920"/>
          </a:xfrm>
          <a:custGeom>
            <a:avLst/>
            <a:gdLst/>
            <a:ahLst/>
            <a:rect l="l" t="t" r="r" b="b"/>
            <a:pathLst>
              <a:path w="4639" h="174">
                <a:moveTo>
                  <a:pt x="3349" y="10071"/>
                </a:moveTo>
                <a:cubicBezTo>
                  <a:pt x="3428" y="10044"/>
                  <a:pt x="3604" y="10032"/>
                  <a:pt x="3721" y="10021"/>
                </a:cubicBezTo>
                <a:cubicBezTo>
                  <a:pt x="4024" y="9994"/>
                  <a:pt x="4334" y="9977"/>
                  <a:pt x="4638" y="9971"/>
                </a:cubicBezTo>
                <a:cubicBezTo>
                  <a:pt x="4773" y="9968"/>
                  <a:pt x="4899" y="9947"/>
                  <a:pt x="5035" y="9947"/>
                </a:cubicBezTo>
                <a:cubicBezTo>
                  <a:pt x="5285" y="9947"/>
                  <a:pt x="5532" y="9956"/>
                  <a:pt x="5779" y="9971"/>
                </a:cubicBezTo>
                <a:cubicBezTo>
                  <a:pt x="5993" y="9984"/>
                  <a:pt x="6210" y="9992"/>
                  <a:pt x="6424" y="9996"/>
                </a:cubicBezTo>
                <a:cubicBezTo>
                  <a:pt x="6613" y="9999"/>
                  <a:pt x="6808" y="10021"/>
                  <a:pt x="6995" y="10046"/>
                </a:cubicBezTo>
                <a:cubicBezTo>
                  <a:pt x="7153" y="10067"/>
                  <a:pt x="7306" y="10091"/>
                  <a:pt x="7466" y="10096"/>
                </a:cubicBezTo>
                <a:cubicBezTo>
                  <a:pt x="7625" y="10101"/>
                  <a:pt x="7842" y="10097"/>
                  <a:pt x="7962" y="10120"/>
                </a:cubicBezTo>
                <a:cubicBezTo>
                  <a:pt x="7970" y="10120"/>
                  <a:pt x="7979" y="10120"/>
                  <a:pt x="7987" y="1012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57240" y="2795760"/>
            <a:ext cx="214560" cy="249120"/>
          </a:xfrm>
          <a:custGeom>
            <a:avLst/>
            <a:gdLst/>
            <a:ahLst/>
            <a:rect l="l" t="t" r="r" b="b"/>
            <a:pathLst>
              <a:path w="597" h="695">
                <a:moveTo>
                  <a:pt x="5581" y="7863"/>
                </a:moveTo>
                <a:cubicBezTo>
                  <a:pt x="5564" y="7888"/>
                  <a:pt x="5548" y="7913"/>
                  <a:pt x="5531" y="7938"/>
                </a:cubicBezTo>
                <a:cubicBezTo>
                  <a:pt x="5476" y="7861"/>
                  <a:pt x="5567" y="7666"/>
                  <a:pt x="5705" y="7789"/>
                </a:cubicBezTo>
                <a:cubicBezTo>
                  <a:pt x="5932" y="7992"/>
                  <a:pt x="5574" y="8352"/>
                  <a:pt x="5407" y="8434"/>
                </a:cubicBezTo>
                <a:cubicBezTo>
                  <a:pt x="5255" y="8508"/>
                  <a:pt x="5199" y="8458"/>
                  <a:pt x="5159" y="8359"/>
                </a:cubicBezTo>
                <a:cubicBezTo>
                  <a:pt x="5307" y="8246"/>
                  <a:pt x="5456" y="8209"/>
                  <a:pt x="5606" y="8334"/>
                </a:cubicBezTo>
                <a:cubicBezTo>
                  <a:pt x="5656" y="8385"/>
                  <a:pt x="5672" y="8403"/>
                  <a:pt x="5655" y="845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7080" y="2982960"/>
            <a:ext cx="1764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6102" y="8285"/>
                </a:moveTo>
                <a:cubicBezTo>
                  <a:pt x="6102" y="8320"/>
                  <a:pt x="6111" y="8324"/>
                  <a:pt x="6152" y="828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76680" y="348300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7739" y="9674"/>
                </a:moveTo>
                <a:cubicBezTo>
                  <a:pt x="7714" y="9674"/>
                  <a:pt x="7706" y="9674"/>
                  <a:pt x="7714" y="969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71840" y="3741840"/>
            <a:ext cx="179280" cy="223560"/>
          </a:xfrm>
          <a:custGeom>
            <a:avLst/>
            <a:gdLst/>
            <a:ahLst/>
            <a:rect l="l" t="t" r="r" b="b"/>
            <a:pathLst>
              <a:path w="497" h="621">
                <a:moveTo>
                  <a:pt x="7466" y="10443"/>
                </a:moveTo>
                <a:cubicBezTo>
                  <a:pt x="7453" y="10391"/>
                  <a:pt x="7374" y="10360"/>
                  <a:pt x="7317" y="10393"/>
                </a:cubicBezTo>
                <a:cubicBezTo>
                  <a:pt x="7174" y="10476"/>
                  <a:pt x="7111" y="10712"/>
                  <a:pt x="7144" y="10864"/>
                </a:cubicBezTo>
                <a:cubicBezTo>
                  <a:pt x="7178" y="11019"/>
                  <a:pt x="7338" y="11052"/>
                  <a:pt x="7466" y="10988"/>
                </a:cubicBezTo>
                <a:cubicBezTo>
                  <a:pt x="7600" y="10921"/>
                  <a:pt x="7659" y="10786"/>
                  <a:pt x="7640" y="10641"/>
                </a:cubicBezTo>
                <a:cubicBezTo>
                  <a:pt x="7627" y="10539"/>
                  <a:pt x="7533" y="10487"/>
                  <a:pt x="7441" y="10468"/>
                </a:cubicBezTo>
                <a:cubicBezTo>
                  <a:pt x="7425" y="10468"/>
                  <a:pt x="7408" y="10468"/>
                  <a:pt x="7392" y="1046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5360" y="2500200"/>
            <a:ext cx="106560" cy="81000"/>
          </a:xfrm>
          <a:custGeom>
            <a:avLst/>
            <a:gdLst/>
            <a:ahLst/>
            <a:rect l="l" t="t" r="r" b="b"/>
            <a:pathLst>
              <a:path w="298" h="225">
                <a:moveTo>
                  <a:pt x="6474" y="6970"/>
                </a:moveTo>
                <a:cubicBezTo>
                  <a:pt x="6474" y="6917"/>
                  <a:pt x="6422" y="7116"/>
                  <a:pt x="6400" y="7144"/>
                </a:cubicBezTo>
                <a:cubicBezTo>
                  <a:pt x="6375" y="7144"/>
                  <a:pt x="6367" y="7144"/>
                  <a:pt x="6375" y="7169"/>
                </a:cubicBezTo>
                <a:cubicBezTo>
                  <a:pt x="6423" y="7165"/>
                  <a:pt x="6616" y="7173"/>
                  <a:pt x="6648" y="7144"/>
                </a:cubicBezTo>
                <a:cubicBezTo>
                  <a:pt x="6656" y="7127"/>
                  <a:pt x="6664" y="7111"/>
                  <a:pt x="6672" y="709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94000" y="2428920"/>
            <a:ext cx="7920" cy="241200"/>
          </a:xfrm>
          <a:custGeom>
            <a:avLst/>
            <a:gdLst/>
            <a:ahLst/>
            <a:rect l="l" t="t" r="r" b="b"/>
            <a:pathLst>
              <a:path w="25" h="671">
                <a:moveTo>
                  <a:pt x="6672" y="6747"/>
                </a:moveTo>
                <a:cubicBezTo>
                  <a:pt x="6672" y="6897"/>
                  <a:pt x="6651" y="7042"/>
                  <a:pt x="6648" y="7193"/>
                </a:cubicBezTo>
                <a:cubicBezTo>
                  <a:pt x="6647" y="7268"/>
                  <a:pt x="6648" y="7342"/>
                  <a:pt x="6648" y="741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59000" y="3724200"/>
            <a:ext cx="196920" cy="276480"/>
          </a:xfrm>
          <a:custGeom>
            <a:avLst/>
            <a:gdLst/>
            <a:ahLst/>
            <a:rect l="l" t="t" r="r" b="b"/>
            <a:pathLst>
              <a:path w="546" h="769">
                <a:moveTo>
                  <a:pt x="6598" y="10344"/>
                </a:moveTo>
                <a:cubicBezTo>
                  <a:pt x="6493" y="10385"/>
                  <a:pt x="6400" y="10511"/>
                  <a:pt x="6350" y="10616"/>
                </a:cubicBezTo>
                <a:cubicBezTo>
                  <a:pt x="6284" y="10756"/>
                  <a:pt x="6210" y="10977"/>
                  <a:pt x="6350" y="11088"/>
                </a:cubicBezTo>
                <a:cubicBezTo>
                  <a:pt x="6433" y="11154"/>
                  <a:pt x="6635" y="11044"/>
                  <a:pt x="6697" y="10988"/>
                </a:cubicBezTo>
                <a:cubicBezTo>
                  <a:pt x="6785" y="10908"/>
                  <a:pt x="6864" y="10763"/>
                  <a:pt x="6821" y="10641"/>
                </a:cubicBezTo>
                <a:cubicBezTo>
                  <a:pt x="6794" y="10565"/>
                  <a:pt x="6690" y="10463"/>
                  <a:pt x="6623" y="10418"/>
                </a:cubicBezTo>
                <a:cubicBezTo>
                  <a:pt x="6582" y="10398"/>
                  <a:pt x="6576" y="10389"/>
                  <a:pt x="6548" y="1039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0240" y="2463840"/>
            <a:ext cx="214560" cy="179280"/>
          </a:xfrm>
          <a:custGeom>
            <a:avLst/>
            <a:gdLst/>
            <a:ahLst/>
            <a:rect l="l" t="t" r="r" b="b"/>
            <a:pathLst>
              <a:path w="596" h="497">
                <a:moveTo>
                  <a:pt x="5333" y="6871"/>
                </a:moveTo>
                <a:cubicBezTo>
                  <a:pt x="5301" y="6893"/>
                  <a:pt x="5305" y="6907"/>
                  <a:pt x="5259" y="6945"/>
                </a:cubicBezTo>
                <a:cubicBezTo>
                  <a:pt x="5240" y="6918"/>
                  <a:pt x="5263" y="6857"/>
                  <a:pt x="5333" y="6846"/>
                </a:cubicBezTo>
                <a:cubicBezTo>
                  <a:pt x="5552" y="6813"/>
                  <a:pt x="5428" y="7136"/>
                  <a:pt x="5358" y="7218"/>
                </a:cubicBezTo>
                <a:cubicBezTo>
                  <a:pt x="5305" y="7280"/>
                  <a:pt x="5108" y="7428"/>
                  <a:pt x="5085" y="7293"/>
                </a:cubicBezTo>
                <a:cubicBezTo>
                  <a:pt x="5111" y="7162"/>
                  <a:pt x="5215" y="7142"/>
                  <a:pt x="5358" y="7193"/>
                </a:cubicBezTo>
                <a:cubicBezTo>
                  <a:pt x="5458" y="7228"/>
                  <a:pt x="5458" y="7297"/>
                  <a:pt x="5581" y="7268"/>
                </a:cubicBezTo>
                <a:cubicBezTo>
                  <a:pt x="5631" y="7243"/>
                  <a:pt x="5647" y="7235"/>
                  <a:pt x="5680" y="721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7960" y="3705120"/>
            <a:ext cx="19080" cy="376200"/>
          </a:xfrm>
          <a:custGeom>
            <a:avLst/>
            <a:gdLst/>
            <a:ahLst/>
            <a:rect l="l" t="t" r="r" b="b"/>
            <a:pathLst>
              <a:path w="51" h="1043">
                <a:moveTo>
                  <a:pt x="4663" y="10344"/>
                </a:moveTo>
                <a:cubicBezTo>
                  <a:pt x="4663" y="10218"/>
                  <a:pt x="4707" y="10491"/>
                  <a:pt x="4713" y="10616"/>
                </a:cubicBezTo>
                <a:cubicBezTo>
                  <a:pt x="4725" y="10851"/>
                  <a:pt x="4701" y="11079"/>
                  <a:pt x="4688" y="11311"/>
                </a:cubicBezTo>
                <a:cubicBezTo>
                  <a:pt x="4688" y="11319"/>
                  <a:pt x="4688" y="11328"/>
                  <a:pt x="4688" y="1133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30240" y="3732120"/>
            <a:ext cx="206640" cy="285840"/>
          </a:xfrm>
          <a:custGeom>
            <a:avLst/>
            <a:gdLst/>
            <a:ahLst/>
            <a:rect l="l" t="t" r="r" b="b"/>
            <a:pathLst>
              <a:path w="571" h="795">
                <a:moveTo>
                  <a:pt x="5556" y="10393"/>
                </a:moveTo>
                <a:cubicBezTo>
                  <a:pt x="5478" y="10314"/>
                  <a:pt x="5328" y="10421"/>
                  <a:pt x="5234" y="10468"/>
                </a:cubicBezTo>
                <a:cubicBezTo>
                  <a:pt x="5147" y="10511"/>
                  <a:pt x="5123" y="10518"/>
                  <a:pt x="5085" y="10567"/>
                </a:cubicBezTo>
                <a:cubicBezTo>
                  <a:pt x="5199" y="10732"/>
                  <a:pt x="5357" y="10789"/>
                  <a:pt x="5482" y="10939"/>
                </a:cubicBezTo>
                <a:cubicBezTo>
                  <a:pt x="5565" y="11039"/>
                  <a:pt x="5543" y="11140"/>
                  <a:pt x="5407" y="11162"/>
                </a:cubicBezTo>
                <a:cubicBezTo>
                  <a:pt x="5269" y="11184"/>
                  <a:pt x="5134" y="11130"/>
                  <a:pt x="5184" y="10964"/>
                </a:cubicBezTo>
                <a:cubicBezTo>
                  <a:pt x="5221" y="10843"/>
                  <a:pt x="5392" y="10762"/>
                  <a:pt x="5482" y="10691"/>
                </a:cubicBezTo>
                <a:cubicBezTo>
                  <a:pt x="5531" y="10653"/>
                  <a:pt x="5678" y="10557"/>
                  <a:pt x="5655" y="10468"/>
                </a:cubicBezTo>
                <a:cubicBezTo>
                  <a:pt x="5637" y="10398"/>
                  <a:pt x="5578" y="10399"/>
                  <a:pt x="5531" y="1041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5080" y="2795760"/>
            <a:ext cx="144720" cy="1332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8905" y="7863"/>
                </a:moveTo>
                <a:cubicBezTo>
                  <a:pt x="8963" y="7815"/>
                  <a:pt x="9010" y="7793"/>
                  <a:pt x="9079" y="7764"/>
                </a:cubicBezTo>
                <a:cubicBezTo>
                  <a:pt x="9149" y="7890"/>
                  <a:pt x="9104" y="7965"/>
                  <a:pt x="9029" y="8086"/>
                </a:cubicBezTo>
                <a:cubicBezTo>
                  <a:pt x="9004" y="8111"/>
                  <a:pt x="8996" y="8119"/>
                  <a:pt x="9029" y="8136"/>
                </a:cubicBezTo>
                <a:cubicBezTo>
                  <a:pt x="9118" y="8123"/>
                  <a:pt x="9193" y="8076"/>
                  <a:pt x="9277" y="8062"/>
                </a:cubicBezTo>
                <a:cubicBezTo>
                  <a:pt x="9285" y="8062"/>
                  <a:pt x="9294" y="8062"/>
                  <a:pt x="9302" y="806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86080" y="3214800"/>
            <a:ext cx="268200" cy="115920"/>
          </a:xfrm>
          <a:custGeom>
            <a:avLst/>
            <a:gdLst/>
            <a:ahLst/>
            <a:rect l="l" t="t" r="r" b="b"/>
            <a:pathLst>
              <a:path w="745" h="323">
                <a:moveTo>
                  <a:pt x="9128" y="9252"/>
                </a:moveTo>
                <a:cubicBezTo>
                  <a:pt x="9357" y="9129"/>
                  <a:pt x="9565" y="8983"/>
                  <a:pt x="9823" y="8930"/>
                </a:cubicBezTo>
                <a:cubicBezTo>
                  <a:pt x="9839" y="8930"/>
                  <a:pt x="9856" y="8930"/>
                  <a:pt x="9872" y="893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94080" y="3348000"/>
            <a:ext cx="150840" cy="162000"/>
          </a:xfrm>
          <a:custGeom>
            <a:avLst/>
            <a:gdLst/>
            <a:ahLst/>
            <a:rect l="l" t="t" r="r" b="b"/>
            <a:pathLst>
              <a:path w="422" h="447">
                <a:moveTo>
                  <a:pt x="9426" y="9401"/>
                </a:moveTo>
                <a:cubicBezTo>
                  <a:pt x="9518" y="9363"/>
                  <a:pt x="9606" y="9336"/>
                  <a:pt x="9699" y="9302"/>
                </a:cubicBezTo>
                <a:cubicBezTo>
                  <a:pt x="9671" y="9458"/>
                  <a:pt x="9533" y="9585"/>
                  <a:pt x="9500" y="9723"/>
                </a:cubicBezTo>
                <a:cubicBezTo>
                  <a:pt x="9486" y="9781"/>
                  <a:pt x="9817" y="9548"/>
                  <a:pt x="9847" y="952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70160" y="3205080"/>
            <a:ext cx="54000" cy="117720"/>
          </a:xfrm>
          <a:custGeom>
            <a:avLst/>
            <a:gdLst/>
            <a:ahLst/>
            <a:rect l="l" t="t" r="r" b="b"/>
            <a:pathLst>
              <a:path w="149" h="323">
                <a:moveTo>
                  <a:pt x="8806" y="8905"/>
                </a:moveTo>
                <a:cubicBezTo>
                  <a:pt x="8900" y="8962"/>
                  <a:pt x="8929" y="9092"/>
                  <a:pt x="8954" y="9203"/>
                </a:cubicBezTo>
                <a:cubicBezTo>
                  <a:pt x="8954" y="9211"/>
                  <a:pt x="8954" y="9219"/>
                  <a:pt x="8954" y="922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81160" y="3973680"/>
            <a:ext cx="54000" cy="63360"/>
          </a:xfrm>
          <a:custGeom>
            <a:avLst/>
            <a:gdLst/>
            <a:ahLst/>
            <a:rect l="l" t="t" r="r" b="b"/>
            <a:pathLst>
              <a:path w="150" h="175">
                <a:moveTo>
                  <a:pt x="5879" y="11137"/>
                </a:moveTo>
                <a:cubicBezTo>
                  <a:pt x="5807" y="11094"/>
                  <a:pt x="5790" y="11108"/>
                  <a:pt x="5779" y="11187"/>
                </a:cubicBezTo>
                <a:cubicBezTo>
                  <a:pt x="5915" y="11160"/>
                  <a:pt x="5863" y="11038"/>
                  <a:pt x="5829" y="11063"/>
                </a:cubicBezTo>
                <a:cubicBezTo>
                  <a:pt x="5758" y="11115"/>
                  <a:pt x="5773" y="11287"/>
                  <a:pt x="5879" y="11212"/>
                </a:cubicBezTo>
                <a:cubicBezTo>
                  <a:pt x="5954" y="11159"/>
                  <a:pt x="5932" y="11096"/>
                  <a:pt x="5904" y="11038"/>
                </a:cubicBezTo>
                <a:cubicBezTo>
                  <a:pt x="5851" y="11075"/>
                  <a:pt x="5842" y="11072"/>
                  <a:pt x="5829" y="1113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54200" y="4589640"/>
            <a:ext cx="9720" cy="322200"/>
          </a:xfrm>
          <a:custGeom>
            <a:avLst/>
            <a:gdLst/>
            <a:ahLst/>
            <a:rect l="l" t="t" r="r" b="b"/>
            <a:pathLst>
              <a:path w="26" h="894">
                <a:moveTo>
                  <a:pt x="7119" y="12799"/>
                </a:moveTo>
                <a:cubicBezTo>
                  <a:pt x="7036" y="12663"/>
                  <a:pt x="7114" y="13012"/>
                  <a:pt x="7119" y="13171"/>
                </a:cubicBezTo>
                <a:cubicBezTo>
                  <a:pt x="7119" y="13428"/>
                  <a:pt x="7119" y="13486"/>
                  <a:pt x="7119" y="1364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32040" y="4473720"/>
            <a:ext cx="108000" cy="366480"/>
          </a:xfrm>
          <a:custGeom>
            <a:avLst/>
            <a:gdLst/>
            <a:ahLst/>
            <a:rect l="l" t="t" r="r" b="b"/>
            <a:pathLst>
              <a:path w="299" h="1018">
                <a:moveTo>
                  <a:pt x="7838" y="12427"/>
                </a:moveTo>
                <a:cubicBezTo>
                  <a:pt x="7701" y="12608"/>
                  <a:pt x="7498" y="12757"/>
                  <a:pt x="7689" y="12948"/>
                </a:cubicBezTo>
                <a:cubicBezTo>
                  <a:pt x="7897" y="13156"/>
                  <a:pt x="7923" y="13208"/>
                  <a:pt x="7739" y="13444"/>
                </a:cubicBezTo>
                <a:cubicBezTo>
                  <a:pt x="7571" y="13178"/>
                  <a:pt x="7680" y="12937"/>
                  <a:pt x="7789" y="12626"/>
                </a:cubicBezTo>
                <a:cubicBezTo>
                  <a:pt x="7809" y="12585"/>
                  <a:pt x="7817" y="12558"/>
                  <a:pt x="7813" y="1260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14720" y="4367160"/>
            <a:ext cx="992160" cy="758880"/>
          </a:xfrm>
          <a:custGeom>
            <a:avLst/>
            <a:gdLst/>
            <a:ahLst/>
            <a:rect l="l" t="t" r="r" b="b"/>
            <a:pathLst>
              <a:path w="2754" h="2110">
                <a:moveTo>
                  <a:pt x="6722" y="14238"/>
                </a:moveTo>
                <a:cubicBezTo>
                  <a:pt x="7348" y="14142"/>
                  <a:pt x="8003" y="13964"/>
                  <a:pt x="8508" y="13543"/>
                </a:cubicBezTo>
                <a:cubicBezTo>
                  <a:pt x="9024" y="13112"/>
                  <a:pt x="9068" y="12274"/>
                  <a:pt x="8260" y="12129"/>
                </a:cubicBezTo>
                <a:cubicBezTo>
                  <a:pt x="7371" y="11969"/>
                  <a:pt x="6063" y="12549"/>
                  <a:pt x="6152" y="13618"/>
                </a:cubicBezTo>
                <a:cubicBezTo>
                  <a:pt x="6220" y="14434"/>
                  <a:pt x="7142" y="14056"/>
                  <a:pt x="7565" y="1399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 Students will multiplying decimal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28600" y="1181160"/>
            <a:ext cx="861048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Set up the problem by lining up the factors evenly on the right hand side (just like you would with whole numbe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800" spc="-1" strike="noStrike">
                <a:solidFill>
                  <a:srgbClr val="a5080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x  2</a:t>
            </a:r>
            <a:r>
              <a:rPr b="0" lang="en-US" sz="2800" spc="-1" strike="noStrike" u="sng">
                <a:solidFill>
                  <a:srgbClr val="a5080a"/>
                </a:solidFill>
                <a:uFillTx/>
                <a:latin typeface="Times New Roman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 Place the decimals in the problem </a:t>
            </a:r>
            <a:r>
              <a:rPr b="0" lang="en-US" sz="2400" spc="-1" strike="noStrike">
                <a:solidFill>
                  <a:srgbClr val="a5080a"/>
                </a:solidFill>
                <a:latin typeface="Times New Roman"/>
              </a:rPr>
              <a:t>(decimals do not have to line up when multiply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 Multiply as if the decimals are not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 Place decimals by counting how many digits are to the right of the decimals in the entir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75640" y="5527800"/>
            <a:ext cx="598320" cy="401400"/>
          </a:xfrm>
          <a:custGeom>
            <a:avLst/>
            <a:gdLst/>
            <a:ahLst/>
            <a:rect l="l" t="t" r="r" b="b"/>
            <a:pathLst>
              <a:path w="1663" h="1117">
                <a:moveTo>
                  <a:pt x="19100" y="15429"/>
                </a:moveTo>
                <a:cubicBezTo>
                  <a:pt x="19192" y="15406"/>
                  <a:pt x="19256" y="15422"/>
                  <a:pt x="19323" y="15354"/>
                </a:cubicBezTo>
              </a:path>
              <a:path w="1663" h="1117">
                <a:moveTo>
                  <a:pt x="19149" y="15825"/>
                </a:moveTo>
                <a:cubicBezTo>
                  <a:pt x="19500" y="15679"/>
                  <a:pt x="19874" y="15482"/>
                  <a:pt x="20265" y="15503"/>
                </a:cubicBezTo>
                <a:cubicBezTo>
                  <a:pt x="20273" y="15511"/>
                  <a:pt x="20282" y="15520"/>
                  <a:pt x="20290" y="15528"/>
                </a:cubicBezTo>
              </a:path>
              <a:path w="1663" h="1117">
                <a:moveTo>
                  <a:pt x="19670" y="16421"/>
                </a:moveTo>
                <a:cubicBezTo>
                  <a:pt x="20087" y="16453"/>
                  <a:pt x="20446" y="16377"/>
                  <a:pt x="20687" y="15974"/>
                </a:cubicBezTo>
                <a:cubicBezTo>
                  <a:pt x="20761" y="15731"/>
                  <a:pt x="20788" y="15652"/>
                  <a:pt x="20662" y="15503"/>
                </a:cubicBezTo>
                <a:cubicBezTo>
                  <a:pt x="19958" y="15476"/>
                  <a:pt x="19794" y="15701"/>
                  <a:pt x="19546" y="1634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86280" y="5205240"/>
            <a:ext cx="1800" cy="277920"/>
          </a:xfrm>
          <a:custGeom>
            <a:avLst/>
            <a:gdLst/>
            <a:ahLst/>
            <a:rect l="l" t="t" r="r" b="b"/>
            <a:pathLst>
              <a:path w="1" h="770">
                <a:moveTo>
                  <a:pt x="16073" y="14461"/>
                </a:moveTo>
                <a:cubicBezTo>
                  <a:pt x="16073" y="14717"/>
                  <a:pt x="16073" y="14974"/>
                  <a:pt x="16073" y="1523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02200" y="5180040"/>
            <a:ext cx="142920" cy="285840"/>
          </a:xfrm>
          <a:custGeom>
            <a:avLst/>
            <a:gdLst/>
            <a:ahLst/>
            <a:rect l="l" t="t" r="r" b="b"/>
            <a:pathLst>
              <a:path w="398" h="794">
                <a:moveTo>
                  <a:pt x="16793" y="14412"/>
                </a:moveTo>
                <a:cubicBezTo>
                  <a:pt x="16743" y="14362"/>
                  <a:pt x="16539" y="14411"/>
                  <a:pt x="16470" y="14461"/>
                </a:cubicBezTo>
                <a:cubicBezTo>
                  <a:pt x="16445" y="14494"/>
                  <a:pt x="16421" y="14527"/>
                  <a:pt x="16396" y="14560"/>
                </a:cubicBezTo>
                <a:cubicBezTo>
                  <a:pt x="16467" y="14727"/>
                  <a:pt x="16708" y="14806"/>
                  <a:pt x="16743" y="15007"/>
                </a:cubicBezTo>
                <a:cubicBezTo>
                  <a:pt x="16770" y="15162"/>
                  <a:pt x="16611" y="15163"/>
                  <a:pt x="16520" y="15180"/>
                </a:cubicBezTo>
                <a:cubicBezTo>
                  <a:pt x="16459" y="14961"/>
                  <a:pt x="16539" y="14828"/>
                  <a:pt x="16619" y="14610"/>
                </a:cubicBezTo>
                <a:cubicBezTo>
                  <a:pt x="16627" y="14585"/>
                  <a:pt x="16636" y="14561"/>
                  <a:pt x="16644" y="1453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16760" y="5438880"/>
            <a:ext cx="1440" cy="44280"/>
          </a:xfrm>
          <a:custGeom>
            <a:avLst/>
            <a:gdLst/>
            <a:ahLst/>
            <a:rect l="l" t="t" r="r" b="b"/>
            <a:pathLst>
              <a:path w="1" h="125">
                <a:moveTo>
                  <a:pt x="16991" y="15106"/>
                </a:moveTo>
                <a:cubicBezTo>
                  <a:pt x="16991" y="15147"/>
                  <a:pt x="16991" y="15189"/>
                  <a:pt x="16991" y="1523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05680" y="5241960"/>
            <a:ext cx="152280" cy="81000"/>
          </a:xfrm>
          <a:custGeom>
            <a:avLst/>
            <a:gdLst/>
            <a:ahLst/>
            <a:rect l="l" t="t" r="r" b="b"/>
            <a:pathLst>
              <a:path w="423" h="225">
                <a:moveTo>
                  <a:pt x="17338" y="14585"/>
                </a:moveTo>
                <a:cubicBezTo>
                  <a:pt x="17338" y="14521"/>
                  <a:pt x="17260" y="14736"/>
                  <a:pt x="17239" y="14784"/>
                </a:cubicBezTo>
                <a:cubicBezTo>
                  <a:pt x="17384" y="14777"/>
                  <a:pt x="17518" y="14760"/>
                  <a:pt x="17661" y="1473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13320" y="5180040"/>
            <a:ext cx="17640" cy="285840"/>
          </a:xfrm>
          <a:custGeom>
            <a:avLst/>
            <a:gdLst/>
            <a:ahLst/>
            <a:rect l="l" t="t" r="r" b="b"/>
            <a:pathLst>
              <a:path w="51" h="794">
                <a:moveTo>
                  <a:pt x="17562" y="14387"/>
                </a:moveTo>
                <a:cubicBezTo>
                  <a:pt x="17573" y="14654"/>
                  <a:pt x="17568" y="14890"/>
                  <a:pt x="17537" y="15156"/>
                </a:cubicBezTo>
                <a:cubicBezTo>
                  <a:pt x="17537" y="15198"/>
                  <a:pt x="17543" y="15189"/>
                  <a:pt x="17562" y="1510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11960" y="5187960"/>
            <a:ext cx="133200" cy="268200"/>
          </a:xfrm>
          <a:custGeom>
            <a:avLst/>
            <a:gdLst/>
            <a:ahLst/>
            <a:rect l="l" t="t" r="r" b="b"/>
            <a:pathLst>
              <a:path w="373" h="745">
                <a:moveTo>
                  <a:pt x="18132" y="14560"/>
                </a:moveTo>
                <a:cubicBezTo>
                  <a:pt x="18113" y="14456"/>
                  <a:pt x="18034" y="14336"/>
                  <a:pt x="17909" y="14461"/>
                </a:cubicBezTo>
                <a:cubicBezTo>
                  <a:pt x="17820" y="14595"/>
                  <a:pt x="17787" y="14626"/>
                  <a:pt x="17810" y="14734"/>
                </a:cubicBezTo>
                <a:cubicBezTo>
                  <a:pt x="18015" y="14749"/>
                  <a:pt x="18098" y="14652"/>
                  <a:pt x="18182" y="14461"/>
                </a:cubicBezTo>
                <a:cubicBezTo>
                  <a:pt x="18182" y="14453"/>
                  <a:pt x="18182" y="14444"/>
                  <a:pt x="18182" y="14436"/>
                </a:cubicBezTo>
                <a:cubicBezTo>
                  <a:pt x="18182" y="14613"/>
                  <a:pt x="18176" y="14780"/>
                  <a:pt x="18182" y="14957"/>
                </a:cubicBezTo>
                <a:cubicBezTo>
                  <a:pt x="18182" y="15065"/>
                  <a:pt x="18182" y="15090"/>
                  <a:pt x="18182" y="1515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64080" y="5572080"/>
            <a:ext cx="81000" cy="115920"/>
          </a:xfrm>
          <a:custGeom>
            <a:avLst/>
            <a:gdLst/>
            <a:ahLst/>
            <a:rect l="l" t="t" r="r" b="b"/>
            <a:pathLst>
              <a:path w="225" h="324">
                <a:moveTo>
                  <a:pt x="15180" y="15478"/>
                </a:moveTo>
                <a:cubicBezTo>
                  <a:pt x="15255" y="15583"/>
                  <a:pt x="15355" y="15688"/>
                  <a:pt x="15404" y="1580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64080" y="5518080"/>
            <a:ext cx="46080" cy="206280"/>
          </a:xfrm>
          <a:custGeom>
            <a:avLst/>
            <a:gdLst/>
            <a:ahLst/>
            <a:rect l="l" t="t" r="r" b="b"/>
            <a:pathLst>
              <a:path w="125" h="572">
                <a:moveTo>
                  <a:pt x="15304" y="15329"/>
                </a:moveTo>
                <a:cubicBezTo>
                  <a:pt x="15294" y="15533"/>
                  <a:pt x="15209" y="15710"/>
                  <a:pt x="15180" y="15900"/>
                </a:cubicBezTo>
                <a:cubicBezTo>
                  <a:pt x="15188" y="15900"/>
                  <a:pt x="15197" y="15900"/>
                  <a:pt x="15205" y="1590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80120" y="557208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7314" y="15478"/>
                </a:moveTo>
                <a:cubicBezTo>
                  <a:pt x="17303" y="15503"/>
                  <a:pt x="17239" y="15664"/>
                  <a:pt x="17239" y="15602"/>
                </a:cubicBezTo>
                <a:cubicBezTo>
                  <a:pt x="17309" y="15532"/>
                  <a:pt x="17395" y="15402"/>
                  <a:pt x="17438" y="15553"/>
                </a:cubicBezTo>
                <a:cubicBezTo>
                  <a:pt x="17501" y="15774"/>
                  <a:pt x="17366" y="15872"/>
                  <a:pt x="17190" y="15949"/>
                </a:cubicBezTo>
                <a:cubicBezTo>
                  <a:pt x="17079" y="15877"/>
                  <a:pt x="17307" y="15810"/>
                  <a:pt x="17363" y="15801"/>
                </a:cubicBezTo>
                <a:cubicBezTo>
                  <a:pt x="17545" y="15773"/>
                  <a:pt x="17474" y="15912"/>
                  <a:pt x="17562" y="15999"/>
                </a:cubicBezTo>
                <a:cubicBezTo>
                  <a:pt x="17562" y="15991"/>
                  <a:pt x="17562" y="15982"/>
                  <a:pt x="17562" y="1597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2240" y="5697360"/>
            <a:ext cx="1800" cy="27000"/>
          </a:xfrm>
          <a:custGeom>
            <a:avLst/>
            <a:gdLst/>
            <a:ahLst/>
            <a:rect l="l" t="t" r="r" b="b"/>
            <a:pathLst>
              <a:path w="1" h="76">
                <a:moveTo>
                  <a:pt x="17785" y="15825"/>
                </a:moveTo>
                <a:cubicBezTo>
                  <a:pt x="17785" y="15883"/>
                  <a:pt x="17785" y="15925"/>
                  <a:pt x="17785" y="1587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46880" y="5518080"/>
            <a:ext cx="135000" cy="206280"/>
          </a:xfrm>
          <a:custGeom>
            <a:avLst/>
            <a:gdLst/>
            <a:ahLst/>
            <a:rect l="l" t="t" r="r" b="b"/>
            <a:pathLst>
              <a:path w="373" h="572">
                <a:moveTo>
                  <a:pt x="17909" y="15528"/>
                </a:moveTo>
                <a:cubicBezTo>
                  <a:pt x="17909" y="15420"/>
                  <a:pt x="17901" y="15433"/>
                  <a:pt x="18008" y="15404"/>
                </a:cubicBezTo>
                <a:cubicBezTo>
                  <a:pt x="18090" y="15382"/>
                  <a:pt x="18176" y="15345"/>
                  <a:pt x="18256" y="15329"/>
                </a:cubicBezTo>
                <a:cubicBezTo>
                  <a:pt x="18316" y="15429"/>
                  <a:pt x="18250" y="15613"/>
                  <a:pt x="18231" y="15726"/>
                </a:cubicBezTo>
                <a:cubicBezTo>
                  <a:pt x="18212" y="15825"/>
                  <a:pt x="18204" y="15841"/>
                  <a:pt x="18207" y="1590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1880" y="5749920"/>
            <a:ext cx="1554120" cy="100080"/>
          </a:xfrm>
          <a:custGeom>
            <a:avLst/>
            <a:gdLst/>
            <a:ahLst/>
            <a:rect l="l" t="t" r="r" b="b"/>
            <a:pathLst>
              <a:path w="4317" h="274">
                <a:moveTo>
                  <a:pt x="15032" y="16247"/>
                </a:moveTo>
                <a:cubicBezTo>
                  <a:pt x="15178" y="16214"/>
                  <a:pt x="15329" y="16199"/>
                  <a:pt x="15478" y="16173"/>
                </a:cubicBezTo>
                <a:cubicBezTo>
                  <a:pt x="15905" y="16098"/>
                  <a:pt x="16335" y="16083"/>
                  <a:pt x="16768" y="16073"/>
                </a:cubicBezTo>
                <a:cubicBezTo>
                  <a:pt x="17291" y="16061"/>
                  <a:pt x="17809" y="16037"/>
                  <a:pt x="18331" y="15999"/>
                </a:cubicBezTo>
                <a:cubicBezTo>
                  <a:pt x="18652" y="15976"/>
                  <a:pt x="19042" y="15972"/>
                  <a:pt x="19323" y="15999"/>
                </a:cubicBezTo>
                <a:cubicBezTo>
                  <a:pt x="19331" y="15999"/>
                  <a:pt x="19340" y="15999"/>
                  <a:pt x="19348" y="1599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27880" y="5857920"/>
            <a:ext cx="125280" cy="214200"/>
          </a:xfrm>
          <a:custGeom>
            <a:avLst/>
            <a:gdLst/>
            <a:ahLst/>
            <a:rect l="l" t="t" r="r" b="b"/>
            <a:pathLst>
              <a:path w="348" h="596">
                <a:moveTo>
                  <a:pt x="18157" y="16520"/>
                </a:moveTo>
                <a:cubicBezTo>
                  <a:pt x="18142" y="16461"/>
                  <a:pt x="18125" y="16456"/>
                  <a:pt x="18157" y="16396"/>
                </a:cubicBezTo>
                <a:cubicBezTo>
                  <a:pt x="18193" y="16328"/>
                  <a:pt x="18322" y="16215"/>
                  <a:pt x="18405" y="16297"/>
                </a:cubicBezTo>
                <a:cubicBezTo>
                  <a:pt x="18499" y="16390"/>
                  <a:pt x="18362" y="16456"/>
                  <a:pt x="18331" y="16520"/>
                </a:cubicBezTo>
                <a:cubicBezTo>
                  <a:pt x="18331" y="16528"/>
                  <a:pt x="18331" y="16537"/>
                  <a:pt x="18331" y="16545"/>
                </a:cubicBezTo>
                <a:cubicBezTo>
                  <a:pt x="18411" y="16529"/>
                  <a:pt x="18499" y="16533"/>
                  <a:pt x="18479" y="16669"/>
                </a:cubicBezTo>
                <a:cubicBezTo>
                  <a:pt x="18464" y="16775"/>
                  <a:pt x="18311" y="16886"/>
                  <a:pt x="18207" y="16867"/>
                </a:cubicBezTo>
                <a:cubicBezTo>
                  <a:pt x="18184" y="16844"/>
                  <a:pt x="18180" y="16836"/>
                  <a:pt x="18157" y="1684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05680" y="5000760"/>
            <a:ext cx="117360" cy="115920"/>
          </a:xfrm>
          <a:custGeom>
            <a:avLst/>
            <a:gdLst/>
            <a:ahLst/>
            <a:rect l="l" t="t" r="r" b="b"/>
            <a:pathLst>
              <a:path w="324" h="323">
                <a:moveTo>
                  <a:pt x="17239" y="13915"/>
                </a:moveTo>
                <a:cubicBezTo>
                  <a:pt x="17239" y="13849"/>
                  <a:pt x="17239" y="13998"/>
                  <a:pt x="17239" y="14064"/>
                </a:cubicBezTo>
                <a:cubicBezTo>
                  <a:pt x="17239" y="14149"/>
                  <a:pt x="17233" y="14169"/>
                  <a:pt x="17264" y="14213"/>
                </a:cubicBezTo>
                <a:cubicBezTo>
                  <a:pt x="17364" y="14213"/>
                  <a:pt x="17390" y="14207"/>
                  <a:pt x="17462" y="14139"/>
                </a:cubicBezTo>
                <a:cubicBezTo>
                  <a:pt x="17513" y="14091"/>
                  <a:pt x="17563" y="14066"/>
                  <a:pt x="17537" y="14015"/>
                </a:cubicBezTo>
                <a:cubicBezTo>
                  <a:pt x="17445" y="14041"/>
                  <a:pt x="17433" y="14112"/>
                  <a:pt x="17413" y="1421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9960" y="5892840"/>
            <a:ext cx="135000" cy="12528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17413" y="16396"/>
                </a:moveTo>
                <a:cubicBezTo>
                  <a:pt x="17413" y="16313"/>
                  <a:pt x="17408" y="16513"/>
                  <a:pt x="17388" y="16594"/>
                </a:cubicBezTo>
                <a:cubicBezTo>
                  <a:pt x="17366" y="16659"/>
                  <a:pt x="17358" y="16674"/>
                  <a:pt x="17363" y="16718"/>
                </a:cubicBezTo>
                <a:cubicBezTo>
                  <a:pt x="17456" y="16698"/>
                  <a:pt x="17619" y="16594"/>
                  <a:pt x="17711" y="16594"/>
                </a:cubicBezTo>
                <a:cubicBezTo>
                  <a:pt x="17711" y="16619"/>
                  <a:pt x="17711" y="16627"/>
                  <a:pt x="17735" y="1661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67320" y="5875200"/>
            <a:ext cx="9720" cy="241560"/>
          </a:xfrm>
          <a:custGeom>
            <a:avLst/>
            <a:gdLst/>
            <a:ahLst/>
            <a:rect l="l" t="t" r="r" b="b"/>
            <a:pathLst>
              <a:path w="26" h="671">
                <a:moveTo>
                  <a:pt x="17711" y="16321"/>
                </a:moveTo>
                <a:cubicBezTo>
                  <a:pt x="17688" y="16479"/>
                  <a:pt x="17686" y="16632"/>
                  <a:pt x="17686" y="16793"/>
                </a:cubicBezTo>
                <a:cubicBezTo>
                  <a:pt x="17686" y="16859"/>
                  <a:pt x="17686" y="16925"/>
                  <a:pt x="17686" y="1699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75200" y="4964040"/>
            <a:ext cx="108000" cy="144360"/>
          </a:xfrm>
          <a:custGeom>
            <a:avLst/>
            <a:gdLst/>
            <a:ahLst/>
            <a:rect l="l" t="t" r="r" b="b"/>
            <a:pathLst>
              <a:path w="299" h="398">
                <a:moveTo>
                  <a:pt x="16346" y="13915"/>
                </a:moveTo>
                <a:cubicBezTo>
                  <a:pt x="16306" y="13896"/>
                  <a:pt x="16396" y="13811"/>
                  <a:pt x="16446" y="13791"/>
                </a:cubicBezTo>
                <a:cubicBezTo>
                  <a:pt x="16519" y="13762"/>
                  <a:pt x="16565" y="13899"/>
                  <a:pt x="16520" y="13940"/>
                </a:cubicBezTo>
                <a:cubicBezTo>
                  <a:pt x="16503" y="13948"/>
                  <a:pt x="16487" y="13957"/>
                  <a:pt x="16470" y="13965"/>
                </a:cubicBezTo>
                <a:cubicBezTo>
                  <a:pt x="16536" y="13965"/>
                  <a:pt x="16553" y="13965"/>
                  <a:pt x="16594" y="13965"/>
                </a:cubicBezTo>
                <a:cubicBezTo>
                  <a:pt x="16609" y="14113"/>
                  <a:pt x="16542" y="14151"/>
                  <a:pt x="16396" y="14188"/>
                </a:cubicBezTo>
                <a:cubicBezTo>
                  <a:pt x="16388" y="14188"/>
                  <a:pt x="16379" y="14188"/>
                  <a:pt x="16371" y="1418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9200" y="5884920"/>
            <a:ext cx="152640" cy="241200"/>
          </a:xfrm>
          <a:custGeom>
            <a:avLst/>
            <a:gdLst/>
            <a:ahLst/>
            <a:rect l="l" t="t" r="r" b="b"/>
            <a:pathLst>
              <a:path w="423" h="671">
                <a:moveTo>
                  <a:pt x="16892" y="16470"/>
                </a:moveTo>
                <a:cubicBezTo>
                  <a:pt x="16819" y="16398"/>
                  <a:pt x="16797" y="16354"/>
                  <a:pt x="16694" y="16346"/>
                </a:cubicBezTo>
                <a:cubicBezTo>
                  <a:pt x="16502" y="16331"/>
                  <a:pt x="16480" y="16500"/>
                  <a:pt x="16470" y="16644"/>
                </a:cubicBezTo>
                <a:cubicBezTo>
                  <a:pt x="16470" y="16661"/>
                  <a:pt x="16470" y="16677"/>
                  <a:pt x="16470" y="16694"/>
                </a:cubicBezTo>
                <a:cubicBezTo>
                  <a:pt x="16646" y="16720"/>
                  <a:pt x="16712" y="16661"/>
                  <a:pt x="16793" y="16495"/>
                </a:cubicBezTo>
                <a:cubicBezTo>
                  <a:pt x="16830" y="16419"/>
                  <a:pt x="16828" y="16441"/>
                  <a:pt x="16842" y="16396"/>
                </a:cubicBezTo>
                <a:cubicBezTo>
                  <a:pt x="16842" y="16593"/>
                  <a:pt x="16858" y="16811"/>
                  <a:pt x="16818" y="16991"/>
                </a:cubicBezTo>
                <a:cubicBezTo>
                  <a:pt x="16818" y="16999"/>
                  <a:pt x="16818" y="17008"/>
                  <a:pt x="16818" y="1701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72080" y="4956120"/>
            <a:ext cx="115920" cy="169920"/>
          </a:xfrm>
          <a:custGeom>
            <a:avLst/>
            <a:gdLst/>
            <a:ahLst/>
            <a:rect l="l" t="t" r="r" b="b"/>
            <a:pathLst>
              <a:path w="324" h="472">
                <a:moveTo>
                  <a:pt x="15751" y="13767"/>
                </a:moveTo>
                <a:cubicBezTo>
                  <a:pt x="15677" y="13781"/>
                  <a:pt x="15628" y="13830"/>
                  <a:pt x="15553" y="13841"/>
                </a:cubicBezTo>
                <a:cubicBezTo>
                  <a:pt x="15478" y="13852"/>
                  <a:pt x="15485" y="13926"/>
                  <a:pt x="15478" y="13990"/>
                </a:cubicBezTo>
                <a:cubicBezTo>
                  <a:pt x="15554" y="14020"/>
                  <a:pt x="15628" y="13929"/>
                  <a:pt x="15726" y="13965"/>
                </a:cubicBezTo>
                <a:cubicBezTo>
                  <a:pt x="15877" y="14020"/>
                  <a:pt x="15787" y="14208"/>
                  <a:pt x="15677" y="14238"/>
                </a:cubicBezTo>
                <a:cubicBezTo>
                  <a:pt x="15634" y="14250"/>
                  <a:pt x="15553" y="14238"/>
                  <a:pt x="15503" y="1423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37160" y="5938920"/>
            <a:ext cx="34920" cy="241200"/>
          </a:xfrm>
          <a:custGeom>
            <a:avLst/>
            <a:gdLst/>
            <a:ahLst/>
            <a:rect l="l" t="t" r="r" b="b"/>
            <a:pathLst>
              <a:path w="100" h="671">
                <a:moveTo>
                  <a:pt x="15379" y="16495"/>
                </a:moveTo>
                <a:cubicBezTo>
                  <a:pt x="15379" y="16635"/>
                  <a:pt x="15441" y="16773"/>
                  <a:pt x="15453" y="16917"/>
                </a:cubicBezTo>
                <a:cubicBezTo>
                  <a:pt x="15460" y="17008"/>
                  <a:pt x="15427" y="17227"/>
                  <a:pt x="15453" y="17140"/>
                </a:cubicBezTo>
                <a:cubicBezTo>
                  <a:pt x="15461" y="17115"/>
                  <a:pt x="15470" y="17091"/>
                  <a:pt x="15478" y="1706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88000" y="5911920"/>
            <a:ext cx="214200" cy="223920"/>
          </a:xfrm>
          <a:custGeom>
            <a:avLst/>
            <a:gdLst/>
            <a:ahLst/>
            <a:rect l="l" t="t" r="r" b="b"/>
            <a:pathLst>
              <a:path w="596" h="621">
                <a:moveTo>
                  <a:pt x="15801" y="16520"/>
                </a:moveTo>
                <a:cubicBezTo>
                  <a:pt x="15814" y="16479"/>
                  <a:pt x="15939" y="16421"/>
                  <a:pt x="15999" y="16421"/>
                </a:cubicBezTo>
                <a:cubicBezTo>
                  <a:pt x="16105" y="16421"/>
                  <a:pt x="16091" y="16588"/>
                  <a:pt x="16073" y="16644"/>
                </a:cubicBezTo>
                <a:cubicBezTo>
                  <a:pt x="16035" y="16763"/>
                  <a:pt x="15953" y="16893"/>
                  <a:pt x="15875" y="16991"/>
                </a:cubicBezTo>
                <a:cubicBezTo>
                  <a:pt x="15836" y="17030"/>
                  <a:pt x="15835" y="17047"/>
                  <a:pt x="15801" y="17041"/>
                </a:cubicBezTo>
                <a:cubicBezTo>
                  <a:pt x="15801" y="16962"/>
                  <a:pt x="15795" y="16932"/>
                  <a:pt x="15875" y="16892"/>
                </a:cubicBezTo>
                <a:cubicBezTo>
                  <a:pt x="15994" y="16832"/>
                  <a:pt x="16188" y="16921"/>
                  <a:pt x="16321" y="16867"/>
                </a:cubicBezTo>
                <a:cubicBezTo>
                  <a:pt x="16396" y="16837"/>
                  <a:pt x="16346" y="16834"/>
                  <a:pt x="16396" y="1681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0240" y="6170760"/>
            <a:ext cx="160560" cy="1872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18430" y="17239"/>
                </a:moveTo>
                <a:cubicBezTo>
                  <a:pt x="18418" y="17179"/>
                  <a:pt x="18397" y="17152"/>
                  <a:pt x="18331" y="17140"/>
                </a:cubicBezTo>
                <a:cubicBezTo>
                  <a:pt x="18242" y="17124"/>
                  <a:pt x="18163" y="17216"/>
                  <a:pt x="18132" y="17289"/>
                </a:cubicBezTo>
                <a:cubicBezTo>
                  <a:pt x="18086" y="17399"/>
                  <a:pt x="18077" y="17465"/>
                  <a:pt x="18132" y="17562"/>
                </a:cubicBezTo>
                <a:cubicBezTo>
                  <a:pt x="18165" y="17620"/>
                  <a:pt x="18254" y="17690"/>
                  <a:pt x="18331" y="17661"/>
                </a:cubicBezTo>
                <a:cubicBezTo>
                  <a:pt x="18435" y="17621"/>
                  <a:pt x="18522" y="17496"/>
                  <a:pt x="18529" y="17388"/>
                </a:cubicBezTo>
                <a:cubicBezTo>
                  <a:pt x="18532" y="17335"/>
                  <a:pt x="18482" y="17239"/>
                  <a:pt x="18430" y="17214"/>
                </a:cubicBezTo>
                <a:cubicBezTo>
                  <a:pt x="18400" y="17200"/>
                  <a:pt x="18343" y="17190"/>
                  <a:pt x="18306" y="1719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2040" y="6197760"/>
            <a:ext cx="160200" cy="223560"/>
          </a:xfrm>
          <a:custGeom>
            <a:avLst/>
            <a:gdLst/>
            <a:ahLst/>
            <a:rect l="l" t="t" r="r" b="b"/>
            <a:pathLst>
              <a:path w="448" h="622">
                <a:moveTo>
                  <a:pt x="17611" y="17289"/>
                </a:moveTo>
                <a:cubicBezTo>
                  <a:pt x="17645" y="17243"/>
                  <a:pt x="17639" y="17200"/>
                  <a:pt x="17562" y="17214"/>
                </a:cubicBezTo>
                <a:cubicBezTo>
                  <a:pt x="17439" y="17236"/>
                  <a:pt x="17385" y="17311"/>
                  <a:pt x="17338" y="17413"/>
                </a:cubicBezTo>
                <a:cubicBezTo>
                  <a:pt x="17467" y="17515"/>
                  <a:pt x="17603" y="17517"/>
                  <a:pt x="17735" y="17611"/>
                </a:cubicBezTo>
                <a:cubicBezTo>
                  <a:pt x="17821" y="17672"/>
                  <a:pt x="17786" y="17806"/>
                  <a:pt x="17686" y="17835"/>
                </a:cubicBezTo>
                <a:cubicBezTo>
                  <a:pt x="17573" y="17868"/>
                  <a:pt x="17454" y="17750"/>
                  <a:pt x="17487" y="17636"/>
                </a:cubicBezTo>
                <a:cubicBezTo>
                  <a:pt x="17522" y="17515"/>
                  <a:pt x="17630" y="17412"/>
                  <a:pt x="17661" y="17289"/>
                </a:cubicBezTo>
                <a:cubicBezTo>
                  <a:pt x="17689" y="17176"/>
                  <a:pt x="17617" y="17278"/>
                  <a:pt x="17587" y="17239"/>
                </a:cubicBezTo>
                <a:cubicBezTo>
                  <a:pt x="17587" y="17231"/>
                  <a:pt x="17587" y="17222"/>
                  <a:pt x="17587" y="1721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05680" y="4919760"/>
            <a:ext cx="54000" cy="215640"/>
          </a:xfrm>
          <a:custGeom>
            <a:avLst/>
            <a:gdLst/>
            <a:ahLst/>
            <a:rect l="l" t="t" r="r" b="b"/>
            <a:pathLst>
              <a:path w="150" h="597">
                <a:moveTo>
                  <a:pt x="17314" y="13767"/>
                </a:moveTo>
                <a:cubicBezTo>
                  <a:pt x="17360" y="13751"/>
                  <a:pt x="17325" y="13679"/>
                  <a:pt x="17338" y="13767"/>
                </a:cubicBezTo>
                <a:cubicBezTo>
                  <a:pt x="17364" y="13923"/>
                  <a:pt x="17374" y="13981"/>
                  <a:pt x="17388" y="14089"/>
                </a:cubicBezTo>
                <a:cubicBezTo>
                  <a:pt x="17388" y="14190"/>
                  <a:pt x="17350" y="14041"/>
                  <a:pt x="17338" y="13940"/>
                </a:cubicBezTo>
                <a:cubicBezTo>
                  <a:pt x="17301" y="13620"/>
                  <a:pt x="17334" y="13812"/>
                  <a:pt x="17338" y="13990"/>
                </a:cubicBezTo>
                <a:cubicBezTo>
                  <a:pt x="17338" y="14089"/>
                  <a:pt x="17338" y="14105"/>
                  <a:pt x="17338" y="14163"/>
                </a:cubicBezTo>
                <a:cubicBezTo>
                  <a:pt x="17321" y="14038"/>
                  <a:pt x="17299" y="13917"/>
                  <a:pt x="17289" y="13791"/>
                </a:cubicBezTo>
                <a:cubicBezTo>
                  <a:pt x="17276" y="13618"/>
                  <a:pt x="17289" y="14387"/>
                  <a:pt x="17289" y="14213"/>
                </a:cubicBezTo>
                <a:cubicBezTo>
                  <a:pt x="17289" y="14172"/>
                  <a:pt x="17289" y="14130"/>
                  <a:pt x="17289" y="14089"/>
                </a:cubicBezTo>
                <a:cubicBezTo>
                  <a:pt x="17271" y="13962"/>
                  <a:pt x="17234" y="13691"/>
                  <a:pt x="17264" y="13816"/>
                </a:cubicBezTo>
                <a:cubicBezTo>
                  <a:pt x="17273" y="13854"/>
                  <a:pt x="17319" y="14158"/>
                  <a:pt x="17314" y="14114"/>
                </a:cubicBezTo>
                <a:cubicBezTo>
                  <a:pt x="17309" y="14076"/>
                  <a:pt x="17244" y="13527"/>
                  <a:pt x="17289" y="13742"/>
                </a:cubicBezTo>
                <a:cubicBezTo>
                  <a:pt x="17322" y="13898"/>
                  <a:pt x="17338" y="14322"/>
                  <a:pt x="17338" y="1416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29200" y="6197760"/>
            <a:ext cx="162000" cy="258480"/>
          </a:xfrm>
          <a:custGeom>
            <a:avLst/>
            <a:gdLst/>
            <a:ahLst/>
            <a:rect l="l" t="t" r="r" b="b"/>
            <a:pathLst>
              <a:path w="448" h="721">
                <a:moveTo>
                  <a:pt x="16892" y="17388"/>
                </a:moveTo>
                <a:cubicBezTo>
                  <a:pt x="16927" y="17353"/>
                  <a:pt x="16858" y="17270"/>
                  <a:pt x="16793" y="17239"/>
                </a:cubicBezTo>
                <a:cubicBezTo>
                  <a:pt x="16716" y="17202"/>
                  <a:pt x="16565" y="17228"/>
                  <a:pt x="16520" y="17314"/>
                </a:cubicBezTo>
                <a:cubicBezTo>
                  <a:pt x="16472" y="17407"/>
                  <a:pt x="16481" y="17494"/>
                  <a:pt x="16495" y="17587"/>
                </a:cubicBezTo>
                <a:cubicBezTo>
                  <a:pt x="16631" y="17643"/>
                  <a:pt x="16680" y="17599"/>
                  <a:pt x="16768" y="17487"/>
                </a:cubicBezTo>
                <a:cubicBezTo>
                  <a:pt x="16818" y="17424"/>
                  <a:pt x="16842" y="17184"/>
                  <a:pt x="16842" y="17264"/>
                </a:cubicBezTo>
                <a:cubicBezTo>
                  <a:pt x="16842" y="17391"/>
                  <a:pt x="16860" y="17510"/>
                  <a:pt x="16867" y="17636"/>
                </a:cubicBezTo>
                <a:cubicBezTo>
                  <a:pt x="16873" y="17735"/>
                  <a:pt x="16867" y="17835"/>
                  <a:pt x="16867" y="1793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919760"/>
            <a:ext cx="98640" cy="196920"/>
          </a:xfrm>
          <a:custGeom>
            <a:avLst/>
            <a:gdLst/>
            <a:ahLst/>
            <a:rect l="l" t="t" r="r" b="b"/>
            <a:pathLst>
              <a:path w="274" h="547">
                <a:moveTo>
                  <a:pt x="16446" y="13692"/>
                </a:moveTo>
                <a:cubicBezTo>
                  <a:pt x="16491" y="13692"/>
                  <a:pt x="16590" y="13627"/>
                  <a:pt x="16570" y="13667"/>
                </a:cubicBezTo>
                <a:cubicBezTo>
                  <a:pt x="16531" y="13744"/>
                  <a:pt x="16386" y="13826"/>
                  <a:pt x="16321" y="13891"/>
                </a:cubicBezTo>
                <a:cubicBezTo>
                  <a:pt x="16397" y="13869"/>
                  <a:pt x="16472" y="13828"/>
                  <a:pt x="16545" y="13791"/>
                </a:cubicBezTo>
                <a:cubicBezTo>
                  <a:pt x="16545" y="13841"/>
                  <a:pt x="16372" y="14029"/>
                  <a:pt x="16297" y="14114"/>
                </a:cubicBezTo>
                <a:cubicBezTo>
                  <a:pt x="16358" y="14135"/>
                  <a:pt x="16458" y="13981"/>
                  <a:pt x="16570" y="13965"/>
                </a:cubicBezTo>
                <a:cubicBezTo>
                  <a:pt x="16607" y="13960"/>
                  <a:pt x="16400" y="14162"/>
                  <a:pt x="16470" y="14163"/>
                </a:cubicBezTo>
                <a:cubicBezTo>
                  <a:pt x="16564" y="14164"/>
                  <a:pt x="16607" y="14026"/>
                  <a:pt x="16545" y="1421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97360" y="6242040"/>
            <a:ext cx="177840" cy="19692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15825" y="17363"/>
                </a:moveTo>
                <a:cubicBezTo>
                  <a:pt x="15850" y="17363"/>
                  <a:pt x="15858" y="17363"/>
                  <a:pt x="15850" y="17338"/>
                </a:cubicBezTo>
                <a:cubicBezTo>
                  <a:pt x="15893" y="17395"/>
                  <a:pt x="15875" y="17464"/>
                  <a:pt x="15875" y="17537"/>
                </a:cubicBezTo>
                <a:cubicBezTo>
                  <a:pt x="15875" y="17631"/>
                  <a:pt x="15859" y="17706"/>
                  <a:pt x="15875" y="17785"/>
                </a:cubicBezTo>
                <a:cubicBezTo>
                  <a:pt x="15895" y="17885"/>
                  <a:pt x="15894" y="17884"/>
                  <a:pt x="15999" y="17884"/>
                </a:cubicBezTo>
                <a:cubicBezTo>
                  <a:pt x="16088" y="17884"/>
                  <a:pt x="16126" y="17829"/>
                  <a:pt x="16197" y="17785"/>
                </a:cubicBezTo>
                <a:cubicBezTo>
                  <a:pt x="16258" y="17747"/>
                  <a:pt x="16264" y="17712"/>
                  <a:pt x="16297" y="17661"/>
                </a:cubicBezTo>
                <a:cubicBezTo>
                  <a:pt x="16305" y="17648"/>
                  <a:pt x="16346" y="17583"/>
                  <a:pt x="16321" y="17562"/>
                </a:cubicBezTo>
                <a:cubicBezTo>
                  <a:pt x="16298" y="17543"/>
                  <a:pt x="16256" y="17537"/>
                  <a:pt x="16222" y="17537"/>
                </a:cubicBezTo>
                <a:cubicBezTo>
                  <a:pt x="16170" y="17537"/>
                  <a:pt x="16112" y="17612"/>
                  <a:pt x="16098" y="17661"/>
                </a:cubicBezTo>
                <a:cubicBezTo>
                  <a:pt x="16085" y="17709"/>
                  <a:pt x="16086" y="17823"/>
                  <a:pt x="16123" y="1783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81800" y="4919760"/>
            <a:ext cx="34920" cy="241200"/>
          </a:xfrm>
          <a:custGeom>
            <a:avLst/>
            <a:gdLst/>
            <a:ahLst/>
            <a:rect l="l" t="t" r="r" b="b"/>
            <a:pathLst>
              <a:path w="100" h="671">
                <a:moveTo>
                  <a:pt x="15503" y="13667"/>
                </a:moveTo>
                <a:cubicBezTo>
                  <a:pt x="15653" y="13667"/>
                  <a:pt x="15600" y="13983"/>
                  <a:pt x="15602" y="14064"/>
                </a:cubicBezTo>
                <a:cubicBezTo>
                  <a:pt x="15612" y="14414"/>
                  <a:pt x="15602" y="14230"/>
                  <a:pt x="15602" y="14015"/>
                </a:cubicBezTo>
                <a:cubicBezTo>
                  <a:pt x="15602" y="13891"/>
                  <a:pt x="15602" y="13667"/>
                  <a:pt x="15602" y="13791"/>
                </a:cubicBezTo>
                <a:cubicBezTo>
                  <a:pt x="15602" y="13856"/>
                  <a:pt x="15556" y="14189"/>
                  <a:pt x="15553" y="14163"/>
                </a:cubicBezTo>
                <a:cubicBezTo>
                  <a:pt x="15547" y="14103"/>
                  <a:pt x="15543" y="13854"/>
                  <a:pt x="15553" y="13891"/>
                </a:cubicBezTo>
                <a:cubicBezTo>
                  <a:pt x="15584" y="14009"/>
                  <a:pt x="15514" y="14210"/>
                  <a:pt x="15503" y="14337"/>
                </a:cubicBezTo>
                <a:cubicBezTo>
                  <a:pt x="15515" y="14164"/>
                  <a:pt x="15534" y="13988"/>
                  <a:pt x="15553" y="13816"/>
                </a:cubicBezTo>
                <a:cubicBezTo>
                  <a:pt x="15571" y="13651"/>
                  <a:pt x="15577" y="14146"/>
                  <a:pt x="15577" y="14312"/>
                </a:cubicBezTo>
                <a:cubicBezTo>
                  <a:pt x="15570" y="14143"/>
                  <a:pt x="15562" y="13698"/>
                  <a:pt x="15577" y="13866"/>
                </a:cubicBezTo>
                <a:cubicBezTo>
                  <a:pt x="15581" y="13909"/>
                  <a:pt x="15581" y="14252"/>
                  <a:pt x="15577" y="14213"/>
                </a:cubicBezTo>
                <a:cubicBezTo>
                  <a:pt x="15574" y="14185"/>
                  <a:pt x="15454" y="13635"/>
                  <a:pt x="15503" y="13841"/>
                </a:cubicBezTo>
                <a:cubicBezTo>
                  <a:pt x="15523" y="13882"/>
                  <a:pt x="15532" y="13909"/>
                  <a:pt x="15528" y="1386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00800" y="6269040"/>
            <a:ext cx="98280" cy="169920"/>
          </a:xfrm>
          <a:custGeom>
            <a:avLst/>
            <a:gdLst/>
            <a:ahLst/>
            <a:rect l="l" t="t" r="r" b="b"/>
            <a:pathLst>
              <a:path w="274" h="472">
                <a:moveTo>
                  <a:pt x="15329" y="17537"/>
                </a:moveTo>
                <a:cubicBezTo>
                  <a:pt x="15277" y="17502"/>
                  <a:pt x="15331" y="17413"/>
                  <a:pt x="15404" y="17413"/>
                </a:cubicBezTo>
                <a:cubicBezTo>
                  <a:pt x="15461" y="17413"/>
                  <a:pt x="15444" y="17578"/>
                  <a:pt x="15429" y="17611"/>
                </a:cubicBezTo>
                <a:cubicBezTo>
                  <a:pt x="15421" y="17619"/>
                  <a:pt x="15412" y="17628"/>
                  <a:pt x="15404" y="17636"/>
                </a:cubicBezTo>
                <a:cubicBezTo>
                  <a:pt x="15379" y="17636"/>
                  <a:pt x="15371" y="17636"/>
                  <a:pt x="15354" y="17636"/>
                </a:cubicBezTo>
                <a:cubicBezTo>
                  <a:pt x="15410" y="17572"/>
                  <a:pt x="15484" y="17519"/>
                  <a:pt x="15528" y="17636"/>
                </a:cubicBezTo>
                <a:cubicBezTo>
                  <a:pt x="15588" y="17795"/>
                  <a:pt x="15495" y="17868"/>
                  <a:pt x="15354" y="17884"/>
                </a:cubicBezTo>
                <a:cubicBezTo>
                  <a:pt x="15321" y="17884"/>
                  <a:pt x="15305" y="17884"/>
                  <a:pt x="15280" y="1788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1880" y="6419880"/>
            <a:ext cx="1276200" cy="90360"/>
          </a:xfrm>
          <a:custGeom>
            <a:avLst/>
            <a:gdLst/>
            <a:ahLst/>
            <a:rect l="l" t="t" r="r" b="b"/>
            <a:pathLst>
              <a:path w="3548" h="249">
                <a:moveTo>
                  <a:pt x="15032" y="18083"/>
                </a:moveTo>
                <a:cubicBezTo>
                  <a:pt x="15127" y="18083"/>
                  <a:pt x="15214" y="18066"/>
                  <a:pt x="15304" y="18058"/>
                </a:cubicBezTo>
                <a:cubicBezTo>
                  <a:pt x="15424" y="18047"/>
                  <a:pt x="15535" y="18037"/>
                  <a:pt x="15652" y="18008"/>
                </a:cubicBezTo>
                <a:cubicBezTo>
                  <a:pt x="15762" y="17981"/>
                  <a:pt x="15866" y="17986"/>
                  <a:pt x="15974" y="17959"/>
                </a:cubicBezTo>
                <a:cubicBezTo>
                  <a:pt x="16083" y="17932"/>
                  <a:pt x="16191" y="17908"/>
                  <a:pt x="16297" y="17884"/>
                </a:cubicBezTo>
                <a:cubicBezTo>
                  <a:pt x="16368" y="17868"/>
                  <a:pt x="16399" y="17861"/>
                  <a:pt x="16470" y="17859"/>
                </a:cubicBezTo>
                <a:cubicBezTo>
                  <a:pt x="16545" y="17857"/>
                  <a:pt x="16652" y="17831"/>
                  <a:pt x="16718" y="17835"/>
                </a:cubicBezTo>
                <a:cubicBezTo>
                  <a:pt x="16779" y="17838"/>
                  <a:pt x="16849" y="17857"/>
                  <a:pt x="16917" y="17859"/>
                </a:cubicBezTo>
                <a:cubicBezTo>
                  <a:pt x="16978" y="17861"/>
                  <a:pt x="17015" y="17878"/>
                  <a:pt x="17066" y="17884"/>
                </a:cubicBezTo>
                <a:cubicBezTo>
                  <a:pt x="17151" y="17894"/>
                  <a:pt x="17260" y="17904"/>
                  <a:pt x="17338" y="17909"/>
                </a:cubicBezTo>
                <a:cubicBezTo>
                  <a:pt x="17632" y="17928"/>
                  <a:pt x="17944" y="17916"/>
                  <a:pt x="18231" y="17884"/>
                </a:cubicBezTo>
                <a:cubicBezTo>
                  <a:pt x="18314" y="17875"/>
                  <a:pt x="18397" y="17866"/>
                  <a:pt x="18479" y="17859"/>
                </a:cubicBezTo>
                <a:cubicBezTo>
                  <a:pt x="18512" y="17856"/>
                  <a:pt x="18546" y="17861"/>
                  <a:pt x="18579" y="1785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32240" y="6232680"/>
            <a:ext cx="36720" cy="125280"/>
          </a:xfrm>
          <a:custGeom>
            <a:avLst/>
            <a:gdLst/>
            <a:ahLst/>
            <a:rect l="l" t="t" r="r" b="b"/>
            <a:pathLst>
              <a:path w="100" h="348">
                <a:moveTo>
                  <a:pt x="14635" y="17314"/>
                </a:moveTo>
                <a:cubicBezTo>
                  <a:pt x="14583" y="17416"/>
                  <a:pt x="14568" y="17546"/>
                  <a:pt x="14536" y="1766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0040" y="6269040"/>
            <a:ext cx="133200" cy="17640"/>
          </a:xfrm>
          <a:custGeom>
            <a:avLst/>
            <a:gdLst/>
            <a:ahLst/>
            <a:rect l="l" t="t" r="r" b="b"/>
            <a:pathLst>
              <a:path w="373" h="50">
                <a:moveTo>
                  <a:pt x="14387" y="17462"/>
                </a:moveTo>
                <a:cubicBezTo>
                  <a:pt x="14517" y="17449"/>
                  <a:pt x="14628" y="17413"/>
                  <a:pt x="14759" y="1741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81880" y="6510240"/>
            <a:ext cx="98280" cy="169920"/>
          </a:xfrm>
          <a:custGeom>
            <a:avLst/>
            <a:gdLst/>
            <a:ahLst/>
            <a:rect l="l" t="t" r="r" b="b"/>
            <a:pathLst>
              <a:path w="274" h="472">
                <a:moveTo>
                  <a:pt x="18281" y="18207"/>
                </a:moveTo>
                <a:cubicBezTo>
                  <a:pt x="18346" y="18174"/>
                  <a:pt x="18410" y="18109"/>
                  <a:pt x="18504" y="18083"/>
                </a:cubicBezTo>
                <a:cubicBezTo>
                  <a:pt x="18512" y="18083"/>
                  <a:pt x="18521" y="18083"/>
                  <a:pt x="18529" y="18083"/>
                </a:cubicBezTo>
                <a:cubicBezTo>
                  <a:pt x="18529" y="18219"/>
                  <a:pt x="18501" y="18234"/>
                  <a:pt x="18405" y="18306"/>
                </a:cubicBezTo>
                <a:cubicBezTo>
                  <a:pt x="18397" y="18314"/>
                  <a:pt x="18388" y="18323"/>
                  <a:pt x="18380" y="18331"/>
                </a:cubicBezTo>
                <a:cubicBezTo>
                  <a:pt x="18428" y="18331"/>
                  <a:pt x="18500" y="18307"/>
                  <a:pt x="18529" y="18355"/>
                </a:cubicBezTo>
                <a:cubicBezTo>
                  <a:pt x="18621" y="18504"/>
                  <a:pt x="18427" y="18544"/>
                  <a:pt x="18331" y="18554"/>
                </a:cubicBezTo>
                <a:cubicBezTo>
                  <a:pt x="18323" y="18554"/>
                  <a:pt x="18314" y="18554"/>
                  <a:pt x="18306" y="1855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59680" y="6491160"/>
            <a:ext cx="223560" cy="206640"/>
          </a:xfrm>
          <a:custGeom>
            <a:avLst/>
            <a:gdLst/>
            <a:ahLst/>
            <a:rect l="l" t="t" r="r" b="b"/>
            <a:pathLst>
              <a:path w="621" h="572">
                <a:moveTo>
                  <a:pt x="17562" y="18256"/>
                </a:moveTo>
                <a:cubicBezTo>
                  <a:pt x="17515" y="18225"/>
                  <a:pt x="17554" y="18124"/>
                  <a:pt x="17611" y="18083"/>
                </a:cubicBezTo>
                <a:cubicBezTo>
                  <a:pt x="17673" y="18038"/>
                  <a:pt x="17802" y="18006"/>
                  <a:pt x="17810" y="18132"/>
                </a:cubicBezTo>
                <a:cubicBezTo>
                  <a:pt x="17822" y="18306"/>
                  <a:pt x="17668" y="18401"/>
                  <a:pt x="17562" y="18504"/>
                </a:cubicBezTo>
                <a:cubicBezTo>
                  <a:pt x="17484" y="18580"/>
                  <a:pt x="17487" y="18604"/>
                  <a:pt x="17388" y="18604"/>
                </a:cubicBezTo>
                <a:cubicBezTo>
                  <a:pt x="17474" y="18604"/>
                  <a:pt x="17465" y="18540"/>
                  <a:pt x="17562" y="18529"/>
                </a:cubicBezTo>
                <a:cubicBezTo>
                  <a:pt x="17647" y="18519"/>
                  <a:pt x="17740" y="18554"/>
                  <a:pt x="17835" y="18554"/>
                </a:cubicBezTo>
                <a:cubicBezTo>
                  <a:pt x="17926" y="18554"/>
                  <a:pt x="17943" y="18536"/>
                  <a:pt x="18008" y="1847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91120" y="5697360"/>
            <a:ext cx="46080" cy="160560"/>
          </a:xfrm>
          <a:custGeom>
            <a:avLst/>
            <a:gdLst/>
            <a:ahLst/>
            <a:rect l="l" t="t" r="r" b="b"/>
            <a:pathLst>
              <a:path w="125" h="448">
                <a:moveTo>
                  <a:pt x="16768" y="15999"/>
                </a:moveTo>
                <a:cubicBezTo>
                  <a:pt x="16768" y="15967"/>
                  <a:pt x="16760" y="15933"/>
                  <a:pt x="16743" y="15925"/>
                </a:cubicBezTo>
                <a:cubicBezTo>
                  <a:pt x="16718" y="15925"/>
                  <a:pt x="16710" y="15925"/>
                  <a:pt x="16718" y="15900"/>
                </a:cubicBezTo>
                <a:cubicBezTo>
                  <a:pt x="16692" y="16024"/>
                  <a:pt x="16670" y="16148"/>
                  <a:pt x="16644" y="16272"/>
                </a:cubicBezTo>
                <a:cubicBezTo>
                  <a:pt x="16660" y="16130"/>
                  <a:pt x="16688" y="15993"/>
                  <a:pt x="16694" y="15850"/>
                </a:cubicBezTo>
                <a:cubicBezTo>
                  <a:pt x="16694" y="15842"/>
                  <a:pt x="16694" y="15833"/>
                  <a:pt x="16694" y="15825"/>
                </a:cubicBezTo>
                <a:cubicBezTo>
                  <a:pt x="16694" y="15940"/>
                  <a:pt x="16683" y="16036"/>
                  <a:pt x="16669" y="1614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91120" y="6491160"/>
            <a:ext cx="90720" cy="223920"/>
          </a:xfrm>
          <a:custGeom>
            <a:avLst/>
            <a:gdLst/>
            <a:ahLst/>
            <a:rect l="l" t="t" r="r" b="b"/>
            <a:pathLst>
              <a:path w="249" h="621">
                <a:moveTo>
                  <a:pt x="16867" y="18132"/>
                </a:moveTo>
                <a:cubicBezTo>
                  <a:pt x="16893" y="18209"/>
                  <a:pt x="16874" y="18110"/>
                  <a:pt x="16867" y="18083"/>
                </a:cubicBezTo>
                <a:cubicBezTo>
                  <a:pt x="16861" y="18060"/>
                  <a:pt x="16811" y="18010"/>
                  <a:pt x="16768" y="18033"/>
                </a:cubicBezTo>
                <a:cubicBezTo>
                  <a:pt x="16683" y="18078"/>
                  <a:pt x="16649" y="18194"/>
                  <a:pt x="16644" y="18281"/>
                </a:cubicBezTo>
                <a:cubicBezTo>
                  <a:pt x="16644" y="18298"/>
                  <a:pt x="16644" y="18314"/>
                  <a:pt x="16644" y="18331"/>
                </a:cubicBezTo>
                <a:cubicBezTo>
                  <a:pt x="16785" y="18315"/>
                  <a:pt x="16796" y="18267"/>
                  <a:pt x="16867" y="18157"/>
                </a:cubicBezTo>
                <a:cubicBezTo>
                  <a:pt x="16891" y="18120"/>
                  <a:pt x="16892" y="18128"/>
                  <a:pt x="16892" y="18083"/>
                </a:cubicBezTo>
                <a:cubicBezTo>
                  <a:pt x="16892" y="18215"/>
                  <a:pt x="16848" y="18327"/>
                  <a:pt x="16818" y="18455"/>
                </a:cubicBezTo>
                <a:cubicBezTo>
                  <a:pt x="16802" y="18523"/>
                  <a:pt x="16781" y="18588"/>
                  <a:pt x="16768" y="1865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732640"/>
            <a:ext cx="54000" cy="152280"/>
          </a:xfrm>
          <a:custGeom>
            <a:avLst/>
            <a:gdLst/>
            <a:ahLst/>
            <a:rect l="l" t="t" r="r" b="b"/>
            <a:pathLst>
              <a:path w="150" h="422">
                <a:moveTo>
                  <a:pt x="16049" y="16024"/>
                </a:moveTo>
                <a:cubicBezTo>
                  <a:pt x="16037" y="16020"/>
                  <a:pt x="15988" y="15945"/>
                  <a:pt x="15974" y="15949"/>
                </a:cubicBezTo>
                <a:cubicBezTo>
                  <a:pt x="15934" y="15959"/>
                  <a:pt x="15906" y="16295"/>
                  <a:pt x="15900" y="16346"/>
                </a:cubicBezTo>
                <a:cubicBezTo>
                  <a:pt x="15922" y="16214"/>
                  <a:pt x="15925" y="16037"/>
                  <a:pt x="15974" y="15925"/>
                </a:cubicBezTo>
                <a:cubicBezTo>
                  <a:pt x="15960" y="16032"/>
                  <a:pt x="15937" y="16139"/>
                  <a:pt x="15925" y="1624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6491160"/>
            <a:ext cx="98640" cy="243000"/>
          </a:xfrm>
          <a:custGeom>
            <a:avLst/>
            <a:gdLst/>
            <a:ahLst/>
            <a:rect l="l" t="t" r="r" b="b"/>
            <a:pathLst>
              <a:path w="274" h="671">
                <a:moveTo>
                  <a:pt x="16148" y="18231"/>
                </a:moveTo>
                <a:cubicBezTo>
                  <a:pt x="16207" y="18212"/>
                  <a:pt x="16161" y="18153"/>
                  <a:pt x="16148" y="18107"/>
                </a:cubicBezTo>
                <a:cubicBezTo>
                  <a:pt x="16127" y="18033"/>
                  <a:pt x="16061" y="18036"/>
                  <a:pt x="15999" y="18058"/>
                </a:cubicBezTo>
                <a:cubicBezTo>
                  <a:pt x="15865" y="18105"/>
                  <a:pt x="15900" y="18243"/>
                  <a:pt x="15900" y="18355"/>
                </a:cubicBezTo>
                <a:cubicBezTo>
                  <a:pt x="15900" y="18372"/>
                  <a:pt x="15900" y="18388"/>
                  <a:pt x="15900" y="18405"/>
                </a:cubicBezTo>
                <a:cubicBezTo>
                  <a:pt x="16013" y="18405"/>
                  <a:pt x="16081" y="18389"/>
                  <a:pt x="16148" y="18281"/>
                </a:cubicBezTo>
                <a:cubicBezTo>
                  <a:pt x="16179" y="18232"/>
                  <a:pt x="16173" y="18185"/>
                  <a:pt x="16173" y="18132"/>
                </a:cubicBezTo>
                <a:cubicBezTo>
                  <a:pt x="16173" y="18107"/>
                  <a:pt x="16173" y="18099"/>
                  <a:pt x="16173" y="18132"/>
                </a:cubicBezTo>
                <a:cubicBezTo>
                  <a:pt x="16173" y="18292"/>
                  <a:pt x="16178" y="18471"/>
                  <a:pt x="16148" y="18628"/>
                </a:cubicBezTo>
                <a:cubicBezTo>
                  <a:pt x="16128" y="18669"/>
                  <a:pt x="16119" y="18675"/>
                  <a:pt x="16123" y="1870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56160" y="6562800"/>
            <a:ext cx="88920" cy="108000"/>
          </a:xfrm>
          <a:custGeom>
            <a:avLst/>
            <a:gdLst/>
            <a:ahLst/>
            <a:rect l="l" t="t" r="r" b="b"/>
            <a:pathLst>
              <a:path w="249" h="299">
                <a:moveTo>
                  <a:pt x="15255" y="18231"/>
                </a:moveTo>
                <a:cubicBezTo>
                  <a:pt x="15218" y="18305"/>
                  <a:pt x="15181" y="18413"/>
                  <a:pt x="15156" y="18504"/>
                </a:cubicBezTo>
                <a:cubicBezTo>
                  <a:pt x="15156" y="18512"/>
                  <a:pt x="15156" y="18521"/>
                  <a:pt x="15156" y="18529"/>
                </a:cubicBezTo>
                <a:cubicBezTo>
                  <a:pt x="15200" y="18526"/>
                  <a:pt x="15372" y="18472"/>
                  <a:pt x="15404" y="18504"/>
                </a:cubicBezTo>
                <a:cubicBezTo>
                  <a:pt x="15404" y="18512"/>
                  <a:pt x="15404" y="18521"/>
                  <a:pt x="15404" y="1852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37160" y="6535800"/>
            <a:ext cx="27000" cy="243000"/>
          </a:xfrm>
          <a:custGeom>
            <a:avLst/>
            <a:gdLst/>
            <a:ahLst/>
            <a:rect l="l" t="t" r="r" b="b"/>
            <a:pathLst>
              <a:path w="75" h="671">
                <a:moveTo>
                  <a:pt x="15453" y="18207"/>
                </a:moveTo>
                <a:cubicBezTo>
                  <a:pt x="15453" y="18092"/>
                  <a:pt x="15433" y="18253"/>
                  <a:pt x="15429" y="18281"/>
                </a:cubicBezTo>
                <a:cubicBezTo>
                  <a:pt x="15407" y="18438"/>
                  <a:pt x="15381" y="18663"/>
                  <a:pt x="15404" y="18802"/>
                </a:cubicBezTo>
                <a:cubicBezTo>
                  <a:pt x="15404" y="18810"/>
                  <a:pt x="15404" y="18819"/>
                  <a:pt x="15404" y="1882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66000" y="5241960"/>
            <a:ext cx="115920" cy="152280"/>
          </a:xfrm>
          <a:custGeom>
            <a:avLst/>
            <a:gdLst/>
            <a:ahLst/>
            <a:rect l="l" t="t" r="r" b="b"/>
            <a:pathLst>
              <a:path w="323" h="423">
                <a:moveTo>
                  <a:pt x="19372" y="14610"/>
                </a:moveTo>
                <a:cubicBezTo>
                  <a:pt x="19412" y="14557"/>
                  <a:pt x="19447" y="14566"/>
                  <a:pt x="19521" y="14560"/>
                </a:cubicBezTo>
                <a:cubicBezTo>
                  <a:pt x="19498" y="14733"/>
                  <a:pt x="19423" y="14831"/>
                  <a:pt x="19348" y="14982"/>
                </a:cubicBezTo>
                <a:cubicBezTo>
                  <a:pt x="19490" y="14950"/>
                  <a:pt x="19566" y="14893"/>
                  <a:pt x="19670" y="1495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92920" y="5483160"/>
            <a:ext cx="9360" cy="108000"/>
          </a:xfrm>
          <a:custGeom>
            <a:avLst/>
            <a:gdLst/>
            <a:ahLst/>
            <a:rect l="l" t="t" r="r" b="b"/>
            <a:pathLst>
              <a:path w="26" h="299">
                <a:moveTo>
                  <a:pt x="19174" y="15230"/>
                </a:moveTo>
                <a:cubicBezTo>
                  <a:pt x="19167" y="15330"/>
                  <a:pt x="19149" y="15427"/>
                  <a:pt x="19149" y="1552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99200" y="5464080"/>
            <a:ext cx="9720" cy="144720"/>
          </a:xfrm>
          <a:custGeom>
            <a:avLst/>
            <a:gdLst/>
            <a:ahLst/>
            <a:rect l="l" t="t" r="r" b="b"/>
            <a:pathLst>
              <a:path w="26" h="398">
                <a:moveTo>
                  <a:pt x="19720" y="15205"/>
                </a:moveTo>
                <a:cubicBezTo>
                  <a:pt x="19720" y="15197"/>
                  <a:pt x="19720" y="15188"/>
                  <a:pt x="19720" y="15180"/>
                </a:cubicBezTo>
                <a:cubicBezTo>
                  <a:pt x="19769" y="15293"/>
                  <a:pt x="19745" y="15446"/>
                  <a:pt x="19745" y="1557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70840" y="5688000"/>
            <a:ext cx="160200" cy="13500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19918" y="15900"/>
                </a:moveTo>
                <a:cubicBezTo>
                  <a:pt x="20013" y="15862"/>
                  <a:pt x="20108" y="15815"/>
                  <a:pt x="20191" y="15825"/>
                </a:cubicBezTo>
                <a:cubicBezTo>
                  <a:pt x="20158" y="15875"/>
                  <a:pt x="20115" y="15927"/>
                  <a:pt x="20092" y="15974"/>
                </a:cubicBezTo>
                <a:cubicBezTo>
                  <a:pt x="20162" y="15974"/>
                  <a:pt x="20472" y="15929"/>
                  <a:pt x="20340" y="16098"/>
                </a:cubicBezTo>
                <a:cubicBezTo>
                  <a:pt x="20263" y="16196"/>
                  <a:pt x="20103" y="16180"/>
                  <a:pt x="20017" y="1612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02200" y="6653160"/>
            <a:ext cx="54000" cy="71640"/>
          </a:xfrm>
          <a:custGeom>
            <a:avLst/>
            <a:gdLst/>
            <a:ahLst/>
            <a:rect l="l" t="t" r="r" b="b"/>
            <a:pathLst>
              <a:path w="150" h="200">
                <a:moveTo>
                  <a:pt x="16470" y="18529"/>
                </a:moveTo>
                <a:cubicBezTo>
                  <a:pt x="16442" y="18539"/>
                  <a:pt x="16393" y="18605"/>
                  <a:pt x="16396" y="18653"/>
                </a:cubicBezTo>
                <a:cubicBezTo>
                  <a:pt x="16401" y="18731"/>
                  <a:pt x="16492" y="18539"/>
                  <a:pt x="16495" y="18529"/>
                </a:cubicBezTo>
                <a:cubicBezTo>
                  <a:pt x="16427" y="18568"/>
                  <a:pt x="16432" y="18554"/>
                  <a:pt x="16421" y="18628"/>
                </a:cubicBezTo>
                <a:cubicBezTo>
                  <a:pt x="16460" y="18623"/>
                  <a:pt x="16612" y="18500"/>
                  <a:pt x="16545" y="18479"/>
                </a:cubicBezTo>
                <a:cubicBezTo>
                  <a:pt x="16450" y="18450"/>
                  <a:pt x="16390" y="18616"/>
                  <a:pt x="16446" y="18653"/>
                </a:cubicBezTo>
                <a:cubicBezTo>
                  <a:pt x="16530" y="18611"/>
                  <a:pt x="16462" y="18578"/>
                  <a:pt x="16446" y="18653"/>
                </a:cubicBezTo>
                <a:cubicBezTo>
                  <a:pt x="16446" y="18678"/>
                  <a:pt x="16446" y="18686"/>
                  <a:pt x="16470" y="1867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 Students will multiplying decimal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try on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9.4 x 12.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you tr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.14 x 8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8080" y="5010120"/>
            <a:ext cx="36720" cy="8892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12080" y="13915"/>
                </a:moveTo>
                <a:cubicBezTo>
                  <a:pt x="12110" y="13999"/>
                  <a:pt x="12142" y="14082"/>
                  <a:pt x="12179" y="1416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200" y="1812960"/>
            <a:ext cx="339840" cy="374760"/>
          </a:xfrm>
          <a:custGeom>
            <a:avLst/>
            <a:gdLst/>
            <a:ahLst/>
            <a:rect l="l" t="t" r="r" b="b"/>
            <a:pathLst>
              <a:path w="944" h="1043">
                <a:moveTo>
                  <a:pt x="943" y="5383"/>
                </a:moveTo>
                <a:cubicBezTo>
                  <a:pt x="943" y="5358"/>
                  <a:pt x="943" y="5350"/>
                  <a:pt x="943" y="5333"/>
                </a:cubicBezTo>
                <a:cubicBezTo>
                  <a:pt x="943" y="5473"/>
                  <a:pt x="954" y="5592"/>
                  <a:pt x="943" y="5730"/>
                </a:cubicBezTo>
                <a:cubicBezTo>
                  <a:pt x="943" y="5738"/>
                  <a:pt x="943" y="5747"/>
                  <a:pt x="943" y="5755"/>
                </a:cubicBezTo>
              </a:path>
              <a:path w="944" h="1043">
                <a:moveTo>
                  <a:pt x="571" y="5904"/>
                </a:moveTo>
                <a:cubicBezTo>
                  <a:pt x="764" y="6084"/>
                  <a:pt x="917" y="6080"/>
                  <a:pt x="1166" y="5953"/>
                </a:cubicBezTo>
                <a:cubicBezTo>
                  <a:pt x="1436" y="5816"/>
                  <a:pt x="1429" y="5567"/>
                  <a:pt x="1339" y="5308"/>
                </a:cubicBezTo>
                <a:cubicBezTo>
                  <a:pt x="1261" y="5085"/>
                  <a:pt x="997" y="4954"/>
                  <a:pt x="769" y="5060"/>
                </a:cubicBezTo>
                <a:cubicBezTo>
                  <a:pt x="490" y="5190"/>
                  <a:pt x="394" y="5663"/>
                  <a:pt x="471" y="5928"/>
                </a:cubicBezTo>
                <a:cubicBezTo>
                  <a:pt x="574" y="6056"/>
                  <a:pt x="613" y="6098"/>
                  <a:pt x="744" y="607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25920" y="5045040"/>
            <a:ext cx="1170000" cy="696960"/>
          </a:xfrm>
          <a:custGeom>
            <a:avLst/>
            <a:gdLst/>
            <a:ahLst/>
            <a:rect l="l" t="t" r="r" b="b"/>
            <a:pathLst>
              <a:path w="3250" h="1935">
                <a:moveTo>
                  <a:pt x="13271" y="14263"/>
                </a:moveTo>
                <a:cubicBezTo>
                  <a:pt x="13271" y="14164"/>
                  <a:pt x="13188" y="14227"/>
                  <a:pt x="13122" y="14263"/>
                </a:cubicBezTo>
                <a:cubicBezTo>
                  <a:pt x="13097" y="14279"/>
                  <a:pt x="13072" y="14296"/>
                  <a:pt x="13047" y="14312"/>
                </a:cubicBezTo>
                <a:cubicBezTo>
                  <a:pt x="13083" y="14455"/>
                  <a:pt x="13270" y="14498"/>
                  <a:pt x="13295" y="14635"/>
                </a:cubicBezTo>
                <a:cubicBezTo>
                  <a:pt x="13273" y="14727"/>
                  <a:pt x="13272" y="14757"/>
                  <a:pt x="13196" y="14759"/>
                </a:cubicBezTo>
                <a:cubicBezTo>
                  <a:pt x="13076" y="14680"/>
                  <a:pt x="13206" y="14536"/>
                  <a:pt x="13271" y="14412"/>
                </a:cubicBezTo>
                <a:cubicBezTo>
                  <a:pt x="13307" y="14338"/>
                  <a:pt x="13324" y="14334"/>
                  <a:pt x="13320" y="14288"/>
                </a:cubicBezTo>
              </a:path>
              <a:path w="3250" h="1935">
                <a:moveTo>
                  <a:pt x="12378" y="14412"/>
                </a:moveTo>
                <a:cubicBezTo>
                  <a:pt x="12407" y="14291"/>
                  <a:pt x="12520" y="14364"/>
                  <a:pt x="12601" y="14387"/>
                </a:cubicBezTo>
                <a:cubicBezTo>
                  <a:pt x="12637" y="14580"/>
                  <a:pt x="12609" y="14827"/>
                  <a:pt x="12328" y="14833"/>
                </a:cubicBezTo>
                <a:cubicBezTo>
                  <a:pt x="12287" y="14817"/>
                  <a:pt x="12245" y="14800"/>
                  <a:pt x="12204" y="14784"/>
                </a:cubicBezTo>
                <a:cubicBezTo>
                  <a:pt x="12290" y="14663"/>
                  <a:pt x="12465" y="14727"/>
                  <a:pt x="12626" y="14709"/>
                </a:cubicBezTo>
                <a:cubicBezTo>
                  <a:pt x="12808" y="14688"/>
                  <a:pt x="12762" y="14586"/>
                  <a:pt x="12774" y="14436"/>
                </a:cubicBezTo>
              </a:path>
              <a:path w="3250" h="1935">
                <a:moveTo>
                  <a:pt x="11063" y="14461"/>
                </a:moveTo>
                <a:cubicBezTo>
                  <a:pt x="11215" y="14449"/>
                  <a:pt x="11343" y="14518"/>
                  <a:pt x="11261" y="14709"/>
                </a:cubicBezTo>
                <a:cubicBezTo>
                  <a:pt x="11184" y="14889"/>
                  <a:pt x="11078" y="14921"/>
                  <a:pt x="10914" y="14957"/>
                </a:cubicBezTo>
                <a:cubicBezTo>
                  <a:pt x="10976" y="14803"/>
                  <a:pt x="11107" y="14721"/>
                  <a:pt x="11286" y="14784"/>
                </a:cubicBezTo>
                <a:cubicBezTo>
                  <a:pt x="11331" y="14828"/>
                  <a:pt x="11348" y="14838"/>
                  <a:pt x="11336" y="14883"/>
                </a:cubicBezTo>
              </a:path>
              <a:path w="3250" h="1935">
                <a:moveTo>
                  <a:pt x="11807" y="14362"/>
                </a:moveTo>
                <a:cubicBezTo>
                  <a:pt x="11750" y="14362"/>
                  <a:pt x="11702" y="14346"/>
                  <a:pt x="11683" y="14387"/>
                </a:cubicBezTo>
                <a:cubicBezTo>
                  <a:pt x="11655" y="14446"/>
                  <a:pt x="11639" y="14506"/>
                  <a:pt x="11609" y="14560"/>
                </a:cubicBezTo>
                <a:cubicBezTo>
                  <a:pt x="11702" y="14560"/>
                  <a:pt x="11734" y="14498"/>
                  <a:pt x="11832" y="14536"/>
                </a:cubicBezTo>
                <a:cubicBezTo>
                  <a:pt x="12047" y="14620"/>
                  <a:pt x="11822" y="14768"/>
                  <a:pt x="11708" y="14784"/>
                </a:cubicBezTo>
                <a:cubicBezTo>
                  <a:pt x="11609" y="14784"/>
                  <a:pt x="11567" y="14809"/>
                  <a:pt x="11584" y="14734"/>
                </a:cubicBezTo>
              </a:path>
              <a:path w="3250" h="1935">
                <a:moveTo>
                  <a:pt x="11633" y="15255"/>
                </a:moveTo>
                <a:cubicBezTo>
                  <a:pt x="11692" y="15157"/>
                  <a:pt x="11818" y="15157"/>
                  <a:pt x="11931" y="15131"/>
                </a:cubicBezTo>
                <a:cubicBezTo>
                  <a:pt x="11979" y="15320"/>
                  <a:pt x="11928" y="15467"/>
                  <a:pt x="11881" y="15652"/>
                </a:cubicBezTo>
                <a:cubicBezTo>
                  <a:pt x="11881" y="15677"/>
                  <a:pt x="11881" y="15685"/>
                  <a:pt x="11881" y="15652"/>
                </a:cubicBezTo>
              </a:path>
              <a:path w="3250" h="1935">
                <a:moveTo>
                  <a:pt x="10071" y="15503"/>
                </a:moveTo>
                <a:cubicBezTo>
                  <a:pt x="10135" y="15449"/>
                  <a:pt x="10357" y="15298"/>
                  <a:pt x="10368" y="15478"/>
                </a:cubicBezTo>
                <a:cubicBezTo>
                  <a:pt x="10346" y="15594"/>
                  <a:pt x="10340" y="15628"/>
                  <a:pt x="10319" y="15701"/>
                </a:cubicBezTo>
                <a:cubicBezTo>
                  <a:pt x="10247" y="15738"/>
                  <a:pt x="10416" y="15564"/>
                  <a:pt x="10492" y="15652"/>
                </a:cubicBezTo>
                <a:cubicBezTo>
                  <a:pt x="10577" y="15751"/>
                  <a:pt x="10476" y="16024"/>
                  <a:pt x="10319" y="15949"/>
                </a:cubicBezTo>
                <a:cubicBezTo>
                  <a:pt x="10302" y="15924"/>
                  <a:pt x="10286" y="15900"/>
                  <a:pt x="10269" y="15875"/>
                </a:cubicBezTo>
              </a:path>
              <a:path w="3250" h="1935">
                <a:moveTo>
                  <a:pt x="10641" y="15255"/>
                </a:moveTo>
                <a:cubicBezTo>
                  <a:pt x="10690" y="15243"/>
                  <a:pt x="10790" y="15117"/>
                  <a:pt x="10840" y="15205"/>
                </a:cubicBezTo>
                <a:cubicBezTo>
                  <a:pt x="10840" y="15316"/>
                  <a:pt x="10836" y="15360"/>
                  <a:pt x="10790" y="15429"/>
                </a:cubicBezTo>
                <a:cubicBezTo>
                  <a:pt x="10782" y="15437"/>
                  <a:pt x="10773" y="15445"/>
                  <a:pt x="10765" y="15453"/>
                </a:cubicBezTo>
                <a:cubicBezTo>
                  <a:pt x="10812" y="15377"/>
                  <a:pt x="10947" y="15313"/>
                  <a:pt x="10988" y="15453"/>
                </a:cubicBezTo>
                <a:cubicBezTo>
                  <a:pt x="11042" y="15638"/>
                  <a:pt x="10911" y="15654"/>
                  <a:pt x="10790" y="15701"/>
                </a:cubicBezTo>
              </a:path>
              <a:path w="3250" h="1935">
                <a:moveTo>
                  <a:pt x="10716" y="14015"/>
                </a:moveTo>
                <a:cubicBezTo>
                  <a:pt x="10778" y="14115"/>
                  <a:pt x="10805" y="14224"/>
                  <a:pt x="10840" y="1433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00" y="4081320"/>
            <a:ext cx="446040" cy="419400"/>
          </a:xfrm>
          <a:custGeom>
            <a:avLst/>
            <a:gdLst/>
            <a:ahLst/>
            <a:rect l="l" t="t" r="r" b="b"/>
            <a:pathLst>
              <a:path w="1241" h="1167">
                <a:moveTo>
                  <a:pt x="769" y="11832"/>
                </a:moveTo>
                <a:cubicBezTo>
                  <a:pt x="786" y="11807"/>
                  <a:pt x="845" y="11783"/>
                  <a:pt x="893" y="11757"/>
                </a:cubicBezTo>
                <a:cubicBezTo>
                  <a:pt x="868" y="11956"/>
                  <a:pt x="768" y="12006"/>
                  <a:pt x="645" y="12154"/>
                </a:cubicBezTo>
                <a:cubicBezTo>
                  <a:pt x="628" y="12179"/>
                  <a:pt x="612" y="12204"/>
                  <a:pt x="595" y="12229"/>
                </a:cubicBezTo>
                <a:cubicBezTo>
                  <a:pt x="670" y="12254"/>
                  <a:pt x="809" y="12194"/>
                  <a:pt x="893" y="12154"/>
                </a:cubicBezTo>
                <a:cubicBezTo>
                  <a:pt x="938" y="12132"/>
                  <a:pt x="928" y="12145"/>
                  <a:pt x="992" y="12154"/>
                </a:cubicBezTo>
              </a:path>
              <a:path w="1241" h="1167">
                <a:moveTo>
                  <a:pt x="496" y="12427"/>
                </a:moveTo>
                <a:cubicBezTo>
                  <a:pt x="704" y="12501"/>
                  <a:pt x="820" y="12524"/>
                  <a:pt x="1042" y="12452"/>
                </a:cubicBezTo>
                <a:cubicBezTo>
                  <a:pt x="1304" y="12367"/>
                  <a:pt x="1442" y="12163"/>
                  <a:pt x="1389" y="11881"/>
                </a:cubicBezTo>
                <a:cubicBezTo>
                  <a:pt x="1335" y="11592"/>
                  <a:pt x="1075" y="11336"/>
                  <a:pt x="769" y="11336"/>
                </a:cubicBezTo>
                <a:cubicBezTo>
                  <a:pt x="427" y="11336"/>
                  <a:pt x="201" y="11649"/>
                  <a:pt x="149" y="11956"/>
                </a:cubicBezTo>
                <a:cubicBezTo>
                  <a:pt x="77" y="12377"/>
                  <a:pt x="351" y="12447"/>
                  <a:pt x="670" y="1242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57800" y="1598760"/>
            <a:ext cx="563400" cy="3268440"/>
          </a:xfrm>
          <a:custGeom>
            <a:avLst/>
            <a:gdLst/>
            <a:ahLst/>
            <a:rect l="l" t="t" r="r" b="b"/>
            <a:pathLst>
              <a:path w="1563" h="9080">
                <a:moveTo>
                  <a:pt x="13494" y="4440"/>
                </a:moveTo>
                <a:cubicBezTo>
                  <a:pt x="13502" y="4448"/>
                  <a:pt x="13511" y="4457"/>
                  <a:pt x="13519" y="4465"/>
                </a:cubicBezTo>
              </a:path>
              <a:path w="1563" h="9080">
                <a:moveTo>
                  <a:pt x="13519" y="4465"/>
                </a:moveTo>
                <a:lnTo>
                  <a:pt x="13519" y="4465"/>
                </a:lnTo>
              </a:path>
              <a:path w="1563" h="9080">
                <a:moveTo>
                  <a:pt x="12973" y="5358"/>
                </a:moveTo>
                <a:cubicBezTo>
                  <a:pt x="12989" y="5366"/>
                  <a:pt x="13006" y="5375"/>
                  <a:pt x="13022" y="5383"/>
                </a:cubicBezTo>
              </a:path>
              <a:path w="1563" h="9080">
                <a:moveTo>
                  <a:pt x="12750" y="12675"/>
                </a:moveTo>
                <a:cubicBezTo>
                  <a:pt x="12750" y="12700"/>
                  <a:pt x="12750" y="12708"/>
                  <a:pt x="12774" y="12700"/>
                </a:cubicBezTo>
              </a:path>
              <a:path w="1563" h="9080">
                <a:moveTo>
                  <a:pt x="12774" y="12700"/>
                </a:moveTo>
                <a:lnTo>
                  <a:pt x="12774" y="12700"/>
                </a:lnTo>
              </a:path>
              <a:path w="1563" h="9080">
                <a:moveTo>
                  <a:pt x="13295" y="12129"/>
                </a:moveTo>
                <a:cubicBezTo>
                  <a:pt x="13303" y="12251"/>
                  <a:pt x="13304" y="12378"/>
                  <a:pt x="13469" y="12378"/>
                </a:cubicBezTo>
                <a:cubicBezTo>
                  <a:pt x="13586" y="12354"/>
                  <a:pt x="13622" y="12351"/>
                  <a:pt x="13667" y="12278"/>
                </a:cubicBezTo>
              </a:path>
              <a:path w="1563" h="9080">
                <a:moveTo>
                  <a:pt x="13469" y="13494"/>
                </a:moveTo>
                <a:cubicBezTo>
                  <a:pt x="13477" y="13502"/>
                  <a:pt x="13486" y="13511"/>
                  <a:pt x="13494" y="13519"/>
                </a:cubicBezTo>
              </a:path>
              <a:path w="1563" h="9080">
                <a:moveTo>
                  <a:pt x="12105" y="11410"/>
                </a:moveTo>
                <a:cubicBezTo>
                  <a:pt x="12123" y="11560"/>
                  <a:pt x="12139" y="11708"/>
                  <a:pt x="12154" y="1185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87840" y="1160640"/>
            <a:ext cx="1778040" cy="2428560"/>
          </a:xfrm>
          <a:custGeom>
            <a:avLst/>
            <a:gdLst/>
            <a:ahLst/>
            <a:rect l="l" t="t" r="r" b="b"/>
            <a:pathLst>
              <a:path w="4937" h="6747">
                <a:moveTo>
                  <a:pt x="11733" y="4118"/>
                </a:moveTo>
                <a:cubicBezTo>
                  <a:pt x="11733" y="4302"/>
                  <a:pt x="11771" y="4483"/>
                  <a:pt x="11807" y="4663"/>
                </a:cubicBezTo>
                <a:cubicBezTo>
                  <a:pt x="11826" y="4737"/>
                  <a:pt x="11834" y="4796"/>
                  <a:pt x="11832" y="4738"/>
                </a:cubicBezTo>
              </a:path>
              <a:path w="4937" h="6747">
                <a:moveTo>
                  <a:pt x="12328" y="3894"/>
                </a:moveTo>
                <a:cubicBezTo>
                  <a:pt x="12410" y="3883"/>
                  <a:pt x="12632" y="3827"/>
                  <a:pt x="12675" y="3944"/>
                </a:cubicBezTo>
                <a:cubicBezTo>
                  <a:pt x="12727" y="4086"/>
                  <a:pt x="12490" y="4174"/>
                  <a:pt x="12402" y="4192"/>
                </a:cubicBezTo>
                <a:cubicBezTo>
                  <a:pt x="12534" y="4152"/>
                  <a:pt x="12709" y="4145"/>
                  <a:pt x="12700" y="4341"/>
                </a:cubicBezTo>
                <a:cubicBezTo>
                  <a:pt x="12687" y="4629"/>
                  <a:pt x="12454" y="4636"/>
                  <a:pt x="12254" y="4589"/>
                </a:cubicBezTo>
              </a:path>
              <a:path w="4937" h="6747">
                <a:moveTo>
                  <a:pt x="13295" y="3994"/>
                </a:moveTo>
                <a:cubicBezTo>
                  <a:pt x="13169" y="3898"/>
                  <a:pt x="13009" y="3956"/>
                  <a:pt x="12923" y="4118"/>
                </a:cubicBezTo>
                <a:cubicBezTo>
                  <a:pt x="12923" y="4143"/>
                  <a:pt x="12923" y="4167"/>
                  <a:pt x="12923" y="4192"/>
                </a:cubicBezTo>
                <a:cubicBezTo>
                  <a:pt x="13113" y="4273"/>
                  <a:pt x="13205" y="4250"/>
                  <a:pt x="13320" y="4068"/>
                </a:cubicBezTo>
                <a:cubicBezTo>
                  <a:pt x="13320" y="4043"/>
                  <a:pt x="13320" y="4035"/>
                  <a:pt x="13320" y="4068"/>
                </a:cubicBezTo>
                <a:cubicBezTo>
                  <a:pt x="13310" y="4259"/>
                  <a:pt x="13295" y="4446"/>
                  <a:pt x="13295" y="4638"/>
                </a:cubicBezTo>
                <a:cubicBezTo>
                  <a:pt x="13295" y="4646"/>
                  <a:pt x="13295" y="4655"/>
                  <a:pt x="13295" y="4663"/>
                </a:cubicBezTo>
              </a:path>
              <a:path w="4937" h="6747">
                <a:moveTo>
                  <a:pt x="13866" y="4018"/>
                </a:moveTo>
                <a:cubicBezTo>
                  <a:pt x="13836" y="4117"/>
                  <a:pt x="13807" y="4211"/>
                  <a:pt x="13915" y="4242"/>
                </a:cubicBezTo>
                <a:cubicBezTo>
                  <a:pt x="14048" y="4281"/>
                  <a:pt x="14155" y="4260"/>
                  <a:pt x="14288" y="4242"/>
                </a:cubicBezTo>
              </a:path>
              <a:path w="4937" h="6747">
                <a:moveTo>
                  <a:pt x="14238" y="3845"/>
                </a:moveTo>
                <a:cubicBezTo>
                  <a:pt x="14238" y="4093"/>
                  <a:pt x="14238" y="4341"/>
                  <a:pt x="14238" y="4589"/>
                </a:cubicBezTo>
              </a:path>
              <a:path w="4937" h="6747">
                <a:moveTo>
                  <a:pt x="11013" y="5159"/>
                </a:moveTo>
                <a:cubicBezTo>
                  <a:pt x="11064" y="5227"/>
                  <a:pt x="11180" y="5541"/>
                  <a:pt x="11261" y="5556"/>
                </a:cubicBezTo>
                <a:cubicBezTo>
                  <a:pt x="11269" y="5531"/>
                  <a:pt x="11278" y="5507"/>
                  <a:pt x="11286" y="5482"/>
                </a:cubicBezTo>
              </a:path>
              <a:path w="4937" h="6747">
                <a:moveTo>
                  <a:pt x="11286" y="5159"/>
                </a:moveTo>
                <a:cubicBezTo>
                  <a:pt x="11234" y="5288"/>
                  <a:pt x="11104" y="5524"/>
                  <a:pt x="11162" y="5581"/>
                </a:cubicBezTo>
              </a:path>
              <a:path w="4937" h="6747">
                <a:moveTo>
                  <a:pt x="12005" y="5184"/>
                </a:moveTo>
                <a:cubicBezTo>
                  <a:pt x="12016" y="5308"/>
                  <a:pt x="12044" y="5431"/>
                  <a:pt x="12055" y="5556"/>
                </a:cubicBezTo>
              </a:path>
              <a:path w="4937" h="6747">
                <a:moveTo>
                  <a:pt x="12378" y="5110"/>
                </a:moveTo>
                <a:cubicBezTo>
                  <a:pt x="12567" y="5089"/>
                  <a:pt x="12745" y="5102"/>
                  <a:pt x="12700" y="5358"/>
                </a:cubicBezTo>
                <a:cubicBezTo>
                  <a:pt x="12686" y="5437"/>
                  <a:pt x="12502" y="5566"/>
                  <a:pt x="12452" y="5457"/>
                </a:cubicBezTo>
                <a:cubicBezTo>
                  <a:pt x="12452" y="5440"/>
                  <a:pt x="12452" y="5424"/>
                  <a:pt x="12452" y="5407"/>
                </a:cubicBezTo>
                <a:cubicBezTo>
                  <a:pt x="12582" y="5389"/>
                  <a:pt x="12663" y="5386"/>
                  <a:pt x="12750" y="5482"/>
                </a:cubicBezTo>
                <a:cubicBezTo>
                  <a:pt x="12758" y="5490"/>
                  <a:pt x="12766" y="5499"/>
                  <a:pt x="12774" y="5507"/>
                </a:cubicBezTo>
              </a:path>
              <a:path w="4937" h="6747">
                <a:moveTo>
                  <a:pt x="13295" y="5085"/>
                </a:moveTo>
                <a:cubicBezTo>
                  <a:pt x="13309" y="5044"/>
                  <a:pt x="13390" y="4989"/>
                  <a:pt x="13444" y="5035"/>
                </a:cubicBezTo>
                <a:cubicBezTo>
                  <a:pt x="13477" y="5063"/>
                  <a:pt x="13376" y="5147"/>
                  <a:pt x="13370" y="5159"/>
                </a:cubicBezTo>
                <a:cubicBezTo>
                  <a:pt x="13474" y="5099"/>
                  <a:pt x="13533" y="5169"/>
                  <a:pt x="13618" y="5234"/>
                </a:cubicBezTo>
                <a:cubicBezTo>
                  <a:pt x="13578" y="5286"/>
                  <a:pt x="13410" y="5518"/>
                  <a:pt x="13320" y="5383"/>
                </a:cubicBezTo>
                <a:cubicBezTo>
                  <a:pt x="13328" y="5366"/>
                  <a:pt x="13337" y="5350"/>
                  <a:pt x="13345" y="5333"/>
                </a:cubicBezTo>
              </a:path>
              <a:path w="4937" h="6747">
                <a:moveTo>
                  <a:pt x="13866" y="5011"/>
                </a:moveTo>
                <a:cubicBezTo>
                  <a:pt x="13975" y="4993"/>
                  <a:pt x="14091" y="4931"/>
                  <a:pt x="14163" y="5060"/>
                </a:cubicBezTo>
                <a:cubicBezTo>
                  <a:pt x="14241" y="5200"/>
                  <a:pt x="14100" y="5404"/>
                  <a:pt x="13940" y="5383"/>
                </a:cubicBezTo>
                <a:cubicBezTo>
                  <a:pt x="13915" y="5366"/>
                  <a:pt x="13891" y="5350"/>
                  <a:pt x="13866" y="5333"/>
                </a:cubicBezTo>
                <a:cubicBezTo>
                  <a:pt x="14055" y="5255"/>
                  <a:pt x="14108" y="5260"/>
                  <a:pt x="14288" y="5358"/>
                </a:cubicBezTo>
                <a:cubicBezTo>
                  <a:pt x="14328" y="5378"/>
                  <a:pt x="14344" y="5376"/>
                  <a:pt x="14337" y="5407"/>
                </a:cubicBezTo>
              </a:path>
              <a:path w="4937" h="6747">
                <a:moveTo>
                  <a:pt x="11733" y="5879"/>
                </a:moveTo>
                <a:cubicBezTo>
                  <a:pt x="12064" y="5837"/>
                  <a:pt x="12393" y="5792"/>
                  <a:pt x="12725" y="5755"/>
                </a:cubicBezTo>
                <a:cubicBezTo>
                  <a:pt x="13295" y="5692"/>
                  <a:pt x="13887" y="5600"/>
                  <a:pt x="14461" y="5606"/>
                </a:cubicBezTo>
                <a:cubicBezTo>
                  <a:pt x="14602" y="5624"/>
                  <a:pt x="14609" y="5632"/>
                  <a:pt x="14684" y="5631"/>
                </a:cubicBezTo>
              </a:path>
              <a:path w="4937" h="6747">
                <a:moveTo>
                  <a:pt x="14560" y="5978"/>
                </a:moveTo>
                <a:cubicBezTo>
                  <a:pt x="14412" y="6045"/>
                  <a:pt x="14304" y="6089"/>
                  <a:pt x="14213" y="6226"/>
                </a:cubicBezTo>
                <a:cubicBezTo>
                  <a:pt x="14335" y="6311"/>
                  <a:pt x="14450" y="6398"/>
                  <a:pt x="14560" y="6499"/>
                </a:cubicBezTo>
                <a:cubicBezTo>
                  <a:pt x="14461" y="6519"/>
                  <a:pt x="14392" y="6513"/>
                  <a:pt x="14387" y="6375"/>
                </a:cubicBezTo>
                <a:cubicBezTo>
                  <a:pt x="14382" y="6226"/>
                  <a:pt x="14576" y="6205"/>
                  <a:pt x="14610" y="6102"/>
                </a:cubicBezTo>
                <a:cubicBezTo>
                  <a:pt x="14602" y="6102"/>
                  <a:pt x="14593" y="6102"/>
                  <a:pt x="14585" y="6102"/>
                </a:cubicBezTo>
              </a:path>
              <a:path w="4937" h="6747">
                <a:moveTo>
                  <a:pt x="13618" y="6251"/>
                </a:moveTo>
                <a:cubicBezTo>
                  <a:pt x="13487" y="6211"/>
                  <a:pt x="13409" y="6228"/>
                  <a:pt x="13295" y="6300"/>
                </a:cubicBezTo>
                <a:cubicBezTo>
                  <a:pt x="13356" y="6346"/>
                  <a:pt x="13681" y="6475"/>
                  <a:pt x="13667" y="6573"/>
                </a:cubicBezTo>
                <a:cubicBezTo>
                  <a:pt x="13642" y="6598"/>
                  <a:pt x="13618" y="6623"/>
                  <a:pt x="13593" y="6648"/>
                </a:cubicBezTo>
                <a:cubicBezTo>
                  <a:pt x="13427" y="6598"/>
                  <a:pt x="13499" y="6491"/>
                  <a:pt x="13568" y="6350"/>
                </a:cubicBezTo>
                <a:cubicBezTo>
                  <a:pt x="13613" y="6262"/>
                  <a:pt x="13629" y="6241"/>
                  <a:pt x="13618" y="6176"/>
                </a:cubicBezTo>
              </a:path>
              <a:path w="4937" h="6747">
                <a:moveTo>
                  <a:pt x="12229" y="3398"/>
                </a:moveTo>
                <a:cubicBezTo>
                  <a:pt x="12229" y="3503"/>
                  <a:pt x="12230" y="3594"/>
                  <a:pt x="12254" y="3696"/>
                </a:cubicBezTo>
              </a:path>
              <a:path w="4937" h="6747">
                <a:moveTo>
                  <a:pt x="12551" y="6300"/>
                </a:moveTo>
                <a:cubicBezTo>
                  <a:pt x="12660" y="6300"/>
                  <a:pt x="12765" y="6282"/>
                  <a:pt x="12874" y="6276"/>
                </a:cubicBezTo>
                <a:cubicBezTo>
                  <a:pt x="12898" y="6410"/>
                  <a:pt x="12852" y="6534"/>
                  <a:pt x="12824" y="6672"/>
                </a:cubicBezTo>
                <a:cubicBezTo>
                  <a:pt x="12824" y="6680"/>
                  <a:pt x="12824" y="6689"/>
                  <a:pt x="12824" y="6697"/>
                </a:cubicBezTo>
              </a:path>
              <a:path w="4937" h="6747">
                <a:moveTo>
                  <a:pt x="11931" y="6350"/>
                </a:moveTo>
                <a:cubicBezTo>
                  <a:pt x="12077" y="6287"/>
                  <a:pt x="12273" y="6254"/>
                  <a:pt x="12254" y="6499"/>
                </a:cubicBezTo>
                <a:cubicBezTo>
                  <a:pt x="12237" y="6730"/>
                  <a:pt x="11930" y="6713"/>
                  <a:pt x="11782" y="6697"/>
                </a:cubicBezTo>
                <a:cubicBezTo>
                  <a:pt x="11898" y="6516"/>
                  <a:pt x="12031" y="6568"/>
                  <a:pt x="12229" y="6623"/>
                </a:cubicBezTo>
                <a:cubicBezTo>
                  <a:pt x="12296" y="6646"/>
                  <a:pt x="12314" y="6651"/>
                  <a:pt x="12353" y="6672"/>
                </a:cubicBezTo>
              </a:path>
              <a:path w="4937" h="6747">
                <a:moveTo>
                  <a:pt x="14560" y="6747"/>
                </a:moveTo>
                <a:cubicBezTo>
                  <a:pt x="14433" y="6811"/>
                  <a:pt x="14331" y="6898"/>
                  <a:pt x="14288" y="7045"/>
                </a:cubicBezTo>
                <a:cubicBezTo>
                  <a:pt x="14288" y="7061"/>
                  <a:pt x="14288" y="7078"/>
                  <a:pt x="14288" y="7094"/>
                </a:cubicBezTo>
                <a:cubicBezTo>
                  <a:pt x="14483" y="7082"/>
                  <a:pt x="14547" y="7088"/>
                  <a:pt x="14585" y="6896"/>
                </a:cubicBezTo>
                <a:cubicBezTo>
                  <a:pt x="14515" y="6860"/>
                  <a:pt x="14475" y="6847"/>
                  <a:pt x="14412" y="6846"/>
                </a:cubicBezTo>
              </a:path>
              <a:path w="4937" h="6747">
                <a:moveTo>
                  <a:pt x="13568" y="6970"/>
                </a:moveTo>
                <a:cubicBezTo>
                  <a:pt x="13645" y="6944"/>
                  <a:pt x="13812" y="6919"/>
                  <a:pt x="13841" y="7045"/>
                </a:cubicBezTo>
                <a:cubicBezTo>
                  <a:pt x="13877" y="7199"/>
                  <a:pt x="13651" y="7279"/>
                  <a:pt x="13543" y="7268"/>
                </a:cubicBezTo>
                <a:cubicBezTo>
                  <a:pt x="13518" y="7260"/>
                  <a:pt x="13494" y="7251"/>
                  <a:pt x="13469" y="7243"/>
                </a:cubicBezTo>
                <a:cubicBezTo>
                  <a:pt x="13559" y="7153"/>
                  <a:pt x="13659" y="7153"/>
                  <a:pt x="13791" y="7193"/>
                </a:cubicBezTo>
                <a:cubicBezTo>
                  <a:pt x="13877" y="7219"/>
                  <a:pt x="13869" y="7206"/>
                  <a:pt x="13940" y="7144"/>
                </a:cubicBezTo>
              </a:path>
              <a:path w="4937" h="6747">
                <a:moveTo>
                  <a:pt x="13146" y="3225"/>
                </a:moveTo>
                <a:cubicBezTo>
                  <a:pt x="13146" y="3327"/>
                  <a:pt x="13138" y="3434"/>
                  <a:pt x="13171" y="3522"/>
                </a:cubicBezTo>
              </a:path>
              <a:path w="4937" h="6747">
                <a:moveTo>
                  <a:pt x="12948" y="6921"/>
                </a:moveTo>
                <a:cubicBezTo>
                  <a:pt x="12878" y="6921"/>
                  <a:pt x="12783" y="6930"/>
                  <a:pt x="12725" y="6970"/>
                </a:cubicBezTo>
                <a:cubicBezTo>
                  <a:pt x="12725" y="6998"/>
                  <a:pt x="12723" y="7009"/>
                  <a:pt x="12700" y="7020"/>
                </a:cubicBezTo>
                <a:cubicBezTo>
                  <a:pt x="12770" y="7070"/>
                  <a:pt x="12986" y="7116"/>
                  <a:pt x="13022" y="7193"/>
                </a:cubicBezTo>
                <a:cubicBezTo>
                  <a:pt x="13022" y="7210"/>
                  <a:pt x="13022" y="7226"/>
                  <a:pt x="13022" y="7243"/>
                </a:cubicBezTo>
                <a:cubicBezTo>
                  <a:pt x="12922" y="7257"/>
                  <a:pt x="12857" y="7305"/>
                  <a:pt x="12874" y="7169"/>
                </a:cubicBezTo>
                <a:cubicBezTo>
                  <a:pt x="12886" y="7073"/>
                  <a:pt x="12952" y="7003"/>
                  <a:pt x="12973" y="6921"/>
                </a:cubicBezTo>
              </a:path>
              <a:path w="4937" h="6747">
                <a:moveTo>
                  <a:pt x="11981" y="3473"/>
                </a:moveTo>
                <a:cubicBezTo>
                  <a:pt x="12024" y="3451"/>
                  <a:pt x="12197" y="3329"/>
                  <a:pt x="12229" y="3423"/>
                </a:cubicBezTo>
                <a:cubicBezTo>
                  <a:pt x="12262" y="3521"/>
                  <a:pt x="12174" y="3599"/>
                  <a:pt x="12129" y="3671"/>
                </a:cubicBezTo>
                <a:cubicBezTo>
                  <a:pt x="12242" y="3639"/>
                  <a:pt x="12357" y="3596"/>
                  <a:pt x="12477" y="3572"/>
                </a:cubicBezTo>
                <a:cubicBezTo>
                  <a:pt x="12485" y="3572"/>
                  <a:pt x="12494" y="3572"/>
                  <a:pt x="12502" y="3572"/>
                </a:cubicBezTo>
              </a:path>
              <a:path w="4937" h="6747">
                <a:moveTo>
                  <a:pt x="12154" y="7169"/>
                </a:moveTo>
                <a:cubicBezTo>
                  <a:pt x="12154" y="7269"/>
                  <a:pt x="12133" y="7366"/>
                  <a:pt x="12129" y="7466"/>
                </a:cubicBezTo>
                <a:cubicBezTo>
                  <a:pt x="12126" y="7541"/>
                  <a:pt x="12129" y="7417"/>
                  <a:pt x="12129" y="7342"/>
                </a:cubicBezTo>
              </a:path>
              <a:path w="4937" h="6747">
                <a:moveTo>
                  <a:pt x="11162" y="3547"/>
                </a:moveTo>
                <a:cubicBezTo>
                  <a:pt x="11218" y="3622"/>
                  <a:pt x="11187" y="3752"/>
                  <a:pt x="11187" y="3845"/>
                </a:cubicBezTo>
              </a:path>
              <a:path w="4937" h="6747">
                <a:moveTo>
                  <a:pt x="11385" y="7094"/>
                </a:moveTo>
                <a:cubicBezTo>
                  <a:pt x="11352" y="7106"/>
                  <a:pt x="11325" y="7168"/>
                  <a:pt x="11336" y="7218"/>
                </a:cubicBezTo>
                <a:cubicBezTo>
                  <a:pt x="11365" y="7348"/>
                  <a:pt x="11601" y="7295"/>
                  <a:pt x="11683" y="7268"/>
                </a:cubicBezTo>
                <a:cubicBezTo>
                  <a:pt x="11691" y="7260"/>
                  <a:pt x="11700" y="7251"/>
                  <a:pt x="11708" y="7243"/>
                </a:cubicBezTo>
              </a:path>
              <a:path w="4937" h="6747">
                <a:moveTo>
                  <a:pt x="11584" y="7020"/>
                </a:moveTo>
                <a:cubicBezTo>
                  <a:pt x="11518" y="7167"/>
                  <a:pt x="11534" y="7327"/>
                  <a:pt x="11534" y="7491"/>
                </a:cubicBezTo>
                <a:cubicBezTo>
                  <a:pt x="11534" y="7592"/>
                  <a:pt x="11514" y="7623"/>
                  <a:pt x="11584" y="7640"/>
                </a:cubicBezTo>
              </a:path>
              <a:path w="4937" h="6747">
                <a:moveTo>
                  <a:pt x="14536" y="7466"/>
                </a:moveTo>
                <a:cubicBezTo>
                  <a:pt x="14388" y="7516"/>
                  <a:pt x="14363" y="7616"/>
                  <a:pt x="14337" y="7764"/>
                </a:cubicBezTo>
                <a:cubicBezTo>
                  <a:pt x="14451" y="7796"/>
                  <a:pt x="14687" y="7779"/>
                  <a:pt x="14610" y="7565"/>
                </a:cubicBezTo>
                <a:cubicBezTo>
                  <a:pt x="14526" y="7481"/>
                  <a:pt x="14486" y="7456"/>
                  <a:pt x="14387" y="7491"/>
                </a:cubicBezTo>
              </a:path>
              <a:path w="4937" h="6747">
                <a:moveTo>
                  <a:pt x="13841" y="7615"/>
                </a:moveTo>
                <a:cubicBezTo>
                  <a:pt x="13726" y="7592"/>
                  <a:pt x="13710" y="7760"/>
                  <a:pt x="13692" y="7863"/>
                </a:cubicBezTo>
                <a:cubicBezTo>
                  <a:pt x="13811" y="7945"/>
                  <a:pt x="14010" y="7977"/>
                  <a:pt x="14064" y="7764"/>
                </a:cubicBezTo>
                <a:cubicBezTo>
                  <a:pt x="14101" y="7619"/>
                  <a:pt x="13943" y="7625"/>
                  <a:pt x="13866" y="7615"/>
                </a:cubicBezTo>
              </a:path>
              <a:path w="4937" h="6747">
                <a:moveTo>
                  <a:pt x="13072" y="7689"/>
                </a:moveTo>
                <a:cubicBezTo>
                  <a:pt x="12945" y="7664"/>
                  <a:pt x="12902" y="7700"/>
                  <a:pt x="12799" y="7789"/>
                </a:cubicBezTo>
                <a:cubicBezTo>
                  <a:pt x="12894" y="7883"/>
                  <a:pt x="13085" y="7922"/>
                  <a:pt x="13171" y="8037"/>
                </a:cubicBezTo>
                <a:cubicBezTo>
                  <a:pt x="13171" y="8053"/>
                  <a:pt x="13171" y="8070"/>
                  <a:pt x="13171" y="8086"/>
                </a:cubicBezTo>
                <a:cubicBezTo>
                  <a:pt x="13015" y="8112"/>
                  <a:pt x="12959" y="8065"/>
                  <a:pt x="12973" y="7888"/>
                </a:cubicBezTo>
                <a:cubicBezTo>
                  <a:pt x="12994" y="7806"/>
                  <a:pt x="13002" y="7790"/>
                  <a:pt x="12998" y="7739"/>
                </a:cubicBezTo>
              </a:path>
              <a:path w="4937" h="6747">
                <a:moveTo>
                  <a:pt x="12179" y="7813"/>
                </a:moveTo>
                <a:cubicBezTo>
                  <a:pt x="12074" y="7832"/>
                  <a:pt x="12018" y="7863"/>
                  <a:pt x="11981" y="7962"/>
                </a:cubicBezTo>
                <a:cubicBezTo>
                  <a:pt x="12016" y="7979"/>
                  <a:pt x="12376" y="8095"/>
                  <a:pt x="12353" y="8136"/>
                </a:cubicBezTo>
                <a:cubicBezTo>
                  <a:pt x="12260" y="8205"/>
                  <a:pt x="12235" y="8230"/>
                  <a:pt x="12154" y="8210"/>
                </a:cubicBezTo>
                <a:cubicBezTo>
                  <a:pt x="12122" y="8085"/>
                  <a:pt x="12187" y="7980"/>
                  <a:pt x="12254" y="7863"/>
                </a:cubicBezTo>
              </a:path>
              <a:path w="4937" h="6747">
                <a:moveTo>
                  <a:pt x="12254" y="3448"/>
                </a:moveTo>
                <a:cubicBezTo>
                  <a:pt x="12254" y="3374"/>
                  <a:pt x="12251" y="3322"/>
                  <a:pt x="12229" y="3473"/>
                </a:cubicBezTo>
                <a:cubicBezTo>
                  <a:pt x="12199" y="3675"/>
                  <a:pt x="12219" y="3763"/>
                  <a:pt x="12154" y="3522"/>
                </a:cubicBezTo>
                <a:cubicBezTo>
                  <a:pt x="12136" y="3455"/>
                  <a:pt x="12078" y="3078"/>
                  <a:pt x="12105" y="3373"/>
                </a:cubicBezTo>
                <a:cubicBezTo>
                  <a:pt x="12105" y="3406"/>
                  <a:pt x="12105" y="3440"/>
                  <a:pt x="12105" y="3473"/>
                </a:cubicBezTo>
                <a:cubicBezTo>
                  <a:pt x="12105" y="3465"/>
                  <a:pt x="12105" y="3456"/>
                  <a:pt x="12105" y="3448"/>
                </a:cubicBezTo>
                <a:cubicBezTo>
                  <a:pt x="12099" y="3397"/>
                  <a:pt x="12071" y="3210"/>
                  <a:pt x="12080" y="3249"/>
                </a:cubicBezTo>
                <a:cubicBezTo>
                  <a:pt x="12095" y="3311"/>
                  <a:pt x="12192" y="3671"/>
                  <a:pt x="12154" y="3473"/>
                </a:cubicBezTo>
                <a:cubicBezTo>
                  <a:pt x="12132" y="3357"/>
                  <a:pt x="12111" y="3148"/>
                  <a:pt x="12154" y="3423"/>
                </a:cubicBezTo>
                <a:cubicBezTo>
                  <a:pt x="12173" y="3546"/>
                  <a:pt x="12179" y="3722"/>
                  <a:pt x="12179" y="3597"/>
                </a:cubicBezTo>
                <a:cubicBezTo>
                  <a:pt x="12158" y="3431"/>
                  <a:pt x="12158" y="3396"/>
                  <a:pt x="12129" y="3299"/>
                </a:cubicBezTo>
              </a:path>
              <a:path w="4937" h="6747">
                <a:moveTo>
                  <a:pt x="11410" y="7962"/>
                </a:moveTo>
                <a:cubicBezTo>
                  <a:pt x="11436" y="7925"/>
                  <a:pt x="11592" y="7923"/>
                  <a:pt x="11658" y="7913"/>
                </a:cubicBezTo>
                <a:cubicBezTo>
                  <a:pt x="11666" y="7913"/>
                  <a:pt x="11675" y="7913"/>
                  <a:pt x="11683" y="7913"/>
                </a:cubicBezTo>
                <a:cubicBezTo>
                  <a:pt x="11683" y="8052"/>
                  <a:pt x="11639" y="8151"/>
                  <a:pt x="11609" y="8285"/>
                </a:cubicBezTo>
                <a:cubicBezTo>
                  <a:pt x="11609" y="8293"/>
                  <a:pt x="11609" y="8302"/>
                  <a:pt x="11609" y="8310"/>
                </a:cubicBezTo>
              </a:path>
              <a:path w="4937" h="6747">
                <a:moveTo>
                  <a:pt x="10740" y="8012"/>
                </a:moveTo>
                <a:cubicBezTo>
                  <a:pt x="10819" y="7999"/>
                  <a:pt x="11032" y="8027"/>
                  <a:pt x="10964" y="8186"/>
                </a:cubicBezTo>
                <a:cubicBezTo>
                  <a:pt x="10902" y="8330"/>
                  <a:pt x="10699" y="8390"/>
                  <a:pt x="10567" y="8409"/>
                </a:cubicBezTo>
                <a:cubicBezTo>
                  <a:pt x="10636" y="8271"/>
                  <a:pt x="10741" y="8176"/>
                  <a:pt x="10914" y="8260"/>
                </a:cubicBezTo>
                <a:cubicBezTo>
                  <a:pt x="10969" y="8287"/>
                  <a:pt x="11009" y="8358"/>
                  <a:pt x="11038" y="8409"/>
                </a:cubicBezTo>
              </a:path>
              <a:path w="4937" h="6747">
                <a:moveTo>
                  <a:pt x="14585" y="8285"/>
                </a:moveTo>
                <a:cubicBezTo>
                  <a:pt x="14585" y="8145"/>
                  <a:pt x="14471" y="8356"/>
                  <a:pt x="14461" y="8384"/>
                </a:cubicBezTo>
                <a:cubicBezTo>
                  <a:pt x="14385" y="8593"/>
                  <a:pt x="14613" y="8646"/>
                  <a:pt x="14734" y="8508"/>
                </a:cubicBezTo>
                <a:cubicBezTo>
                  <a:pt x="14864" y="8360"/>
                  <a:pt x="14618" y="8296"/>
                  <a:pt x="14536" y="8285"/>
                </a:cubicBezTo>
              </a:path>
              <a:path w="4937" h="6747">
                <a:moveTo>
                  <a:pt x="13965" y="8409"/>
                </a:moveTo>
                <a:cubicBezTo>
                  <a:pt x="13900" y="8344"/>
                  <a:pt x="13789" y="8557"/>
                  <a:pt x="13767" y="8632"/>
                </a:cubicBezTo>
                <a:cubicBezTo>
                  <a:pt x="13767" y="8657"/>
                  <a:pt x="13767" y="8681"/>
                  <a:pt x="13767" y="8706"/>
                </a:cubicBezTo>
                <a:cubicBezTo>
                  <a:pt x="13854" y="8701"/>
                  <a:pt x="14168" y="8618"/>
                  <a:pt x="14064" y="8434"/>
                </a:cubicBezTo>
                <a:cubicBezTo>
                  <a:pt x="13991" y="8409"/>
                  <a:pt x="13967" y="8401"/>
                  <a:pt x="13915" y="8409"/>
                </a:cubicBezTo>
              </a:path>
              <a:path w="4937" h="6747">
                <a:moveTo>
                  <a:pt x="13246" y="8483"/>
                </a:moveTo>
                <a:cubicBezTo>
                  <a:pt x="13114" y="8509"/>
                  <a:pt x="13106" y="8589"/>
                  <a:pt x="13072" y="8706"/>
                </a:cubicBezTo>
                <a:cubicBezTo>
                  <a:pt x="13064" y="8739"/>
                  <a:pt x="13055" y="8773"/>
                  <a:pt x="13047" y="8806"/>
                </a:cubicBezTo>
                <a:cubicBezTo>
                  <a:pt x="13179" y="8789"/>
                  <a:pt x="13345" y="8730"/>
                  <a:pt x="13345" y="8558"/>
                </a:cubicBezTo>
                <a:cubicBezTo>
                  <a:pt x="13345" y="8425"/>
                  <a:pt x="13177" y="8497"/>
                  <a:pt x="13122" y="8508"/>
                </a:cubicBezTo>
              </a:path>
              <a:path w="4937" h="6747">
                <a:moveTo>
                  <a:pt x="12204" y="8607"/>
                </a:moveTo>
                <a:cubicBezTo>
                  <a:pt x="12135" y="8630"/>
                  <a:pt x="12136" y="8732"/>
                  <a:pt x="12129" y="8806"/>
                </a:cubicBezTo>
                <a:cubicBezTo>
                  <a:pt x="12116" y="8932"/>
                  <a:pt x="12414" y="8798"/>
                  <a:pt x="12452" y="8781"/>
                </a:cubicBezTo>
                <a:cubicBezTo>
                  <a:pt x="12469" y="8773"/>
                  <a:pt x="12485" y="8764"/>
                  <a:pt x="12502" y="8756"/>
                </a:cubicBezTo>
              </a:path>
              <a:path w="4937" h="6747">
                <a:moveTo>
                  <a:pt x="12378" y="8508"/>
                </a:moveTo>
                <a:cubicBezTo>
                  <a:pt x="12359" y="8658"/>
                  <a:pt x="12334" y="8802"/>
                  <a:pt x="12328" y="8954"/>
                </a:cubicBezTo>
                <a:cubicBezTo>
                  <a:pt x="12328" y="8979"/>
                  <a:pt x="12328" y="8987"/>
                  <a:pt x="12328" y="9004"/>
                </a:cubicBezTo>
              </a:path>
              <a:path w="4937" h="6747">
                <a:moveTo>
                  <a:pt x="11708" y="8731"/>
                </a:moveTo>
                <a:cubicBezTo>
                  <a:pt x="11751" y="8717"/>
                  <a:pt x="11737" y="8676"/>
                  <a:pt x="11708" y="8632"/>
                </a:cubicBezTo>
                <a:cubicBezTo>
                  <a:pt x="11623" y="8505"/>
                  <a:pt x="11501" y="8692"/>
                  <a:pt x="11485" y="8756"/>
                </a:cubicBezTo>
                <a:cubicBezTo>
                  <a:pt x="11485" y="8789"/>
                  <a:pt x="11485" y="8822"/>
                  <a:pt x="11485" y="8855"/>
                </a:cubicBezTo>
                <a:cubicBezTo>
                  <a:pt x="11637" y="8833"/>
                  <a:pt x="11684" y="8798"/>
                  <a:pt x="11733" y="8657"/>
                </a:cubicBezTo>
                <a:cubicBezTo>
                  <a:pt x="11733" y="8649"/>
                  <a:pt x="11733" y="8640"/>
                  <a:pt x="11733" y="8632"/>
                </a:cubicBezTo>
                <a:cubicBezTo>
                  <a:pt x="11733" y="8754"/>
                  <a:pt x="11740" y="8865"/>
                  <a:pt x="11708" y="8979"/>
                </a:cubicBezTo>
              </a:path>
              <a:path w="4937" h="6747">
                <a:moveTo>
                  <a:pt x="10716" y="8756"/>
                </a:moveTo>
                <a:cubicBezTo>
                  <a:pt x="10740" y="8716"/>
                  <a:pt x="10844" y="8617"/>
                  <a:pt x="10914" y="8657"/>
                </a:cubicBezTo>
                <a:cubicBezTo>
                  <a:pt x="10914" y="8665"/>
                  <a:pt x="10914" y="8674"/>
                  <a:pt x="10914" y="8682"/>
                </a:cubicBezTo>
                <a:cubicBezTo>
                  <a:pt x="10901" y="8760"/>
                  <a:pt x="10749" y="8898"/>
                  <a:pt x="10815" y="8855"/>
                </a:cubicBezTo>
                <a:cubicBezTo>
                  <a:pt x="10823" y="8847"/>
                  <a:pt x="10832" y="8838"/>
                  <a:pt x="10840" y="8830"/>
                </a:cubicBezTo>
                <a:cubicBezTo>
                  <a:pt x="10921" y="8820"/>
                  <a:pt x="11107" y="8768"/>
                  <a:pt x="11063" y="8930"/>
                </a:cubicBezTo>
                <a:cubicBezTo>
                  <a:pt x="11022" y="9082"/>
                  <a:pt x="10784" y="9071"/>
                  <a:pt x="10666" y="9079"/>
                </a:cubicBezTo>
              </a:path>
              <a:path w="4937" h="6747">
                <a:moveTo>
                  <a:pt x="10269" y="8756"/>
                </a:moveTo>
                <a:cubicBezTo>
                  <a:pt x="10241" y="8838"/>
                  <a:pt x="10281" y="8955"/>
                  <a:pt x="10294" y="9054"/>
                </a:cubicBezTo>
                <a:cubicBezTo>
                  <a:pt x="10294" y="9103"/>
                  <a:pt x="10294" y="9120"/>
                  <a:pt x="10294" y="9153"/>
                </a:cubicBezTo>
              </a:path>
              <a:path w="4937" h="6747">
                <a:moveTo>
                  <a:pt x="15156" y="9178"/>
                </a:moveTo>
                <a:cubicBezTo>
                  <a:pt x="15239" y="9149"/>
                  <a:pt x="15070" y="9127"/>
                  <a:pt x="15056" y="9128"/>
                </a:cubicBezTo>
                <a:cubicBezTo>
                  <a:pt x="14944" y="9134"/>
                  <a:pt x="14895" y="9155"/>
                  <a:pt x="14833" y="9227"/>
                </a:cubicBezTo>
                <a:cubicBezTo>
                  <a:pt x="14930" y="9324"/>
                  <a:pt x="15116" y="9441"/>
                  <a:pt x="15081" y="9599"/>
                </a:cubicBezTo>
                <a:cubicBezTo>
                  <a:pt x="15035" y="9670"/>
                  <a:pt x="15023" y="9695"/>
                  <a:pt x="14957" y="9674"/>
                </a:cubicBezTo>
                <a:cubicBezTo>
                  <a:pt x="14883" y="9524"/>
                  <a:pt x="14905" y="9390"/>
                  <a:pt x="15032" y="9252"/>
                </a:cubicBezTo>
                <a:cubicBezTo>
                  <a:pt x="15056" y="9252"/>
                  <a:pt x="15064" y="9252"/>
                  <a:pt x="15056" y="9227"/>
                </a:cubicBezTo>
              </a:path>
              <a:path w="4937" h="6747">
                <a:moveTo>
                  <a:pt x="14213" y="9203"/>
                </a:moveTo>
                <a:cubicBezTo>
                  <a:pt x="14084" y="9203"/>
                  <a:pt x="14006" y="9283"/>
                  <a:pt x="13940" y="9401"/>
                </a:cubicBezTo>
                <a:cubicBezTo>
                  <a:pt x="13897" y="9533"/>
                  <a:pt x="13876" y="9564"/>
                  <a:pt x="13915" y="9649"/>
                </a:cubicBezTo>
                <a:cubicBezTo>
                  <a:pt x="14098" y="9598"/>
                  <a:pt x="14309" y="9471"/>
                  <a:pt x="14263" y="9227"/>
                </a:cubicBezTo>
                <a:cubicBezTo>
                  <a:pt x="14211" y="9176"/>
                  <a:pt x="14192" y="9159"/>
                  <a:pt x="14139" y="9153"/>
                </a:cubicBezTo>
              </a:path>
              <a:path w="4937" h="6747">
                <a:moveTo>
                  <a:pt x="12750" y="5606"/>
                </a:moveTo>
                <a:cubicBezTo>
                  <a:pt x="12750" y="5539"/>
                  <a:pt x="12726" y="5746"/>
                  <a:pt x="12725" y="5779"/>
                </a:cubicBezTo>
                <a:cubicBezTo>
                  <a:pt x="12725" y="5821"/>
                  <a:pt x="12725" y="5829"/>
                  <a:pt x="12725" y="5854"/>
                </a:cubicBezTo>
              </a:path>
              <a:path w="4937" h="6747">
                <a:moveTo>
                  <a:pt x="12626" y="5829"/>
                </a:moveTo>
                <a:cubicBezTo>
                  <a:pt x="12648" y="5806"/>
                  <a:pt x="12656" y="5801"/>
                  <a:pt x="12650" y="5779"/>
                </a:cubicBezTo>
                <a:cubicBezTo>
                  <a:pt x="12668" y="5903"/>
                  <a:pt x="12705" y="6041"/>
                  <a:pt x="12650" y="6152"/>
                </a:cubicBezTo>
              </a:path>
              <a:path w="4937" h="6747">
                <a:moveTo>
                  <a:pt x="13146" y="9227"/>
                </a:moveTo>
                <a:cubicBezTo>
                  <a:pt x="13124" y="9318"/>
                  <a:pt x="13124" y="9424"/>
                  <a:pt x="13097" y="9525"/>
                </a:cubicBezTo>
                <a:cubicBezTo>
                  <a:pt x="13089" y="9542"/>
                  <a:pt x="13080" y="9558"/>
                  <a:pt x="13072" y="9575"/>
                </a:cubicBezTo>
                <a:cubicBezTo>
                  <a:pt x="13224" y="9554"/>
                  <a:pt x="13339" y="9512"/>
                  <a:pt x="13469" y="9426"/>
                </a:cubicBezTo>
              </a:path>
              <a:path w="4937" h="6747">
                <a:moveTo>
                  <a:pt x="13469" y="9128"/>
                </a:moveTo>
                <a:cubicBezTo>
                  <a:pt x="13381" y="9349"/>
                  <a:pt x="13312" y="9588"/>
                  <a:pt x="13271" y="9823"/>
                </a:cubicBezTo>
                <a:cubicBezTo>
                  <a:pt x="13271" y="9848"/>
                  <a:pt x="13271" y="9872"/>
                  <a:pt x="13271" y="9897"/>
                </a:cubicBezTo>
              </a:path>
              <a:path w="4937" h="6747">
                <a:moveTo>
                  <a:pt x="11832" y="5730"/>
                </a:moveTo>
                <a:cubicBezTo>
                  <a:pt x="11782" y="5740"/>
                  <a:pt x="11752" y="5790"/>
                  <a:pt x="11782" y="5730"/>
                </a:cubicBezTo>
                <a:cubicBezTo>
                  <a:pt x="11945" y="5675"/>
                  <a:pt x="11936" y="5884"/>
                  <a:pt x="11906" y="6003"/>
                </a:cubicBezTo>
                <a:cubicBezTo>
                  <a:pt x="11872" y="6137"/>
                  <a:pt x="11794" y="6135"/>
                  <a:pt x="11683" y="6152"/>
                </a:cubicBezTo>
                <a:cubicBezTo>
                  <a:pt x="11683" y="6049"/>
                  <a:pt x="11651" y="6017"/>
                  <a:pt x="11782" y="6003"/>
                </a:cubicBezTo>
                <a:cubicBezTo>
                  <a:pt x="11906" y="5990"/>
                  <a:pt x="11951" y="6022"/>
                  <a:pt x="12030" y="6102"/>
                </a:cubicBezTo>
              </a:path>
              <a:path w="4937" h="6747">
                <a:moveTo>
                  <a:pt x="11336" y="6276"/>
                </a:moveTo>
                <a:cubicBezTo>
                  <a:pt x="11336" y="6268"/>
                  <a:pt x="11336" y="6259"/>
                  <a:pt x="11336" y="6251"/>
                </a:cubicBezTo>
                <a:cubicBezTo>
                  <a:pt x="11291" y="6369"/>
                  <a:pt x="11317" y="6495"/>
                  <a:pt x="11336" y="6623"/>
                </a:cubicBezTo>
                <a:cubicBezTo>
                  <a:pt x="11336" y="6631"/>
                  <a:pt x="11336" y="6640"/>
                  <a:pt x="11336" y="6648"/>
                </a:cubicBezTo>
              </a:path>
              <a:path w="4937" h="6747">
                <a:moveTo>
                  <a:pt x="11832" y="9401"/>
                </a:moveTo>
                <a:cubicBezTo>
                  <a:pt x="11832" y="9552"/>
                  <a:pt x="11815" y="9698"/>
                  <a:pt x="11807" y="9847"/>
                </a:cubicBezTo>
                <a:cubicBezTo>
                  <a:pt x="11807" y="9888"/>
                  <a:pt x="11807" y="9930"/>
                  <a:pt x="11807" y="9971"/>
                </a:cubicBezTo>
              </a:path>
              <a:path w="4937" h="6747">
                <a:moveTo>
                  <a:pt x="10567" y="6648"/>
                </a:moveTo>
                <a:cubicBezTo>
                  <a:pt x="10597" y="6618"/>
                  <a:pt x="10611" y="6607"/>
                  <a:pt x="10641" y="6598"/>
                </a:cubicBezTo>
                <a:cubicBezTo>
                  <a:pt x="10770" y="6727"/>
                  <a:pt x="10699" y="6908"/>
                  <a:pt x="10567" y="7069"/>
                </a:cubicBezTo>
                <a:cubicBezTo>
                  <a:pt x="10526" y="7089"/>
                  <a:pt x="10520" y="7098"/>
                  <a:pt x="10492" y="7094"/>
                </a:cubicBezTo>
                <a:cubicBezTo>
                  <a:pt x="10492" y="6961"/>
                  <a:pt x="10499" y="6933"/>
                  <a:pt x="10641" y="6970"/>
                </a:cubicBezTo>
                <a:cubicBezTo>
                  <a:pt x="10666" y="6978"/>
                  <a:pt x="10691" y="6987"/>
                  <a:pt x="10716" y="6995"/>
                </a:cubicBezTo>
              </a:path>
              <a:path w="4937" h="6747">
                <a:moveTo>
                  <a:pt x="13022" y="9823"/>
                </a:moveTo>
                <a:cubicBezTo>
                  <a:pt x="13008" y="9780"/>
                  <a:pt x="13007" y="9780"/>
                  <a:pt x="12973" y="9798"/>
                </a:cubicBezTo>
                <a:cubicBezTo>
                  <a:pt x="12906" y="9834"/>
                  <a:pt x="12899" y="9838"/>
                  <a:pt x="12923" y="9897"/>
                </a:cubicBezTo>
                <a:cubicBezTo>
                  <a:pt x="12935" y="9888"/>
                  <a:pt x="13074" y="9760"/>
                  <a:pt x="12998" y="9773"/>
                </a:cubicBezTo>
                <a:cubicBezTo>
                  <a:pt x="12910" y="9789"/>
                  <a:pt x="12928" y="9804"/>
                  <a:pt x="12898" y="9872"/>
                </a:cubicBezTo>
                <a:cubicBezTo>
                  <a:pt x="13029" y="9924"/>
                  <a:pt x="12948" y="9785"/>
                  <a:pt x="12948" y="9847"/>
                </a:cubicBezTo>
                <a:cubicBezTo>
                  <a:pt x="12956" y="9864"/>
                  <a:pt x="12965" y="9880"/>
                  <a:pt x="12973" y="989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67120" y="3990960"/>
            <a:ext cx="1436760" cy="2216160"/>
          </a:xfrm>
          <a:custGeom>
            <a:avLst/>
            <a:gdLst/>
            <a:ahLst/>
            <a:rect l="l" t="t" r="r" b="b"/>
            <a:pathLst>
              <a:path w="3995" h="6152">
                <a:moveTo>
                  <a:pt x="11683" y="12353"/>
                </a:moveTo>
                <a:cubicBezTo>
                  <a:pt x="11669" y="12435"/>
                  <a:pt x="11644" y="12516"/>
                  <a:pt x="11633" y="12601"/>
                </a:cubicBezTo>
                <a:cubicBezTo>
                  <a:pt x="11685" y="12608"/>
                  <a:pt x="11970" y="12639"/>
                  <a:pt x="11981" y="12551"/>
                </a:cubicBezTo>
                <a:cubicBezTo>
                  <a:pt x="11973" y="12518"/>
                  <a:pt x="11964" y="12485"/>
                  <a:pt x="11956" y="12452"/>
                </a:cubicBezTo>
              </a:path>
              <a:path w="3995" h="6152">
                <a:moveTo>
                  <a:pt x="11857" y="12229"/>
                </a:moveTo>
                <a:cubicBezTo>
                  <a:pt x="11849" y="12437"/>
                  <a:pt x="11841" y="12645"/>
                  <a:pt x="11807" y="12849"/>
                </a:cubicBezTo>
              </a:path>
              <a:path w="3995" h="6152">
                <a:moveTo>
                  <a:pt x="12154" y="12204"/>
                </a:moveTo>
                <a:cubicBezTo>
                  <a:pt x="12371" y="12287"/>
                  <a:pt x="12572" y="12428"/>
                  <a:pt x="12402" y="12700"/>
                </a:cubicBezTo>
                <a:cubicBezTo>
                  <a:pt x="12304" y="12857"/>
                  <a:pt x="12200" y="12801"/>
                  <a:pt x="12080" y="12750"/>
                </a:cubicBezTo>
                <a:cubicBezTo>
                  <a:pt x="12191" y="12590"/>
                  <a:pt x="12307" y="12647"/>
                  <a:pt x="12477" y="12725"/>
                </a:cubicBezTo>
                <a:cubicBezTo>
                  <a:pt x="12517" y="12745"/>
                  <a:pt x="12523" y="12754"/>
                  <a:pt x="12551" y="12750"/>
                </a:cubicBezTo>
              </a:path>
              <a:path w="3995" h="6152">
                <a:moveTo>
                  <a:pt x="12998" y="12129"/>
                </a:moveTo>
                <a:cubicBezTo>
                  <a:pt x="13029" y="12304"/>
                  <a:pt x="12998" y="12797"/>
                  <a:pt x="13097" y="12650"/>
                </a:cubicBezTo>
                <a:cubicBezTo>
                  <a:pt x="13105" y="12617"/>
                  <a:pt x="13114" y="12584"/>
                  <a:pt x="13122" y="12551"/>
                </a:cubicBezTo>
              </a:path>
              <a:path w="3995" h="6152">
                <a:moveTo>
                  <a:pt x="13568" y="11956"/>
                </a:moveTo>
                <a:cubicBezTo>
                  <a:pt x="13576" y="12215"/>
                  <a:pt x="13590" y="12445"/>
                  <a:pt x="13543" y="12700"/>
                </a:cubicBezTo>
              </a:path>
              <a:path w="3995" h="6152">
                <a:moveTo>
                  <a:pt x="11361" y="13122"/>
                </a:moveTo>
                <a:cubicBezTo>
                  <a:pt x="11452" y="13256"/>
                  <a:pt x="11508" y="13450"/>
                  <a:pt x="11609" y="13568"/>
                </a:cubicBezTo>
                <a:cubicBezTo>
                  <a:pt x="11609" y="13560"/>
                  <a:pt x="11609" y="13551"/>
                  <a:pt x="11609" y="13543"/>
                </a:cubicBezTo>
              </a:path>
              <a:path w="3995" h="6152">
                <a:moveTo>
                  <a:pt x="11633" y="13022"/>
                </a:moveTo>
                <a:cubicBezTo>
                  <a:pt x="11624" y="13222"/>
                  <a:pt x="11535" y="13449"/>
                  <a:pt x="11559" y="13643"/>
                </a:cubicBezTo>
                <a:cubicBezTo>
                  <a:pt x="11567" y="13651"/>
                  <a:pt x="11576" y="13659"/>
                  <a:pt x="11584" y="13667"/>
                </a:cubicBezTo>
              </a:path>
              <a:path w="3995" h="6152">
                <a:moveTo>
                  <a:pt x="13171" y="13171"/>
                </a:moveTo>
                <a:cubicBezTo>
                  <a:pt x="13150" y="13047"/>
                  <a:pt x="13041" y="13149"/>
                  <a:pt x="12973" y="13196"/>
                </a:cubicBezTo>
                <a:cubicBezTo>
                  <a:pt x="12972" y="13347"/>
                  <a:pt x="13165" y="13366"/>
                  <a:pt x="13196" y="13543"/>
                </a:cubicBezTo>
                <a:cubicBezTo>
                  <a:pt x="13172" y="13616"/>
                  <a:pt x="13165" y="13641"/>
                  <a:pt x="13097" y="13618"/>
                </a:cubicBezTo>
                <a:cubicBezTo>
                  <a:pt x="13009" y="13501"/>
                  <a:pt x="13059" y="13380"/>
                  <a:pt x="13146" y="13246"/>
                </a:cubicBezTo>
                <a:cubicBezTo>
                  <a:pt x="13154" y="13238"/>
                  <a:pt x="13163" y="13229"/>
                  <a:pt x="13171" y="13221"/>
                </a:cubicBezTo>
              </a:path>
              <a:path w="3995" h="6152">
                <a:moveTo>
                  <a:pt x="13593" y="13022"/>
                </a:moveTo>
                <a:cubicBezTo>
                  <a:pt x="13649" y="13152"/>
                  <a:pt x="13619" y="13324"/>
                  <a:pt x="13643" y="13469"/>
                </a:cubicBezTo>
                <a:cubicBezTo>
                  <a:pt x="13679" y="13688"/>
                  <a:pt x="13901" y="13423"/>
                  <a:pt x="13940" y="13370"/>
                </a:cubicBezTo>
                <a:cubicBezTo>
                  <a:pt x="13869" y="13420"/>
                  <a:pt x="13704" y="13523"/>
                  <a:pt x="13816" y="13568"/>
                </a:cubicBezTo>
              </a:path>
              <a:path w="3995" h="6152">
                <a:moveTo>
                  <a:pt x="10790" y="14089"/>
                </a:moveTo>
                <a:cubicBezTo>
                  <a:pt x="11246" y="14067"/>
                  <a:pt x="11697" y="14012"/>
                  <a:pt x="12154" y="13990"/>
                </a:cubicBezTo>
                <a:cubicBezTo>
                  <a:pt x="12926" y="13953"/>
                  <a:pt x="13688" y="13915"/>
                  <a:pt x="14461" y="13915"/>
                </a:cubicBezTo>
                <a:cubicBezTo>
                  <a:pt x="14618" y="13915"/>
                  <a:pt x="14626" y="13915"/>
                  <a:pt x="14709" y="13915"/>
                </a:cubicBezTo>
              </a:path>
              <a:path w="3995" h="6152">
                <a:moveTo>
                  <a:pt x="13816" y="14139"/>
                </a:moveTo>
                <a:cubicBezTo>
                  <a:pt x="13882" y="14237"/>
                  <a:pt x="13848" y="14320"/>
                  <a:pt x="13841" y="14436"/>
                </a:cubicBezTo>
                <a:cubicBezTo>
                  <a:pt x="13967" y="14478"/>
                  <a:pt x="14082" y="14455"/>
                  <a:pt x="14213" y="14412"/>
                </a:cubicBezTo>
              </a:path>
              <a:path w="3995" h="6152">
                <a:moveTo>
                  <a:pt x="14139" y="14163"/>
                </a:moveTo>
                <a:cubicBezTo>
                  <a:pt x="14113" y="14353"/>
                  <a:pt x="14091" y="14545"/>
                  <a:pt x="14064" y="14734"/>
                </a:cubicBezTo>
                <a:cubicBezTo>
                  <a:pt x="14064" y="14726"/>
                  <a:pt x="14064" y="14717"/>
                  <a:pt x="14064" y="14709"/>
                </a:cubicBezTo>
              </a:path>
              <a:path w="3995" h="6152">
                <a:moveTo>
                  <a:pt x="12774" y="11509"/>
                </a:moveTo>
                <a:cubicBezTo>
                  <a:pt x="12743" y="11493"/>
                  <a:pt x="12785" y="11466"/>
                  <a:pt x="12824" y="11410"/>
                </a:cubicBezTo>
                <a:cubicBezTo>
                  <a:pt x="12953" y="11492"/>
                  <a:pt x="13018" y="11623"/>
                  <a:pt x="12874" y="11757"/>
                </a:cubicBezTo>
                <a:cubicBezTo>
                  <a:pt x="12797" y="11795"/>
                  <a:pt x="12781" y="11831"/>
                  <a:pt x="12750" y="11782"/>
                </a:cubicBezTo>
                <a:cubicBezTo>
                  <a:pt x="12795" y="11690"/>
                  <a:pt x="12885" y="11772"/>
                  <a:pt x="12973" y="11782"/>
                </a:cubicBezTo>
                <a:cubicBezTo>
                  <a:pt x="13065" y="11782"/>
                  <a:pt x="13091" y="11784"/>
                  <a:pt x="13146" y="11757"/>
                </a:cubicBezTo>
              </a:path>
              <a:path w="3995" h="6152">
                <a:moveTo>
                  <a:pt x="14114" y="14957"/>
                </a:moveTo>
                <a:cubicBezTo>
                  <a:pt x="14042" y="15101"/>
                  <a:pt x="13968" y="15189"/>
                  <a:pt x="13940" y="15354"/>
                </a:cubicBezTo>
                <a:cubicBezTo>
                  <a:pt x="14107" y="15404"/>
                  <a:pt x="14259" y="15305"/>
                  <a:pt x="14263" y="15106"/>
                </a:cubicBezTo>
                <a:cubicBezTo>
                  <a:pt x="14219" y="15018"/>
                  <a:pt x="14214" y="14985"/>
                  <a:pt x="14139" y="15007"/>
                </a:cubicBezTo>
              </a:path>
              <a:path w="3995" h="6152">
                <a:moveTo>
                  <a:pt x="13271" y="15156"/>
                </a:moveTo>
                <a:cubicBezTo>
                  <a:pt x="13304" y="15052"/>
                  <a:pt x="13432" y="15161"/>
                  <a:pt x="13444" y="15255"/>
                </a:cubicBezTo>
                <a:cubicBezTo>
                  <a:pt x="13465" y="15427"/>
                  <a:pt x="13296" y="15516"/>
                  <a:pt x="13171" y="15503"/>
                </a:cubicBezTo>
                <a:cubicBezTo>
                  <a:pt x="13232" y="15402"/>
                  <a:pt x="13290" y="15379"/>
                  <a:pt x="13419" y="15429"/>
                </a:cubicBezTo>
                <a:cubicBezTo>
                  <a:pt x="13449" y="15458"/>
                  <a:pt x="13460" y="15460"/>
                  <a:pt x="13469" y="15404"/>
                </a:cubicBezTo>
              </a:path>
              <a:path w="3995" h="6152">
                <a:moveTo>
                  <a:pt x="12626" y="11137"/>
                </a:moveTo>
                <a:cubicBezTo>
                  <a:pt x="12697" y="11117"/>
                  <a:pt x="12751" y="11099"/>
                  <a:pt x="12824" y="11088"/>
                </a:cubicBezTo>
                <a:cubicBezTo>
                  <a:pt x="12898" y="11271"/>
                  <a:pt x="12838" y="11249"/>
                  <a:pt x="12725" y="11361"/>
                </a:cubicBezTo>
                <a:cubicBezTo>
                  <a:pt x="12725" y="11369"/>
                  <a:pt x="12725" y="11377"/>
                  <a:pt x="12725" y="11385"/>
                </a:cubicBezTo>
                <a:cubicBezTo>
                  <a:pt x="12676" y="11385"/>
                  <a:pt x="12834" y="11368"/>
                  <a:pt x="12874" y="11385"/>
                </a:cubicBezTo>
                <a:cubicBezTo>
                  <a:pt x="13084" y="11472"/>
                  <a:pt x="12913" y="11646"/>
                  <a:pt x="12774" y="11683"/>
                </a:cubicBezTo>
                <a:cubicBezTo>
                  <a:pt x="12700" y="11683"/>
                  <a:pt x="12691" y="11683"/>
                  <a:pt x="12650" y="11683"/>
                </a:cubicBezTo>
              </a:path>
              <a:path w="3995" h="6152">
                <a:moveTo>
                  <a:pt x="12402" y="15131"/>
                </a:moveTo>
                <a:cubicBezTo>
                  <a:pt x="12434" y="15120"/>
                  <a:pt x="12441" y="15113"/>
                  <a:pt x="12452" y="15081"/>
                </a:cubicBezTo>
                <a:cubicBezTo>
                  <a:pt x="12478" y="15224"/>
                  <a:pt x="12520" y="15352"/>
                  <a:pt x="12526" y="15503"/>
                </a:cubicBezTo>
                <a:cubicBezTo>
                  <a:pt x="12526" y="15511"/>
                  <a:pt x="12526" y="15520"/>
                  <a:pt x="12526" y="15528"/>
                </a:cubicBezTo>
              </a:path>
              <a:path w="3995" h="6152">
                <a:moveTo>
                  <a:pt x="11261" y="11534"/>
                </a:moveTo>
                <a:cubicBezTo>
                  <a:pt x="11194" y="11511"/>
                  <a:pt x="11254" y="11595"/>
                  <a:pt x="11261" y="11708"/>
                </a:cubicBezTo>
                <a:cubicBezTo>
                  <a:pt x="11261" y="11849"/>
                  <a:pt x="11261" y="11890"/>
                  <a:pt x="11261" y="11981"/>
                </a:cubicBezTo>
              </a:path>
              <a:path w="3995" h="6152">
                <a:moveTo>
                  <a:pt x="14337" y="15900"/>
                </a:moveTo>
                <a:cubicBezTo>
                  <a:pt x="14337" y="15974"/>
                  <a:pt x="14337" y="16049"/>
                  <a:pt x="14337" y="16123"/>
                </a:cubicBezTo>
                <a:cubicBezTo>
                  <a:pt x="14432" y="16140"/>
                  <a:pt x="14685" y="16127"/>
                  <a:pt x="14734" y="15999"/>
                </a:cubicBezTo>
                <a:cubicBezTo>
                  <a:pt x="14726" y="15966"/>
                  <a:pt x="14717" y="15933"/>
                  <a:pt x="14709" y="15900"/>
                </a:cubicBezTo>
              </a:path>
              <a:path w="3995" h="6152">
                <a:moveTo>
                  <a:pt x="14560" y="15776"/>
                </a:moveTo>
                <a:cubicBezTo>
                  <a:pt x="14569" y="15982"/>
                  <a:pt x="14583" y="16166"/>
                  <a:pt x="14560" y="16371"/>
                </a:cubicBezTo>
                <a:cubicBezTo>
                  <a:pt x="14560" y="16411"/>
                  <a:pt x="14549" y="16409"/>
                  <a:pt x="14511" y="16346"/>
                </a:cubicBezTo>
              </a:path>
              <a:path w="3995" h="6152">
                <a:moveTo>
                  <a:pt x="13767" y="16148"/>
                </a:moveTo>
                <a:cubicBezTo>
                  <a:pt x="13745" y="16290"/>
                  <a:pt x="13643" y="16530"/>
                  <a:pt x="13742" y="16669"/>
                </a:cubicBezTo>
                <a:cubicBezTo>
                  <a:pt x="13767" y="16677"/>
                  <a:pt x="13791" y="16686"/>
                  <a:pt x="13816" y="16694"/>
                </a:cubicBezTo>
                <a:cubicBezTo>
                  <a:pt x="13980" y="16475"/>
                  <a:pt x="14041" y="16347"/>
                  <a:pt x="13940" y="16098"/>
                </a:cubicBezTo>
                <a:cubicBezTo>
                  <a:pt x="13722" y="16082"/>
                  <a:pt x="13674" y="16070"/>
                  <a:pt x="13494" y="15949"/>
                </a:cubicBezTo>
              </a:path>
              <a:path w="3995" h="6152">
                <a:moveTo>
                  <a:pt x="12898" y="16123"/>
                </a:moveTo>
                <a:cubicBezTo>
                  <a:pt x="12867" y="16059"/>
                  <a:pt x="12850" y="16287"/>
                  <a:pt x="12849" y="16297"/>
                </a:cubicBezTo>
                <a:cubicBezTo>
                  <a:pt x="12849" y="16322"/>
                  <a:pt x="12849" y="16346"/>
                  <a:pt x="12849" y="16371"/>
                </a:cubicBezTo>
                <a:cubicBezTo>
                  <a:pt x="12974" y="16357"/>
                  <a:pt x="13102" y="16287"/>
                  <a:pt x="13171" y="16173"/>
                </a:cubicBezTo>
                <a:cubicBezTo>
                  <a:pt x="13171" y="16156"/>
                  <a:pt x="13171" y="16140"/>
                  <a:pt x="13171" y="16123"/>
                </a:cubicBezTo>
              </a:path>
              <a:path w="3995" h="6152">
                <a:moveTo>
                  <a:pt x="13072" y="16073"/>
                </a:moveTo>
                <a:cubicBezTo>
                  <a:pt x="13043" y="16284"/>
                  <a:pt x="13097" y="16487"/>
                  <a:pt x="13072" y="16694"/>
                </a:cubicBezTo>
                <a:cubicBezTo>
                  <a:pt x="13064" y="16710"/>
                  <a:pt x="13055" y="16727"/>
                  <a:pt x="13047" y="16743"/>
                </a:cubicBezTo>
              </a:path>
              <a:path w="3995" h="6152">
                <a:moveTo>
                  <a:pt x="12254" y="16495"/>
                </a:moveTo>
                <a:cubicBezTo>
                  <a:pt x="12411" y="16458"/>
                  <a:pt x="12603" y="16498"/>
                  <a:pt x="12551" y="16743"/>
                </a:cubicBezTo>
                <a:cubicBezTo>
                  <a:pt x="12518" y="16899"/>
                  <a:pt x="12420" y="16918"/>
                  <a:pt x="12303" y="16942"/>
                </a:cubicBezTo>
                <a:cubicBezTo>
                  <a:pt x="12303" y="16798"/>
                  <a:pt x="12384" y="16789"/>
                  <a:pt x="12526" y="16768"/>
                </a:cubicBezTo>
                <a:cubicBezTo>
                  <a:pt x="12584" y="16768"/>
                  <a:pt x="12609" y="16785"/>
                  <a:pt x="12601" y="16743"/>
                </a:cubicBezTo>
              </a:path>
              <a:path w="3995" h="6152">
                <a:moveTo>
                  <a:pt x="11385" y="16297"/>
                </a:moveTo>
                <a:cubicBezTo>
                  <a:pt x="11344" y="16311"/>
                  <a:pt x="11380" y="16576"/>
                  <a:pt x="11385" y="16619"/>
                </a:cubicBezTo>
                <a:cubicBezTo>
                  <a:pt x="11396" y="16712"/>
                  <a:pt x="11421" y="16814"/>
                  <a:pt x="11460" y="16892"/>
                </a:cubicBezTo>
                <a:cubicBezTo>
                  <a:pt x="11637" y="16836"/>
                  <a:pt x="11731" y="16785"/>
                  <a:pt x="11708" y="16570"/>
                </a:cubicBezTo>
                <a:cubicBezTo>
                  <a:pt x="11700" y="16553"/>
                  <a:pt x="11691" y="16537"/>
                  <a:pt x="11683" y="16520"/>
                </a:cubicBezTo>
                <a:cubicBezTo>
                  <a:pt x="11617" y="16651"/>
                  <a:pt x="11609" y="16744"/>
                  <a:pt x="11609" y="16892"/>
                </a:cubicBezTo>
              </a:path>
              <a:path w="3995" h="6152">
                <a:moveTo>
                  <a:pt x="10740" y="16718"/>
                </a:moveTo>
                <a:cubicBezTo>
                  <a:pt x="10755" y="16584"/>
                  <a:pt x="10797" y="16554"/>
                  <a:pt x="10914" y="16495"/>
                </a:cubicBezTo>
                <a:cubicBezTo>
                  <a:pt x="11004" y="16636"/>
                  <a:pt x="11011" y="16711"/>
                  <a:pt x="10939" y="16867"/>
                </a:cubicBezTo>
                <a:cubicBezTo>
                  <a:pt x="10971" y="16793"/>
                  <a:pt x="11121" y="16747"/>
                  <a:pt x="11137" y="16892"/>
                </a:cubicBezTo>
                <a:cubicBezTo>
                  <a:pt x="11161" y="17102"/>
                  <a:pt x="11009" y="17197"/>
                  <a:pt x="10840" y="17239"/>
                </a:cubicBezTo>
                <a:cubicBezTo>
                  <a:pt x="10800" y="17249"/>
                  <a:pt x="10799" y="17241"/>
                  <a:pt x="10790" y="17214"/>
                </a:cubicBezTo>
              </a:path>
              <a:path w="3995" h="6152">
                <a:moveTo>
                  <a:pt x="12923" y="16942"/>
                </a:moveTo>
                <a:cubicBezTo>
                  <a:pt x="12908" y="16937"/>
                  <a:pt x="12883" y="16879"/>
                  <a:pt x="12874" y="16892"/>
                </a:cubicBezTo>
                <a:cubicBezTo>
                  <a:pt x="12860" y="16912"/>
                  <a:pt x="12854" y="16964"/>
                  <a:pt x="12849" y="16991"/>
                </a:cubicBezTo>
                <a:cubicBezTo>
                  <a:pt x="12904" y="16977"/>
                  <a:pt x="12890" y="16976"/>
                  <a:pt x="12898" y="16917"/>
                </a:cubicBezTo>
                <a:cubicBezTo>
                  <a:pt x="12853" y="16917"/>
                  <a:pt x="12778" y="16985"/>
                  <a:pt x="12824" y="17016"/>
                </a:cubicBezTo>
                <a:cubicBezTo>
                  <a:pt x="12885" y="17057"/>
                  <a:pt x="12890" y="16983"/>
                  <a:pt x="12874" y="1696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38800" y="3357720"/>
            <a:ext cx="106200" cy="196560"/>
          </a:xfrm>
          <a:custGeom>
            <a:avLst/>
            <a:gdLst/>
            <a:ahLst/>
            <a:rect l="l" t="t" r="r" b="b"/>
            <a:pathLst>
              <a:path w="299" h="546">
                <a:moveTo>
                  <a:pt x="12378" y="9500"/>
                </a:moveTo>
                <a:cubicBezTo>
                  <a:pt x="12322" y="9537"/>
                  <a:pt x="12335" y="9438"/>
                  <a:pt x="12328" y="9376"/>
                </a:cubicBezTo>
                <a:cubicBezTo>
                  <a:pt x="12427" y="9343"/>
                  <a:pt x="12496" y="9327"/>
                  <a:pt x="12601" y="9327"/>
                </a:cubicBezTo>
                <a:cubicBezTo>
                  <a:pt x="12609" y="9327"/>
                  <a:pt x="12618" y="9327"/>
                  <a:pt x="12626" y="9327"/>
                </a:cubicBezTo>
                <a:cubicBezTo>
                  <a:pt x="12626" y="9500"/>
                  <a:pt x="12603" y="9657"/>
                  <a:pt x="12551" y="9823"/>
                </a:cubicBezTo>
                <a:cubicBezTo>
                  <a:pt x="12531" y="9863"/>
                  <a:pt x="12512" y="9879"/>
                  <a:pt x="12551" y="987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1040" y="3394080"/>
            <a:ext cx="233280" cy="266760"/>
          </a:xfrm>
          <a:custGeom>
            <a:avLst/>
            <a:gdLst/>
            <a:ahLst/>
            <a:rect l="l" t="t" r="r" b="b"/>
            <a:pathLst>
              <a:path w="646" h="745">
                <a:moveTo>
                  <a:pt x="11013" y="9550"/>
                </a:moveTo>
                <a:cubicBezTo>
                  <a:pt x="10971" y="9592"/>
                  <a:pt x="10985" y="9598"/>
                  <a:pt x="10939" y="9575"/>
                </a:cubicBezTo>
                <a:cubicBezTo>
                  <a:pt x="10975" y="9501"/>
                  <a:pt x="11132" y="9484"/>
                  <a:pt x="11212" y="9451"/>
                </a:cubicBezTo>
                <a:cubicBezTo>
                  <a:pt x="11228" y="9443"/>
                  <a:pt x="11245" y="9434"/>
                  <a:pt x="11261" y="9426"/>
                </a:cubicBezTo>
                <a:cubicBezTo>
                  <a:pt x="11241" y="9615"/>
                  <a:pt x="11175" y="9787"/>
                  <a:pt x="11137" y="9971"/>
                </a:cubicBezTo>
                <a:cubicBezTo>
                  <a:pt x="11137" y="9988"/>
                  <a:pt x="11137" y="10004"/>
                  <a:pt x="11137" y="10021"/>
                </a:cubicBezTo>
              </a:path>
              <a:path w="646" h="745">
                <a:moveTo>
                  <a:pt x="10616" y="9624"/>
                </a:moveTo>
                <a:cubicBezTo>
                  <a:pt x="10616" y="9516"/>
                  <a:pt x="10636" y="9789"/>
                  <a:pt x="10641" y="9897"/>
                </a:cubicBezTo>
                <a:cubicBezTo>
                  <a:pt x="10641" y="10046"/>
                  <a:pt x="10641" y="10079"/>
                  <a:pt x="10641" y="1017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54320" y="4143240"/>
            <a:ext cx="9720" cy="1620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11261" y="11509"/>
                </a:moveTo>
                <a:cubicBezTo>
                  <a:pt x="11275" y="11653"/>
                  <a:pt x="11286" y="11787"/>
                  <a:pt x="11286" y="11931"/>
                </a:cubicBezTo>
                <a:cubicBezTo>
                  <a:pt x="11286" y="11939"/>
                  <a:pt x="11286" y="11948"/>
                  <a:pt x="11286" y="1195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98920" y="3116160"/>
            <a:ext cx="1822320" cy="277920"/>
          </a:xfrm>
          <a:custGeom>
            <a:avLst/>
            <a:gdLst/>
            <a:ahLst/>
            <a:rect l="l" t="t" r="r" b="b"/>
            <a:pathLst>
              <a:path w="5061" h="770">
                <a:moveTo>
                  <a:pt x="9996" y="9426"/>
                </a:moveTo>
                <a:cubicBezTo>
                  <a:pt x="10303" y="9319"/>
                  <a:pt x="10592" y="9292"/>
                  <a:pt x="10914" y="9252"/>
                </a:cubicBezTo>
                <a:cubicBezTo>
                  <a:pt x="11387" y="9193"/>
                  <a:pt x="11861" y="9100"/>
                  <a:pt x="12328" y="9004"/>
                </a:cubicBezTo>
                <a:cubicBezTo>
                  <a:pt x="12675" y="8933"/>
                  <a:pt x="13022" y="8847"/>
                  <a:pt x="13370" y="8781"/>
                </a:cubicBezTo>
                <a:cubicBezTo>
                  <a:pt x="13608" y="8735"/>
                  <a:pt x="13850" y="8711"/>
                  <a:pt x="14089" y="8682"/>
                </a:cubicBezTo>
                <a:cubicBezTo>
                  <a:pt x="14273" y="8660"/>
                  <a:pt x="14449" y="8657"/>
                  <a:pt x="14635" y="8657"/>
                </a:cubicBezTo>
                <a:cubicBezTo>
                  <a:pt x="14753" y="8657"/>
                  <a:pt x="14872" y="8657"/>
                  <a:pt x="14982" y="8657"/>
                </a:cubicBezTo>
                <a:cubicBezTo>
                  <a:pt x="15018" y="8657"/>
                  <a:pt x="15020" y="8657"/>
                  <a:pt x="15056" y="865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79920" y="5537160"/>
            <a:ext cx="1598400" cy="365040"/>
          </a:xfrm>
          <a:custGeom>
            <a:avLst/>
            <a:gdLst/>
            <a:ahLst/>
            <a:rect l="l" t="t" r="r" b="b"/>
            <a:pathLst>
              <a:path w="4441" h="1018">
                <a:moveTo>
                  <a:pt x="10220" y="16396"/>
                </a:moveTo>
                <a:cubicBezTo>
                  <a:pt x="10537" y="16184"/>
                  <a:pt x="10832" y="16104"/>
                  <a:pt x="11212" y="16049"/>
                </a:cubicBezTo>
                <a:cubicBezTo>
                  <a:pt x="11799" y="15965"/>
                  <a:pt x="12393" y="15935"/>
                  <a:pt x="12973" y="15801"/>
                </a:cubicBezTo>
                <a:cubicBezTo>
                  <a:pt x="13510" y="15677"/>
                  <a:pt x="14050" y="15534"/>
                  <a:pt x="14585" y="15404"/>
                </a:cubicBezTo>
                <a:cubicBezTo>
                  <a:pt x="14630" y="15404"/>
                  <a:pt x="14643" y="15407"/>
                  <a:pt x="14660" y="1537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 Students will multiplying decimal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49 x .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 x 2.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5-1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d Numbered Problem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23:18:50Z</dcterms:created>
  <dc:creator>Brian McGrath</dc:creator>
  <dc:description/>
  <dc:language>en-US</dc:language>
  <cp:lastModifiedBy>demcgra</cp:lastModifiedBy>
  <dcterms:modified xsi:type="dcterms:W3CDTF">2012-04-23T15:29:03Z</dcterms:modified>
  <cp:revision>3</cp:revision>
  <dc:subject/>
  <dc:title>Monday, April 23, 2012</dc:title>
</cp:coreProperties>
</file>